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jpeg" ContentType="image/jpeg"/>
  <Override PartName="/ppt/media/image3.wmf" ContentType="image/x-wmf"/>
  <Override PartName="/ppt/media/image27.jpeg" ContentType="image/jpeg"/>
  <Override PartName="/ppt/media/image10.png" ContentType="image/png"/>
  <Override PartName="/ppt/media/image30.wmf" ContentType="image/x-wmf"/>
  <Override PartName="/ppt/media/image4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32.jpeg" ContentType="image/jpeg"/>
  <Override PartName="/ppt/media/image26.wmf" ContentType="image/x-wmf"/>
  <Override PartName="/ppt/media/image2.wmf" ContentType="image/x-wmf"/>
  <Override PartName="/ppt/media/image15.jpeg" ContentType="image/jpeg"/>
  <Override PartName="/ppt/media/image25.wmf" ContentType="image/x-wmf"/>
  <Override PartName="/ppt/media/image1.wmf" ContentType="image/x-wmf"/>
  <Override PartName="/ppt/media/image24.wmf" ContentType="image/x-wmf"/>
  <Override PartName="/ppt/media/image14.png" ContentType="image/png"/>
  <Override PartName="/ppt/media/image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23.wmf" ContentType="image/x-wmf"/>
  <Override PartName="/ppt/media/image28.jpeg" ContentType="image/jpeg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46AAC-83F4-4048-B2EE-D33D31CD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8828A-AB73-4B25-B92F-E7D47FE4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AD197-DE84-4F22-90E4-A1AC149E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8B512-56CA-4B1F-983F-BC17D156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39DC-A87C-4BA2-B106-2C1F78A0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AAA3-DFA4-4FBA-8C55-1A5E040F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8B15-863D-4BA2-894C-22AB619C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7C20-735C-4A83-AF75-7BB2EE99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D2E0-AA17-4127-9179-CB33F177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F33C-5FFD-4AE3-B605-CF692EC3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A847-9792-431B-A937-809A177F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8FDEB-974E-444E-B876-1476B89F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C003-244A-4F27-B001-08AD2F1E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A4BB-F020-47CA-8E79-A709C7B1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6A2F-7946-43EE-9036-4973BAF9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8C76-C911-4FD7-96E9-6F7C9103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43C1-5ECD-4396-92A5-CD1A9E70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28E7F-405C-44AE-B715-7809DF59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9CB1B-8820-4B30-BBDC-9F9FEF4E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93838-4462-477E-9254-05B2547C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8E03-C886-44D5-A1F7-C6BEFC63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BCACE-C107-4CC8-9343-10209BFD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7C503-670E-404B-8E17-C4A9AB0A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786B-58EB-4E5D-8A62-EDDAC8BC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02E0-5AE0-46D6-B26E-53FC731BCC5A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E0A5-5D39-4C44-9C5D-13424287595D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055D-66C9-4544-870C-8959F6D0D98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65000" y="1866960"/>
            <a:ext cx="7443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ffffff"/>
                </a:solidFill>
                <a:latin typeface="Arial"/>
              </a:rPr>
              <a:t>第六章</a:t>
            </a:r>
            <a:br>
              <a:rPr sz="4300"/>
            </a:br>
            <a:r>
              <a:rPr b="1" lang="zh-TW" sz="4300" spc="-1" strike="noStrike">
                <a:solidFill>
                  <a:srgbClr val="ffffff"/>
                </a:solidFill>
                <a:latin typeface="Arial"/>
              </a:rPr>
              <a:t>圓與橢圓偵測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FD68-A86B-4823-BE2F-A230844C1E7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6.2.3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決定真正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群組 19"/>
          <p:cNvGrpSpPr/>
          <p:nvPr/>
        </p:nvGrpSpPr>
        <p:grpSpPr>
          <a:xfrm>
            <a:off x="457200" y="1600200"/>
            <a:ext cx="8236080" cy="3588120"/>
            <a:chOff x="457200" y="1600200"/>
            <a:chExt cx="8236080" cy="3588120"/>
          </a:xfrm>
        </p:grpSpPr>
        <p:sp>
          <p:nvSpPr>
            <p:cNvPr id="231" name="Text Box 8"/>
            <p:cNvSpPr/>
            <p:nvPr/>
          </p:nvSpPr>
          <p:spPr>
            <a:xfrm>
              <a:off x="539280" y="1916640"/>
              <a:ext cx="8154000" cy="18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接下來我們加上一個門檻值     來檢查這個候選圓是否為真正圓。令計數器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的起始值為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。我們從邊點集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中挑選任何一邊點     ，然後檢測距離          是否小於門檻值     。若是，則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加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。然後，我們從剩餘的邊點集中再挑一邊點，繼續上述的步驟一直到所有的邊點被處理完。若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 &gt;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，則候選圓即為真正圓。否則，該候選圓為一假圓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補充談一下如何制定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的門檻值。          需大於一個門檻值     ，例如      </a:t>
              </a:r>
              <a:r>
                <a:rPr b="0" i="1" lang="zh-TW" sz="2200" spc="-1" strike="noStrike" baseline="-30000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表示數位圓上的邊點需佔圓周的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80%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9"/>
            <p:cNvSpPr/>
            <p:nvPr/>
          </p:nvSpPr>
          <p:spPr>
            <a:xfrm>
              <a:off x="457200" y="1600200"/>
              <a:ext cx="81540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j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和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決定了一個候選圓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Object 4"/>
                <p:cNvSpPr txBox="1"/>
                <p:nvPr/>
              </p:nvSpPr>
              <p:spPr>
                <a:xfrm>
                  <a:off x="7928280" y="2305440"/>
                  <a:ext cx="26352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4" name="Object 5"/>
                <p:cNvSpPr txBox="1"/>
                <p:nvPr/>
              </p:nvSpPr>
              <p:spPr>
                <a:xfrm>
                  <a:off x="4941720" y="2661480"/>
                  <a:ext cx="31428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Object 6"/>
                <p:cNvSpPr txBox="1"/>
                <p:nvPr/>
              </p:nvSpPr>
              <p:spPr>
                <a:xfrm>
                  <a:off x="3924000" y="2017440"/>
                  <a:ext cx="31428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Object 7"/>
                <p:cNvSpPr txBox="1"/>
                <p:nvPr/>
              </p:nvSpPr>
              <p:spPr>
                <a:xfrm>
                  <a:off x="2277360" y="2646720"/>
                  <a:ext cx="60948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l</m:t>
                          </m:r>
                          <m:r>
                            <m:t xml:space="preserve">→</m:t>
                          </m:r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7" name="Object 8"/>
                <p:cNvSpPr txBox="1"/>
                <p:nvPr/>
              </p:nvSpPr>
              <p:spPr>
                <a:xfrm>
                  <a:off x="3636000" y="3323520"/>
                  <a:ext cx="31428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8" name="Object 11"/>
                <p:cNvSpPr txBox="1"/>
                <p:nvPr/>
              </p:nvSpPr>
              <p:spPr>
                <a:xfrm>
                  <a:off x="4625280" y="4072680"/>
                  <a:ext cx="658800" cy="72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π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k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9" name="Object 12"/>
                <p:cNvSpPr txBox="1"/>
                <p:nvPr/>
              </p:nvSpPr>
              <p:spPr>
                <a:xfrm>
                  <a:off x="7596720" y="4296960"/>
                  <a:ext cx="28872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" name="Object 13"/>
                <p:cNvSpPr txBox="1"/>
                <p:nvPr/>
              </p:nvSpPr>
              <p:spPr>
                <a:xfrm>
                  <a:off x="899280" y="4797720"/>
                  <a:ext cx="88884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投影片編號版面配置區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2EFE-CEC2-4EF7-ABB1-B256700170CF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6.2.4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演算流程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93"/>
          <p:cNvGraphicFramePr/>
          <p:nvPr/>
        </p:nvGraphicFramePr>
        <p:xfrm>
          <a:off x="5508720" y="476280"/>
          <a:ext cx="2778120" cy="61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9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476280"/>
                    <a:ext cx="277812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Text Box 9"/>
          <p:cNvSpPr/>
          <p:nvPr/>
        </p:nvSpPr>
        <p:spPr>
          <a:xfrm>
            <a:off x="3924360" y="6021360"/>
            <a:ext cx="21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2.4.1 </a:t>
            </a:r>
            <a:br>
              <a:rPr sz="16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演算流程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群組 14"/>
          <p:cNvGrpSpPr/>
          <p:nvPr/>
        </p:nvGrpSpPr>
        <p:grpSpPr>
          <a:xfrm>
            <a:off x="395280" y="1484280"/>
            <a:ext cx="4104360" cy="5104800"/>
            <a:chOff x="395280" y="1484280"/>
            <a:chExt cx="4104360" cy="5104800"/>
          </a:xfrm>
        </p:grpSpPr>
        <p:pic>
          <p:nvPicPr>
            <p:cNvPr id="247" name="Picture 80" descr="Fig4_8Coin"/>
            <p:cNvPicPr/>
            <p:nvPr/>
          </p:nvPicPr>
          <p:blipFill>
            <a:blip r:embed="rId3"/>
            <a:stretch/>
          </p:blipFill>
          <p:spPr>
            <a:xfrm>
              <a:off x="395280" y="1484280"/>
              <a:ext cx="1863720" cy="18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82" descr="Fig4_8Cake"/>
            <p:cNvPicPr/>
            <p:nvPr/>
          </p:nvPicPr>
          <p:blipFill>
            <a:blip r:embed="rId4"/>
            <a:stretch/>
          </p:blipFill>
          <p:spPr>
            <a:xfrm>
              <a:off x="2627280" y="1484280"/>
              <a:ext cx="1866960" cy="18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84" descr="Fig4_8Pen"/>
            <p:cNvPicPr/>
            <p:nvPr/>
          </p:nvPicPr>
          <p:blipFill>
            <a:blip r:embed="rId5"/>
            <a:stretch/>
          </p:blipFill>
          <p:spPr>
            <a:xfrm>
              <a:off x="395280" y="4005720"/>
              <a:ext cx="1866960" cy="18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86" descr="Fig4_8Culvert"/>
            <p:cNvPicPr/>
            <p:nvPr/>
          </p:nvPicPr>
          <p:blipFill>
            <a:blip r:embed="rId6"/>
            <a:stretch/>
          </p:blipFill>
          <p:spPr>
            <a:xfrm>
              <a:off x="2627280" y="4005720"/>
              <a:ext cx="187164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Rectangle 88"/>
            <p:cNvSpPr/>
            <p:nvPr/>
          </p:nvSpPr>
          <p:spPr>
            <a:xfrm>
              <a:off x="736560" y="3357000"/>
              <a:ext cx="106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新細明體"/>
                </a:rPr>
                <a:t>(a) </a:t>
              </a: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</a:rPr>
                <a:t>錢幣影像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89"/>
            <p:cNvSpPr/>
            <p:nvPr/>
          </p:nvSpPr>
          <p:spPr>
            <a:xfrm>
              <a:off x="2813400" y="3357000"/>
              <a:ext cx="168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新細明體"/>
                </a:rPr>
                <a:t>(b) </a:t>
              </a: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</a:rPr>
                <a:t>餅乾和巧克力棒影像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90"/>
            <p:cNvSpPr/>
            <p:nvPr/>
          </p:nvSpPr>
          <p:spPr>
            <a:xfrm>
              <a:off x="744840" y="5877000"/>
              <a:ext cx="104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新細明體"/>
                </a:rPr>
                <a:t>(c) </a:t>
              </a: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</a:rPr>
                <a:t>文具影像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91"/>
            <p:cNvSpPr/>
            <p:nvPr/>
          </p:nvSpPr>
          <p:spPr>
            <a:xfrm>
              <a:off x="2969280" y="58770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新細明體"/>
                </a:rPr>
                <a:t>(d) </a:t>
              </a: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</a:rPr>
                <a:t>渠洞影像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92"/>
            <p:cNvSpPr/>
            <p:nvPr/>
          </p:nvSpPr>
          <p:spPr>
            <a:xfrm>
              <a:off x="1475640" y="6251760"/>
              <a:ext cx="189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.2.4.2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　四張待測影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EE4B-8A8D-49FF-BEB1-ECFA50A1D89F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群組 11"/>
          <p:cNvGrpSpPr/>
          <p:nvPr/>
        </p:nvGrpSpPr>
        <p:grpSpPr>
          <a:xfrm>
            <a:off x="2050920" y="836640"/>
            <a:ext cx="5258160" cy="5839560"/>
            <a:chOff x="2050920" y="836640"/>
            <a:chExt cx="5258160" cy="5839560"/>
          </a:xfrm>
        </p:grpSpPr>
        <p:pic>
          <p:nvPicPr>
            <p:cNvPr id="258" name="Picture 1038" descr="Fig1a"/>
            <p:cNvPicPr/>
            <p:nvPr/>
          </p:nvPicPr>
          <p:blipFill>
            <a:blip r:embed="rId1"/>
            <a:stretch/>
          </p:blipFill>
          <p:spPr>
            <a:xfrm>
              <a:off x="2050920" y="836640"/>
              <a:ext cx="2148840" cy="21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039" descr="Fig3a"/>
            <p:cNvPicPr/>
            <p:nvPr/>
          </p:nvPicPr>
          <p:blipFill>
            <a:blip r:embed="rId2"/>
            <a:stretch/>
          </p:blipFill>
          <p:spPr>
            <a:xfrm>
              <a:off x="5076720" y="838080"/>
              <a:ext cx="216036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1040" descr="Fig2a"/>
            <p:cNvPicPr/>
            <p:nvPr/>
          </p:nvPicPr>
          <p:blipFill>
            <a:blip r:embed="rId3"/>
            <a:stretch/>
          </p:blipFill>
          <p:spPr>
            <a:xfrm>
              <a:off x="2050920" y="3680280"/>
              <a:ext cx="215892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1041" descr="Fig4a"/>
            <p:cNvPicPr/>
            <p:nvPr/>
          </p:nvPicPr>
          <p:blipFill>
            <a:blip r:embed="rId4"/>
            <a:stretch/>
          </p:blipFill>
          <p:spPr>
            <a:xfrm>
              <a:off x="5076720" y="3679920"/>
              <a:ext cx="2160000" cy="21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1042"/>
            <p:cNvSpPr/>
            <p:nvPr/>
          </p:nvSpPr>
          <p:spPr>
            <a:xfrm>
              <a:off x="2268000" y="2996280"/>
              <a:ext cx="155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新細明體"/>
                </a:rPr>
                <a:t>(a) </a:t>
              </a: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</a:rPr>
                <a:t>錢幣影像的邊點圖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043"/>
            <p:cNvSpPr/>
            <p:nvPr/>
          </p:nvSpPr>
          <p:spPr>
            <a:xfrm>
              <a:off x="5135040" y="2996280"/>
              <a:ext cx="217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新細明體"/>
                </a:rPr>
                <a:t>(b) </a:t>
              </a: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</a:rPr>
                <a:t>餅乾和巧克力棒影像的邊點圖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1044"/>
            <p:cNvSpPr/>
            <p:nvPr/>
          </p:nvSpPr>
          <p:spPr>
            <a:xfrm>
              <a:off x="2276280" y="5840280"/>
              <a:ext cx="15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新細明體"/>
                </a:rPr>
                <a:t>(c) </a:t>
              </a: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</a:rPr>
                <a:t>文具影像的邊點圖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045"/>
            <p:cNvSpPr/>
            <p:nvPr/>
          </p:nvSpPr>
          <p:spPr>
            <a:xfrm>
              <a:off x="5365080" y="5840280"/>
              <a:ext cx="156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新細明體"/>
                </a:rPr>
                <a:t>(d) </a:t>
              </a: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</a:rPr>
                <a:t>渠洞影像的邊點圖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1046"/>
            <p:cNvSpPr/>
            <p:nvPr/>
          </p:nvSpPr>
          <p:spPr>
            <a:xfrm>
              <a:off x="3435120" y="6307920"/>
              <a:ext cx="248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.2.4.3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　圖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.2.4.2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的邊點圖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8B24-6BDB-46FA-A09D-4C5112685250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群組 19"/>
          <p:cNvGrpSpPr/>
          <p:nvPr/>
        </p:nvGrpSpPr>
        <p:grpSpPr>
          <a:xfrm>
            <a:off x="1747800" y="836640"/>
            <a:ext cx="5648400" cy="5839560"/>
            <a:chOff x="1747800" y="836640"/>
            <a:chExt cx="5648400" cy="5839560"/>
          </a:xfrm>
        </p:grpSpPr>
        <p:pic>
          <p:nvPicPr>
            <p:cNvPr id="269" name="Picture 37" descr="Fig10Coin"/>
            <p:cNvPicPr/>
            <p:nvPr/>
          </p:nvPicPr>
          <p:blipFill>
            <a:blip r:embed="rId1"/>
            <a:stretch/>
          </p:blipFill>
          <p:spPr>
            <a:xfrm>
              <a:off x="1747800" y="836640"/>
              <a:ext cx="23040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36" descr="Fig10Cake"/>
            <p:cNvPicPr/>
            <p:nvPr/>
          </p:nvPicPr>
          <p:blipFill>
            <a:blip r:embed="rId2"/>
            <a:stretch/>
          </p:blipFill>
          <p:spPr>
            <a:xfrm>
              <a:off x="5061960" y="836640"/>
              <a:ext cx="2334240" cy="23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35" descr="Fig10Pen"/>
            <p:cNvPicPr/>
            <p:nvPr/>
          </p:nvPicPr>
          <p:blipFill>
            <a:blip r:embed="rId3"/>
            <a:stretch/>
          </p:blipFill>
          <p:spPr>
            <a:xfrm>
              <a:off x="1747800" y="3645000"/>
              <a:ext cx="2324880" cy="23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34" descr="Fig10Culvert"/>
            <p:cNvPicPr/>
            <p:nvPr/>
          </p:nvPicPr>
          <p:blipFill>
            <a:blip r:embed="rId4"/>
            <a:stretch/>
          </p:blipFill>
          <p:spPr>
            <a:xfrm>
              <a:off x="5061960" y="3645000"/>
              <a:ext cx="2334240" cy="23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Rectangle 61"/>
            <p:cNvSpPr/>
            <p:nvPr/>
          </p:nvSpPr>
          <p:spPr>
            <a:xfrm>
              <a:off x="2211480" y="3104640"/>
              <a:ext cx="143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新細明體"/>
                </a:rPr>
                <a:t>(a) </a:t>
              </a: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</a:rPr>
                <a:t>測得的圓形錢幣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62"/>
            <p:cNvSpPr/>
            <p:nvPr/>
          </p:nvSpPr>
          <p:spPr>
            <a:xfrm>
              <a:off x="5526000" y="3104640"/>
              <a:ext cx="144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新細明體"/>
                </a:rPr>
                <a:t>(b) </a:t>
              </a: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</a:rPr>
                <a:t>測得的圓形餅乾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63"/>
            <p:cNvSpPr/>
            <p:nvPr/>
          </p:nvSpPr>
          <p:spPr>
            <a:xfrm>
              <a:off x="2219760" y="594936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新細明體"/>
                </a:rPr>
                <a:t>(c) </a:t>
              </a: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</a:rPr>
                <a:t>測得的圓形文具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64"/>
            <p:cNvSpPr/>
            <p:nvPr/>
          </p:nvSpPr>
          <p:spPr>
            <a:xfrm>
              <a:off x="5597280" y="5949360"/>
              <a:ext cx="144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新細明體"/>
                </a:rPr>
                <a:t>(d) </a:t>
              </a: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</a:rPr>
                <a:t>測得的圓形渠洞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65"/>
            <p:cNvSpPr/>
            <p:nvPr/>
          </p:nvSpPr>
          <p:spPr>
            <a:xfrm>
              <a:off x="3795840" y="6307920"/>
              <a:ext cx="195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.2.4.4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　測得的各種圓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投影片編號版面配置區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05C2-CA47-4A42-A89F-33DA4A0E0036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4" descr="Fig12PdfP5"/>
          <p:cNvPicPr/>
          <p:nvPr/>
        </p:nvPicPr>
        <p:blipFill>
          <a:blip r:embed="rId1"/>
          <a:stretch/>
        </p:blipFill>
        <p:spPr>
          <a:xfrm>
            <a:off x="395280" y="404640"/>
            <a:ext cx="3887640" cy="2525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Fig12PdfP25"/>
          <p:cNvPicPr/>
          <p:nvPr/>
        </p:nvPicPr>
        <p:blipFill>
          <a:blip r:embed="rId2"/>
          <a:stretch/>
        </p:blipFill>
        <p:spPr>
          <a:xfrm>
            <a:off x="4859280" y="404640"/>
            <a:ext cx="3995640" cy="25894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Fig13CdfP5"/>
          <p:cNvPicPr/>
          <p:nvPr/>
        </p:nvPicPr>
        <p:blipFill>
          <a:blip r:embed="rId3"/>
          <a:stretch/>
        </p:blipFill>
        <p:spPr>
          <a:xfrm>
            <a:off x="395280" y="3573360"/>
            <a:ext cx="3960720" cy="256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2" name="Object 12"/>
          <p:cNvGraphicFramePr/>
          <p:nvPr/>
        </p:nvGraphicFramePr>
        <p:xfrm>
          <a:off x="4932360" y="3573360"/>
          <a:ext cx="3960720" cy="256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3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32360" y="3573360"/>
                    <a:ext cx="396072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19"/>
          <p:cNvSpPr/>
          <p:nvPr/>
        </p:nvSpPr>
        <p:spPr>
          <a:xfrm>
            <a:off x="2000520" y="292392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新細明體"/>
              </a:rPr>
              <a:t>(a) </a:t>
            </a:r>
            <a:r>
              <a:rPr b="0" i="1" lang="en-US" sz="1600" spc="-1" strike="noStrike">
                <a:solidFill>
                  <a:srgbClr val="000000"/>
                </a:solidFill>
                <a:latin typeface="新細明體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新細明體"/>
              </a:rPr>
              <a:t>=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21"/>
          <p:cNvSpPr/>
          <p:nvPr/>
        </p:nvSpPr>
        <p:spPr>
          <a:xfrm>
            <a:off x="6383160" y="292428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新細明體"/>
              </a:rPr>
              <a:t>(b) </a:t>
            </a:r>
            <a:r>
              <a:rPr b="0" i="1" lang="en-US" sz="1600" spc="-1" strike="noStrike">
                <a:solidFill>
                  <a:srgbClr val="000000"/>
                </a:solidFill>
                <a:latin typeface="新細明體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新細明體"/>
              </a:rPr>
              <a:t>=0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22"/>
          <p:cNvSpPr/>
          <p:nvPr/>
        </p:nvSpPr>
        <p:spPr>
          <a:xfrm>
            <a:off x="1929240" y="604692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新細明體"/>
              </a:rPr>
              <a:t>(a) </a:t>
            </a:r>
            <a:r>
              <a:rPr b="0" i="1" lang="en-US" sz="1600" spc="-1" strike="noStrike">
                <a:solidFill>
                  <a:srgbClr val="000000"/>
                </a:solidFill>
                <a:latin typeface="新細明體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新細明體"/>
              </a:rPr>
              <a:t>=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23"/>
          <p:cNvSpPr/>
          <p:nvPr/>
        </p:nvSpPr>
        <p:spPr>
          <a:xfrm>
            <a:off x="6456240" y="602136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新細明體"/>
              </a:rPr>
              <a:t>(b) </a:t>
            </a:r>
            <a:r>
              <a:rPr b="0" i="1" lang="en-US" sz="1600" spc="-1" strike="noStrike">
                <a:solidFill>
                  <a:srgbClr val="000000"/>
                </a:solidFill>
                <a:latin typeface="新細明體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新細明體"/>
              </a:rPr>
              <a:t>=0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5"/>
          <p:cNvSpPr/>
          <p:nvPr/>
        </p:nvSpPr>
        <p:spPr>
          <a:xfrm>
            <a:off x="2701080" y="3212640"/>
            <a:ext cx="183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新細明體"/>
              </a:rPr>
              <a:t>圖</a:t>
            </a:r>
            <a:r>
              <a:rPr b="0" lang="en-US" sz="1600" spc="-1" strike="noStrike">
                <a:solidFill>
                  <a:srgbClr val="000000"/>
                </a:solidFill>
                <a:latin typeface="新細明體"/>
              </a:rPr>
              <a:t>6.2.5.1</a:t>
            </a:r>
            <a:r>
              <a:rPr b="0" lang="zh-TW" sz="1600" spc="-1" strike="noStrike">
                <a:solidFill>
                  <a:srgbClr val="000000"/>
                </a:solidFill>
                <a:latin typeface="新細明體"/>
              </a:rPr>
              <a:t>　對兩個不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6"/>
          <p:cNvSpPr/>
          <p:nvPr/>
        </p:nvSpPr>
        <p:spPr>
          <a:xfrm>
            <a:off x="4651560" y="3191040"/>
            <a:ext cx="245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新細明體"/>
              </a:rPr>
              <a:t>p</a:t>
            </a:r>
            <a:r>
              <a:rPr b="0" lang="zh-TW" sz="1600" spc="-1" strike="noStrike">
                <a:solidFill>
                  <a:srgbClr val="000000"/>
                </a:solidFill>
                <a:latin typeface="新細明體"/>
              </a:rPr>
              <a:t>值，</a:t>
            </a:r>
            <a:r>
              <a:rPr b="0" i="1" lang="en-US" sz="1600" spc="-1" strike="noStrike">
                <a:solidFill>
                  <a:srgbClr val="000000"/>
                </a:solidFill>
                <a:latin typeface="新細明體"/>
              </a:rPr>
              <a:t>f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新細明體"/>
              </a:rPr>
              <a:t>RCD</a:t>
            </a:r>
            <a:r>
              <a:rPr b="0" lang="en-US" sz="16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新細明體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新細明體"/>
              </a:rPr>
              <a:t>) </a:t>
            </a:r>
            <a:r>
              <a:rPr b="0" lang="zh-TW" sz="1600" spc="-1" strike="noStrike">
                <a:solidFill>
                  <a:srgbClr val="000000"/>
                </a:solidFill>
                <a:latin typeface="新細明體"/>
              </a:rPr>
              <a:t>和 </a:t>
            </a:r>
            <a:r>
              <a:rPr b="0" i="1" lang="en-US" sz="1600" spc="-1" strike="noStrike">
                <a:solidFill>
                  <a:srgbClr val="000000"/>
                </a:solidFill>
                <a:latin typeface="新細明體"/>
              </a:rPr>
              <a:t>f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新細明體"/>
              </a:rPr>
              <a:t>RHT</a:t>
            </a:r>
            <a:r>
              <a:rPr b="0" lang="en-US" sz="16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新細明體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新細明體"/>
              </a:rPr>
              <a:t>) </a:t>
            </a:r>
            <a:r>
              <a:rPr b="0" lang="zh-TW" sz="1600" spc="-1" strike="noStrike">
                <a:solidFill>
                  <a:srgbClr val="000000"/>
                </a:solidFill>
                <a:latin typeface="新細明體"/>
              </a:rPr>
              <a:t>的比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8"/>
          <p:cNvSpPr/>
          <p:nvPr/>
        </p:nvSpPr>
        <p:spPr>
          <a:xfrm>
            <a:off x="2571840" y="6381720"/>
            <a:ext cx="4271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.2.5.2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　對兩個不同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值，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RC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Times New Roman"/>
              </a:rPr>
              <a:t>R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的比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A916-60D1-495C-98D1-4408D5F0CD71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3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隨機式橢圓測法</a:t>
            </a:r>
            <a:br>
              <a:rPr sz="44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3.1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橢心的決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群組 18"/>
          <p:cNvGrpSpPr/>
          <p:nvPr/>
        </p:nvGrpSpPr>
        <p:grpSpPr>
          <a:xfrm>
            <a:off x="457200" y="2011320"/>
            <a:ext cx="8686800" cy="4657680"/>
            <a:chOff x="457200" y="2011320"/>
            <a:chExt cx="8686800" cy="4657680"/>
          </a:xfrm>
        </p:grpSpPr>
        <p:sp>
          <p:nvSpPr>
            <p:cNvPr id="294" name="Text Box 13"/>
            <p:cNvSpPr/>
            <p:nvPr/>
          </p:nvSpPr>
          <p:spPr>
            <a:xfrm>
              <a:off x="457200" y="3398760"/>
              <a:ext cx="8153640" cy="12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、         和                 。令橢圓的旋轉角度為    且兩個軸的長度分別為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則式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6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3.1.1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中的五個變數                    可轉換為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且滿足下列三式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5"/>
            <p:cNvSpPr/>
            <p:nvPr/>
          </p:nvSpPr>
          <p:spPr>
            <a:xfrm>
              <a:off x="457200" y="2011320"/>
              <a:ext cx="6172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一個橢圓可以下式表示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Object 6"/>
                <p:cNvSpPr txBox="1"/>
                <p:nvPr/>
              </p:nvSpPr>
              <p:spPr>
                <a:xfrm>
                  <a:off x="2133360" y="2593800"/>
                  <a:ext cx="441972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Text Box 7"/>
            <p:cNvSpPr/>
            <p:nvPr/>
          </p:nvSpPr>
          <p:spPr>
            <a:xfrm>
              <a:off x="7380360" y="2544480"/>
              <a:ext cx="122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6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3.1.1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8"/>
            <p:cNvSpPr/>
            <p:nvPr/>
          </p:nvSpPr>
          <p:spPr>
            <a:xfrm>
              <a:off x="457200" y="3017520"/>
              <a:ext cx="8686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式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6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3.1.1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中，           代表橢心，而另外三個變數為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和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且滿足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9"/>
                <p:cNvSpPr txBox="1"/>
                <p:nvPr/>
              </p:nvSpPr>
              <p:spPr>
                <a:xfrm>
                  <a:off x="2324160" y="3068640"/>
                  <a:ext cx="734760" cy="3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0" name="Object 10"/>
                <p:cNvSpPr txBox="1"/>
                <p:nvPr/>
              </p:nvSpPr>
              <p:spPr>
                <a:xfrm>
                  <a:off x="1371600" y="3475080"/>
                  <a:ext cx="566640" cy="30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1" name="Object 11"/>
                <p:cNvSpPr txBox="1"/>
                <p:nvPr/>
              </p:nvSpPr>
              <p:spPr>
                <a:xfrm>
                  <a:off x="5430960" y="3809880"/>
                  <a:ext cx="1373040" cy="3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d</m:t>
                      </m:r>
                      <m:r>
                        <m:t xml:space="preserve">,</m:t>
                      </m:r>
                      <m:r>
                        <m:t xml:space="preserve">e</m:t>
                      </m:r>
                      <m:r>
                        <m:t xml:space="preserve">,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2" name="Object 12"/>
                <p:cNvSpPr txBox="1"/>
                <p:nvPr/>
              </p:nvSpPr>
              <p:spPr>
                <a:xfrm>
                  <a:off x="601560" y="4282920"/>
                  <a:ext cx="1424880" cy="36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3" name="Object 14"/>
                <p:cNvSpPr txBox="1"/>
                <p:nvPr/>
              </p:nvSpPr>
              <p:spPr>
                <a:xfrm>
                  <a:off x="2352600" y="3440160"/>
                  <a:ext cx="1152360" cy="3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df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4" name="Object 15"/>
                <p:cNvSpPr txBox="1"/>
                <p:nvPr/>
              </p:nvSpPr>
              <p:spPr>
                <a:xfrm>
                  <a:off x="610920" y="3475080"/>
                  <a:ext cx="547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5" name="Object 16"/>
                <p:cNvSpPr txBox="1"/>
                <p:nvPr/>
              </p:nvSpPr>
              <p:spPr>
                <a:xfrm>
                  <a:off x="6290640" y="3465360"/>
                  <a:ext cx="22212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306" name="Object 17"/>
            <p:cNvGraphicFramePr/>
            <p:nvPr/>
          </p:nvGraphicFramePr>
          <p:xfrm>
            <a:off x="1100160" y="4802040"/>
            <a:ext cx="1466640" cy="88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7" name="Object 1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00160" y="4802040"/>
                      <a:ext cx="1466640" cy="88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08" name="Object 18"/>
                <p:cNvSpPr txBox="1"/>
                <p:nvPr/>
              </p:nvSpPr>
              <p:spPr>
                <a:xfrm>
                  <a:off x="2916000" y="5013360"/>
                  <a:ext cx="3584520" cy="72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d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r>
                                <m:t xml:space="preserve">e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r>
                                <m:t xml:space="preserve">f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θ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Object 19"/>
                <p:cNvSpPr txBox="1"/>
                <p:nvPr/>
              </p:nvSpPr>
              <p:spPr>
                <a:xfrm>
                  <a:off x="2987640" y="5943600"/>
                  <a:ext cx="3581280" cy="72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f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θ</m:t>
                              </m:r>
                              <m:r>
                                <m:t xml:space="preserve">−</m:t>
                              </m:r>
                              <m:r>
                                <m:t xml:space="preserve">e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r>
                                <m:t xml:space="preserve">d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θ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B19D-064E-4C3A-8A4C-44176E80FF7A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群組 29"/>
          <p:cNvGrpSpPr/>
          <p:nvPr/>
        </p:nvGrpSpPr>
        <p:grpSpPr>
          <a:xfrm>
            <a:off x="457200" y="533520"/>
            <a:ext cx="8229600" cy="6280920"/>
            <a:chOff x="457200" y="533520"/>
            <a:chExt cx="8229600" cy="6280920"/>
          </a:xfrm>
        </p:grpSpPr>
        <p:grpSp>
          <p:nvGrpSpPr>
            <p:cNvPr id="312" name="群組 27"/>
            <p:cNvGrpSpPr/>
            <p:nvPr/>
          </p:nvGrpSpPr>
          <p:grpSpPr>
            <a:xfrm>
              <a:off x="457200" y="533520"/>
              <a:ext cx="8229600" cy="1785960"/>
              <a:chOff x="457200" y="533520"/>
              <a:chExt cx="8229600" cy="1785960"/>
            </a:xfrm>
          </p:grpSpPr>
          <p:sp>
            <p:nvSpPr>
              <p:cNvPr id="313" name="Text Box 30"/>
              <p:cNvSpPr/>
              <p:nvPr/>
            </p:nvSpPr>
            <p:spPr>
              <a:xfrm>
                <a:off x="457200" y="1219320"/>
                <a:ext cx="82296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和    且假設    的切線斜率和    的切線斜率不為平行。如此一來，通過     和     的二條切線會交於一點，且令所交的點為                 。另外我們令                      為線段        的中點，則可得下列解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Text Box 2"/>
              <p:cNvSpPr/>
              <p:nvPr/>
            </p:nvSpPr>
            <p:spPr>
              <a:xfrm>
                <a:off x="457200" y="533520"/>
                <a:ext cx="8153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令                                為一個橢圓上的四個邊點。在邊點    上的斜率設為    。在這四個邊點中挑選任意二個邊點，令這二個邊點為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5" name="Object 2"/>
                  <p:cNvSpPr txBox="1"/>
                  <p:nvPr/>
                </p:nvSpPr>
                <p:spPr>
                  <a:xfrm>
                    <a:off x="838080" y="609480"/>
                    <a:ext cx="220968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,3,4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6" name="Object 3"/>
                  <p:cNvSpPr txBox="1"/>
                  <p:nvPr/>
                </p:nvSpPr>
                <p:spPr>
                  <a:xfrm>
                    <a:off x="1143000" y="1279800"/>
                    <a:ext cx="259920" cy="342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7" name="Object 4"/>
                  <p:cNvSpPr txBox="1"/>
                  <p:nvPr/>
                </p:nvSpPr>
                <p:spPr>
                  <a:xfrm>
                    <a:off x="4178160" y="1295640"/>
                    <a:ext cx="24120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8" name="Object 5"/>
                  <p:cNvSpPr txBox="1"/>
                  <p:nvPr/>
                </p:nvSpPr>
                <p:spPr>
                  <a:xfrm>
                    <a:off x="556920" y="1279800"/>
                    <a:ext cx="233280" cy="342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9" name="Object 6"/>
                  <p:cNvSpPr txBox="1"/>
                  <p:nvPr/>
                </p:nvSpPr>
                <p:spPr>
                  <a:xfrm>
                    <a:off x="2209680" y="1285920"/>
                    <a:ext cx="234000" cy="342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20" name="Object 7"/>
                  <p:cNvSpPr txBox="1"/>
                  <p:nvPr/>
                </p:nvSpPr>
                <p:spPr>
                  <a:xfrm>
                    <a:off x="7143840" y="1643400"/>
                    <a:ext cx="1218960" cy="369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21" name="Object 8"/>
                  <p:cNvSpPr txBox="1"/>
                  <p:nvPr/>
                </p:nvSpPr>
                <p:spPr>
                  <a:xfrm>
                    <a:off x="2000160" y="1957680"/>
                    <a:ext cx="1474560" cy="357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22" name="Object 9"/>
                  <p:cNvSpPr txBox="1"/>
                  <p:nvPr/>
                </p:nvSpPr>
                <p:spPr>
                  <a:xfrm>
                    <a:off x="4357800" y="1928880"/>
                    <a:ext cx="460080" cy="390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ba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23" name="Object 10"/>
                  <p:cNvSpPr txBox="1"/>
                  <p:nvPr/>
                </p:nvSpPr>
                <p:spPr>
                  <a:xfrm>
                    <a:off x="1157040" y="1633680"/>
                    <a:ext cx="234000" cy="342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24" name="Object 11"/>
                  <p:cNvSpPr txBox="1"/>
                  <p:nvPr/>
                </p:nvSpPr>
                <p:spPr>
                  <a:xfrm>
                    <a:off x="1785960" y="1643400"/>
                    <a:ext cx="259920" cy="342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25" name="Object 12"/>
                  <p:cNvSpPr txBox="1"/>
                  <p:nvPr/>
                </p:nvSpPr>
                <p:spPr>
                  <a:xfrm>
                    <a:off x="7267680" y="600120"/>
                    <a:ext cx="234000" cy="342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26" name="Object 13"/>
                  <p:cNvSpPr txBox="1"/>
                  <p:nvPr/>
                </p:nvSpPr>
                <p:spPr>
                  <a:xfrm>
                    <a:off x="1388880" y="914400"/>
                    <a:ext cx="28224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7" name="Object 14"/>
                <p:cNvSpPr txBox="1"/>
                <p:nvPr/>
              </p:nvSpPr>
              <p:spPr>
                <a:xfrm>
                  <a:off x="2666880" y="2286000"/>
                  <a:ext cx="1477800" cy="13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8" name="Object 15"/>
                <p:cNvSpPr txBox="1"/>
                <p:nvPr/>
              </p:nvSpPr>
              <p:spPr>
                <a:xfrm>
                  <a:off x="2819160" y="3657600"/>
                  <a:ext cx="2631960" cy="75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9" name="Object 16"/>
                <p:cNvSpPr txBox="1"/>
                <p:nvPr/>
              </p:nvSpPr>
              <p:spPr>
                <a:xfrm>
                  <a:off x="2819160" y="4419720"/>
                  <a:ext cx="3200400" cy="75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30" name="Text Box 22"/>
            <p:cNvSpPr/>
            <p:nvPr/>
          </p:nvSpPr>
          <p:spPr>
            <a:xfrm>
              <a:off x="7380360" y="4754520"/>
              <a:ext cx="1152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6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3.1.2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群組 28"/>
            <p:cNvGrpSpPr/>
            <p:nvPr/>
          </p:nvGrpSpPr>
          <p:grpSpPr>
            <a:xfrm>
              <a:off x="457200" y="5210280"/>
              <a:ext cx="8229600" cy="429120"/>
              <a:chOff x="457200" y="5210280"/>
              <a:chExt cx="8229600" cy="429120"/>
            </a:xfrm>
          </p:grpSpPr>
          <p:sp>
            <p:nvSpPr>
              <p:cNvPr id="332" name="Text Box 23"/>
              <p:cNvSpPr/>
              <p:nvPr/>
            </p:nvSpPr>
            <p:spPr>
              <a:xfrm>
                <a:off x="457200" y="5210280"/>
                <a:ext cx="82296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從    和      之間，存在一個很重要的幾何性質，即連接    和      的直線會通過橢心。這條直線可表示為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3" name="Object 17"/>
                  <p:cNvSpPr txBox="1"/>
                  <p:nvPr/>
                </p:nvSpPr>
                <p:spPr>
                  <a:xfrm>
                    <a:off x="838080" y="5275080"/>
                    <a:ext cx="269640" cy="353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4" name="Object 18"/>
                  <p:cNvSpPr txBox="1"/>
                  <p:nvPr/>
                </p:nvSpPr>
                <p:spPr>
                  <a:xfrm>
                    <a:off x="1447560" y="5284800"/>
                    <a:ext cx="382320" cy="353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5" name="Object 19"/>
                  <p:cNvSpPr txBox="1"/>
                  <p:nvPr/>
                </p:nvSpPr>
                <p:spPr>
                  <a:xfrm>
                    <a:off x="7162920" y="5275080"/>
                    <a:ext cx="269640" cy="353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6" name="Object 20"/>
                  <p:cNvSpPr txBox="1"/>
                  <p:nvPr/>
                </p:nvSpPr>
                <p:spPr>
                  <a:xfrm>
                    <a:off x="7696440" y="5275080"/>
                    <a:ext cx="380880" cy="353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37" name="Object 21"/>
                <p:cNvSpPr txBox="1"/>
                <p:nvPr/>
              </p:nvSpPr>
              <p:spPr>
                <a:xfrm>
                  <a:off x="2361960" y="6094440"/>
                  <a:ext cx="42228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  <m:r>
                        <m:t xml:space="preserve">y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sub>
                      </m:sSub>
                      <m:r>
                        <m:t xml:space="preserve">)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sub>
                      </m:sSub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sub>
                      </m:sSub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8" name="Text Box 29"/>
            <p:cNvSpPr/>
            <p:nvPr/>
          </p:nvSpPr>
          <p:spPr>
            <a:xfrm>
              <a:off x="7380360" y="6050160"/>
              <a:ext cx="1077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6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3.1.3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B8BE-4859-442D-983F-2A43F53EAC4E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群組 30"/>
          <p:cNvGrpSpPr/>
          <p:nvPr/>
        </p:nvGrpSpPr>
        <p:grpSpPr>
          <a:xfrm>
            <a:off x="457200" y="533520"/>
            <a:ext cx="8534520" cy="5595480"/>
            <a:chOff x="457200" y="533520"/>
            <a:chExt cx="8534520" cy="5595480"/>
          </a:xfrm>
        </p:grpSpPr>
        <p:grpSp>
          <p:nvGrpSpPr>
            <p:cNvPr id="341" name="群組 29"/>
            <p:cNvGrpSpPr/>
            <p:nvPr/>
          </p:nvGrpSpPr>
          <p:grpSpPr>
            <a:xfrm>
              <a:off x="457200" y="533520"/>
              <a:ext cx="8312400" cy="2212200"/>
              <a:chOff x="457200" y="533520"/>
              <a:chExt cx="8312400" cy="2212200"/>
            </a:xfrm>
          </p:grpSpPr>
          <p:sp>
            <p:nvSpPr>
              <p:cNvPr id="342" name="Text Box 1028"/>
              <p:cNvSpPr/>
              <p:nvPr/>
            </p:nvSpPr>
            <p:spPr>
              <a:xfrm>
                <a:off x="457200" y="533520"/>
                <a:ext cx="8153640" cy="12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接著來討論另外二個剩餘的邊點。令這二個剩餘的邊點為     和      且在挑選它們時己確保它們的切線不為平行。利用式子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(6.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3.1.2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，我們也可得                         和                    。如圖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6.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3.1.1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所示，    和      形成的直線也是通過橢心。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3" name="Object 1029"/>
                  <p:cNvSpPr txBox="1"/>
                  <p:nvPr/>
                </p:nvSpPr>
                <p:spPr>
                  <a:xfrm>
                    <a:off x="7544160" y="609480"/>
                    <a:ext cx="285480" cy="36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4" name="Object 1030"/>
                  <p:cNvSpPr txBox="1"/>
                  <p:nvPr/>
                </p:nvSpPr>
                <p:spPr>
                  <a:xfrm>
                    <a:off x="8201520" y="609480"/>
                    <a:ext cx="257040" cy="36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5" name="Object 1031"/>
                  <p:cNvSpPr txBox="1"/>
                  <p:nvPr/>
                </p:nvSpPr>
                <p:spPr>
                  <a:xfrm>
                    <a:off x="4000680" y="1285920"/>
                    <a:ext cx="1401840" cy="37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6" name="Object 1032"/>
                  <p:cNvSpPr txBox="1"/>
                  <p:nvPr/>
                </p:nvSpPr>
                <p:spPr>
                  <a:xfrm>
                    <a:off x="1928880" y="1285920"/>
                    <a:ext cx="1752480" cy="37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7" name="Object 1035"/>
                  <p:cNvSpPr txBox="1"/>
                  <p:nvPr/>
                </p:nvSpPr>
                <p:spPr>
                  <a:xfrm>
                    <a:off x="7787160" y="1285920"/>
                    <a:ext cx="28872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8" name="Object 1036"/>
                  <p:cNvSpPr txBox="1"/>
                  <p:nvPr/>
                </p:nvSpPr>
                <p:spPr>
                  <a:xfrm>
                    <a:off x="8358480" y="1285920"/>
                    <a:ext cx="41112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49" name="Object 1037"/>
                  <p:cNvSpPr txBox="1"/>
                  <p:nvPr/>
                </p:nvSpPr>
                <p:spPr>
                  <a:xfrm>
                    <a:off x="2031840" y="1981440"/>
                    <a:ext cx="4521240" cy="40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b>
                            </m:sSub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0" name="Text Box 1038"/>
              <p:cNvSpPr/>
              <p:nvPr/>
            </p:nvSpPr>
            <p:spPr>
              <a:xfrm>
                <a:off x="7380720" y="1981440"/>
                <a:ext cx="10778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(6.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3.1.4)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" name="Text Box 1040"/>
            <p:cNvSpPr/>
            <p:nvPr/>
          </p:nvSpPr>
          <p:spPr>
            <a:xfrm>
              <a:off x="457200" y="2590920"/>
              <a:ext cx="815364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利用式子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6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3.1.3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和式子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6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3.1.4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的二個聯立方程式可解出橢心為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2" name="Object 1041"/>
                <p:cNvSpPr txBox="1"/>
                <p:nvPr/>
              </p:nvSpPr>
              <p:spPr>
                <a:xfrm>
                  <a:off x="457200" y="3124440"/>
                  <a:ext cx="567720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sub>
                          </m:sSub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sub>
                          </m:s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l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l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l</m:t>
                                  </m:r>
                                </m:sub>
                              </m:sSub>
                            </m:sub>
                          </m:sSub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l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l</m:t>
                                  </m:r>
                                </m:sub>
                              </m:sSub>
                            </m:sub>
                          </m:s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l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l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l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l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l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3" name="Object 1042"/>
                <p:cNvSpPr txBox="1"/>
                <p:nvPr/>
              </p:nvSpPr>
              <p:spPr>
                <a:xfrm>
                  <a:off x="533160" y="4038840"/>
                  <a:ext cx="571500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sub>
                          </m:sSub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sub>
                          </m:s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l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l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l</m:t>
                                  </m:r>
                                </m:sub>
                              </m:sSub>
                            </m:sub>
                          </m:sSub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l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l</m:t>
                                  </m:r>
                                </m:sub>
                              </m:sSub>
                            </m:sub>
                          </m:s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l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l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l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l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l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54" name="Text Box 1043"/>
            <p:cNvSpPr/>
            <p:nvPr/>
          </p:nvSpPr>
          <p:spPr>
            <a:xfrm>
              <a:off x="457200" y="5029560"/>
              <a:ext cx="5715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隨機選四個邊點，  、  、   和   ，所以共有三種組合方式                、               和 </a:t>
              </a:r>
              <a:br>
                <a:rPr sz="2200"/>
              </a:b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可以幫助我們求得三個可能的橢心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5" name="Object 1044"/>
                <p:cNvSpPr txBox="1"/>
                <p:nvPr/>
              </p:nvSpPr>
              <p:spPr>
                <a:xfrm>
                  <a:off x="2699640" y="5097600"/>
                  <a:ext cx="23004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6" name="Object 1047"/>
                <p:cNvSpPr txBox="1"/>
                <p:nvPr/>
              </p:nvSpPr>
              <p:spPr>
                <a:xfrm>
                  <a:off x="1979640" y="5445360"/>
                  <a:ext cx="106668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7" name="Object 1048"/>
                <p:cNvSpPr txBox="1"/>
                <p:nvPr/>
              </p:nvSpPr>
              <p:spPr>
                <a:xfrm>
                  <a:off x="3287160" y="5445360"/>
                  <a:ext cx="106668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8" name="Object 1049"/>
                <p:cNvSpPr txBox="1"/>
                <p:nvPr/>
              </p:nvSpPr>
              <p:spPr>
                <a:xfrm>
                  <a:off x="4716000" y="5445360"/>
                  <a:ext cx="106668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9" name="Object 1050"/>
                <p:cNvSpPr txBox="1"/>
                <p:nvPr/>
              </p:nvSpPr>
              <p:spPr>
                <a:xfrm>
                  <a:off x="3156840" y="5097600"/>
                  <a:ext cx="25704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360" name="群組 30"/>
            <p:cNvGrpSpPr/>
            <p:nvPr/>
          </p:nvGrpSpPr>
          <p:grpSpPr>
            <a:xfrm>
              <a:off x="6400800" y="3525840"/>
              <a:ext cx="2590920" cy="2571120"/>
              <a:chOff x="6400800" y="3525840"/>
              <a:chExt cx="2590920" cy="2571120"/>
            </a:xfrm>
          </p:grpSpPr>
          <p:graphicFrame>
            <p:nvGraphicFramePr>
              <p:cNvPr id="361" name="Object 1026"/>
              <p:cNvGraphicFramePr/>
              <p:nvPr/>
            </p:nvGraphicFramePr>
            <p:xfrm>
              <a:off x="6400800" y="3525840"/>
              <a:ext cx="2590920" cy="22478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62" name="Object 102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00800" y="3525840"/>
                        <a:ext cx="2590920" cy="2247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3" name="Text Box 1027"/>
              <p:cNvSpPr/>
              <p:nvPr/>
            </p:nvSpPr>
            <p:spPr>
              <a:xfrm>
                <a:off x="6781680" y="5759640"/>
                <a:ext cx="2038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圖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6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.1.1 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橢圓的中心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直線接點 27"/>
              <p:cNvSpPr/>
              <p:nvPr/>
            </p:nvSpPr>
            <p:spPr>
              <a:xfrm flipV="1">
                <a:off x="7000920" y="4357080"/>
                <a:ext cx="1143000" cy="85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65" name="Object 1045"/>
                <p:cNvSpPr txBox="1"/>
                <p:nvPr/>
              </p:nvSpPr>
              <p:spPr>
                <a:xfrm>
                  <a:off x="3564000" y="5093280"/>
                  <a:ext cx="2300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6" name="Object 1046"/>
                <p:cNvSpPr txBox="1"/>
                <p:nvPr/>
              </p:nvSpPr>
              <p:spPr>
                <a:xfrm>
                  <a:off x="4116240" y="5095080"/>
                  <a:ext cx="25704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AA29-1848-4D6B-BBB8-8D40D96C295D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6.3.2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決定剩餘的三個變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2538360" y="4130640"/>
                <a:ext cx="376236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x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y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y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x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y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y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  <m:e>
                              <m:r>
                                <m:t xml:space="preserve">x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y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y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f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70" name="群組 12"/>
          <p:cNvGrpSpPr/>
          <p:nvPr/>
        </p:nvGrpSpPr>
        <p:grpSpPr>
          <a:xfrm>
            <a:off x="380880" y="1677960"/>
            <a:ext cx="8439120" cy="4789440"/>
            <a:chOff x="380880" y="1677960"/>
            <a:chExt cx="8439120" cy="4789440"/>
          </a:xfrm>
        </p:grpSpPr>
        <p:sp>
          <p:nvSpPr>
            <p:cNvPr id="371" name="Text Box 3"/>
            <p:cNvSpPr/>
            <p:nvPr/>
          </p:nvSpPr>
          <p:spPr>
            <a:xfrm>
              <a:off x="380880" y="1677960"/>
              <a:ext cx="8439120" cy="37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假設橢圓的橢心為             ，原點移至橢心上。如此一來，式子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6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1.1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的橢圓方程式可簡化為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利用挑選出來的四個邊點中的三個邊點即可解出這三個變數。將邊點               代入上面式子中可得下列線性系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這裡需注意的是              為邊點             經過平移             後的座標。從組合的觀點，共可解出四組               解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2" name="Object 2"/>
                <p:cNvSpPr txBox="1"/>
                <p:nvPr/>
              </p:nvSpPr>
              <p:spPr>
                <a:xfrm>
                  <a:off x="6429240" y="5715360"/>
                  <a:ext cx="88560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3" name="Object 3"/>
                <p:cNvSpPr txBox="1"/>
                <p:nvPr/>
              </p:nvSpPr>
              <p:spPr>
                <a:xfrm>
                  <a:off x="3085920" y="2503440"/>
                  <a:ext cx="236052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exy</m:t>
                      </m:r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y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Object 4"/>
                <p:cNvSpPr txBox="1"/>
                <p:nvPr/>
              </p:nvSpPr>
              <p:spPr>
                <a:xfrm>
                  <a:off x="899280" y="3357000"/>
                  <a:ext cx="914400" cy="38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'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'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5" name="Object 6"/>
                <p:cNvSpPr txBox="1"/>
                <p:nvPr/>
              </p:nvSpPr>
              <p:spPr>
                <a:xfrm>
                  <a:off x="2500200" y="5715360"/>
                  <a:ext cx="95400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'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'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6" name="Object 7"/>
                <p:cNvSpPr txBox="1"/>
                <p:nvPr/>
              </p:nvSpPr>
              <p:spPr>
                <a:xfrm>
                  <a:off x="4357440" y="5715360"/>
                  <a:ext cx="84276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7" name="Object 8"/>
                <p:cNvSpPr txBox="1"/>
                <p:nvPr/>
              </p:nvSpPr>
              <p:spPr>
                <a:xfrm>
                  <a:off x="2742840" y="1682640"/>
                  <a:ext cx="88560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Object 9"/>
                <p:cNvSpPr txBox="1"/>
                <p:nvPr/>
              </p:nvSpPr>
              <p:spPr>
                <a:xfrm>
                  <a:off x="4171680" y="6096240"/>
                  <a:ext cx="990360" cy="37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d</m:t>
                      </m:r>
                      <m:r>
                        <m:t xml:space="preserve">,</m:t>
                      </m:r>
                      <m:r>
                        <m:t xml:space="preserve">e</m:t>
                      </m:r>
                      <m:r>
                        <m:t xml:space="preserve">,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8FD5-7BDF-4937-A83C-4A952718C6DF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3.3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決定候選橢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群組 15"/>
          <p:cNvGrpSpPr/>
          <p:nvPr/>
        </p:nvGrpSpPr>
        <p:grpSpPr>
          <a:xfrm>
            <a:off x="457200" y="1600200"/>
            <a:ext cx="8229600" cy="4249800"/>
            <a:chOff x="457200" y="1600200"/>
            <a:chExt cx="8229600" cy="4249800"/>
          </a:xfrm>
        </p:grpSpPr>
        <p:sp>
          <p:nvSpPr>
            <p:cNvPr id="382" name="Text Box 3"/>
            <p:cNvSpPr/>
            <p:nvPr/>
          </p:nvSpPr>
          <p:spPr>
            <a:xfrm>
              <a:off x="457200" y="1600200"/>
              <a:ext cx="8229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針對解出的四組           ，我們進一步檢查其是否滿足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8"/>
            <p:cNvSpPr/>
            <p:nvPr/>
          </p:nvSpPr>
          <p:spPr>
            <a:xfrm>
              <a:off x="457200" y="1904760"/>
              <a:ext cx="8077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和                  。若是，則對應的橢圓為一合法的可能橢圓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457200" y="2666880"/>
              <a:ext cx="815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若某一組係數                       代表一合法的可能橢圓，則該橢圓可否被選為橢圓候選人，得接著對一開始選出的四個邊點進行投票的動作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16"/>
            <p:cNvSpPr/>
            <p:nvPr/>
          </p:nvSpPr>
          <p:spPr>
            <a:xfrm>
              <a:off x="457200" y="3657960"/>
              <a:ext cx="8077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Text Box 17"/>
            <p:cNvSpPr/>
            <p:nvPr/>
          </p:nvSpPr>
          <p:spPr>
            <a:xfrm>
              <a:off x="457200" y="4023000"/>
              <a:ext cx="8001000" cy="12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四個邊點與橢圓的距離皆小於門檻值，我們就說這可能橢圓為一候選橢圓。這裡的邊點與橢圓的距離計算公式如下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7" name="Object 19"/>
                <p:cNvSpPr txBox="1"/>
                <p:nvPr/>
              </p:nvSpPr>
              <p:spPr>
                <a:xfrm>
                  <a:off x="1475640" y="5085720"/>
                  <a:ext cx="5663880" cy="50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e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88" name="Text Box 20"/>
            <p:cNvSpPr/>
            <p:nvPr/>
          </p:nvSpPr>
          <p:spPr>
            <a:xfrm>
              <a:off x="7524360" y="5085720"/>
              <a:ext cx="1131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6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3.3.1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9" name="Object 21"/>
                <p:cNvSpPr txBox="1"/>
                <p:nvPr/>
              </p:nvSpPr>
              <p:spPr>
                <a:xfrm>
                  <a:off x="2286000" y="2733840"/>
                  <a:ext cx="144756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d</m:t>
                      </m:r>
                      <m:r>
                        <m:t xml:space="preserve">,</m:t>
                      </m:r>
                      <m:r>
                        <m:t xml:space="preserve">e</m:t>
                      </m:r>
                      <m:r>
                        <m:t xml:space="preserve">,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0" name="Object 6"/>
                <p:cNvSpPr txBox="1"/>
                <p:nvPr/>
              </p:nvSpPr>
              <p:spPr>
                <a:xfrm>
                  <a:off x="547560" y="1995480"/>
                  <a:ext cx="59508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1" name="Object 7"/>
                <p:cNvSpPr txBox="1"/>
                <p:nvPr/>
              </p:nvSpPr>
              <p:spPr>
                <a:xfrm>
                  <a:off x="1466640" y="1962000"/>
                  <a:ext cx="121896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df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Object 4"/>
                <p:cNvSpPr txBox="1"/>
                <p:nvPr/>
              </p:nvSpPr>
              <p:spPr>
                <a:xfrm>
                  <a:off x="2484360" y="1680840"/>
                  <a:ext cx="81252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d</m:t>
                      </m:r>
                      <m:r>
                        <m:t xml:space="preserve">,</m:t>
                      </m:r>
                      <m:r>
                        <m:t xml:space="preserve">e</m:t>
                      </m:r>
                      <m:r>
                        <m:t xml:space="preserve">,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Object 5"/>
                <p:cNvSpPr txBox="1"/>
                <p:nvPr/>
              </p:nvSpPr>
              <p:spPr>
                <a:xfrm>
                  <a:off x="6875640" y="1690560"/>
                  <a:ext cx="5778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1FA7-D3F0-4C63-9BF0-19AAEA093DE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內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9907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6.2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隨機式測圓法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6.3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隨機式橢圓測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4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查表式的圓和橢圓測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視訊場景的變化偵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523880" y="2665440"/>
            <a:ext cx="27432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6.2.1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基本想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6.2.3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決定真正圓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419720" y="2665440"/>
            <a:ext cx="365760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6.2.2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決定候選圓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6.2.4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演算流程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1523880" y="386064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6.3.1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橢心的決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6.3.3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決定候選橢圓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6.3.5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演算流程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419720" y="3860640"/>
            <a:ext cx="396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6.3.2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決定剩餘的三個變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6.3.4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決定真正橢圓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CC88-41B1-4DA7-BCF6-DD6159E5E1EB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6.3.4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決定真正橢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群組 11"/>
          <p:cNvGrpSpPr/>
          <p:nvPr/>
        </p:nvGrpSpPr>
        <p:grpSpPr>
          <a:xfrm>
            <a:off x="5003640" y="2637000"/>
            <a:ext cx="3745080" cy="2775240"/>
            <a:chOff x="5003640" y="2637000"/>
            <a:chExt cx="3745080" cy="2775240"/>
          </a:xfrm>
        </p:grpSpPr>
        <p:graphicFrame>
          <p:nvGraphicFramePr>
            <p:cNvPr id="397" name="Object 2"/>
            <p:cNvGraphicFramePr/>
            <p:nvPr/>
          </p:nvGraphicFramePr>
          <p:xfrm>
            <a:off x="5003640" y="2637000"/>
            <a:ext cx="3745080" cy="228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03640" y="2637000"/>
                      <a:ext cx="3745080" cy="228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9" name="Text Box 4"/>
            <p:cNvSpPr/>
            <p:nvPr/>
          </p:nvSpPr>
          <p:spPr>
            <a:xfrm>
              <a:off x="5075640" y="5013360"/>
              <a:ext cx="36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.4.1 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橢圓周長的估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Text Box 5"/>
          <p:cNvSpPr/>
          <p:nvPr/>
        </p:nvSpPr>
        <p:spPr>
          <a:xfrm>
            <a:off x="457200" y="1523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決定完候選橢圓後，接著得檢查影像中的所有邊點中，到底有多少邊點是屬於橢圓候選上的邊點。如果有足夠的邊點屬於該候選橢圓，則該候選橢圓為真正的橢圓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群組 10"/>
          <p:cNvGrpSpPr/>
          <p:nvPr/>
        </p:nvGrpSpPr>
        <p:grpSpPr>
          <a:xfrm>
            <a:off x="380880" y="2781360"/>
            <a:ext cx="4469040" cy="2457720"/>
            <a:chOff x="380880" y="2781360"/>
            <a:chExt cx="4469040" cy="2457720"/>
          </a:xfrm>
        </p:grpSpPr>
        <p:sp>
          <p:nvSpPr>
            <p:cNvPr id="402" name="Text Box 9"/>
            <p:cNvSpPr/>
            <p:nvPr/>
          </p:nvSpPr>
          <p:spPr>
            <a:xfrm>
              <a:off x="735480" y="3157560"/>
              <a:ext cx="41144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令橢圓的長軸為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而短軸為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則外接的長方形之周長為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而內接的菱形之周長為               。橢圓的周長可估計為外接長方形周長加上內接菱形周長的一半，即                               。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3" name="Object 5"/>
                <p:cNvSpPr txBox="1"/>
                <p:nvPr/>
              </p:nvSpPr>
              <p:spPr>
                <a:xfrm>
                  <a:off x="3645000" y="3823560"/>
                  <a:ext cx="103968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Object 6"/>
                <p:cNvSpPr txBox="1"/>
                <p:nvPr/>
              </p:nvSpPr>
              <p:spPr>
                <a:xfrm>
                  <a:off x="1158840" y="4807440"/>
                  <a:ext cx="214776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05" name="Rectangle 12"/>
            <p:cNvSpPr/>
            <p:nvPr/>
          </p:nvSpPr>
          <p:spPr>
            <a:xfrm>
              <a:off x="380880" y="2781360"/>
              <a:ext cx="2742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橢圓的周長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4C7E-AD0B-4190-AE2F-1A5075ED13F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6.3.5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演算流程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Object 8"/>
          <p:cNvGraphicFramePr/>
          <p:nvPr/>
        </p:nvGraphicFramePr>
        <p:xfrm>
          <a:off x="5324400" y="304920"/>
          <a:ext cx="282888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24400" y="304920"/>
                    <a:ext cx="282888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Text Box 1029"/>
          <p:cNvSpPr/>
          <p:nvPr/>
        </p:nvSpPr>
        <p:spPr>
          <a:xfrm>
            <a:off x="6012000" y="644508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5.1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演算流程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群組 11"/>
          <p:cNvGrpSpPr/>
          <p:nvPr/>
        </p:nvGrpSpPr>
        <p:grpSpPr>
          <a:xfrm>
            <a:off x="228600" y="1676520"/>
            <a:ext cx="4935600" cy="4800600"/>
            <a:chOff x="228600" y="1676520"/>
            <a:chExt cx="4935600" cy="4800600"/>
          </a:xfrm>
        </p:grpSpPr>
        <p:pic>
          <p:nvPicPr>
            <p:cNvPr id="412" name="Picture 1030" descr="原圖"/>
            <p:cNvPicPr/>
            <p:nvPr/>
          </p:nvPicPr>
          <p:blipFill>
            <a:blip r:embed="rId3"/>
            <a:stretch/>
          </p:blipFill>
          <p:spPr>
            <a:xfrm>
              <a:off x="380880" y="1676520"/>
              <a:ext cx="214308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1031" descr="邊點圖"/>
            <p:cNvPicPr/>
            <p:nvPr/>
          </p:nvPicPr>
          <p:blipFill>
            <a:blip r:embed="rId4"/>
            <a:stretch/>
          </p:blipFill>
          <p:spPr>
            <a:xfrm>
              <a:off x="2971800" y="2971800"/>
              <a:ext cx="2133720" cy="2133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14" name="Picture 1032" descr="測橢圓結果"/>
            <p:cNvPicPr/>
            <p:nvPr/>
          </p:nvPicPr>
          <p:blipFill>
            <a:blip r:embed="rId5"/>
            <a:stretch/>
          </p:blipFill>
          <p:spPr>
            <a:xfrm>
              <a:off x="380880" y="4326120"/>
              <a:ext cx="215100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1033"/>
            <p:cNvSpPr/>
            <p:nvPr/>
          </p:nvSpPr>
          <p:spPr>
            <a:xfrm>
              <a:off x="228600" y="3810240"/>
              <a:ext cx="283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.5.2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內含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顆雞蛋的影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1034"/>
            <p:cNvSpPr/>
            <p:nvPr/>
          </p:nvSpPr>
          <p:spPr>
            <a:xfrm>
              <a:off x="2843280" y="5105520"/>
              <a:ext cx="232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.5.3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測邊後的結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Text Box 1035"/>
          <p:cNvSpPr/>
          <p:nvPr/>
        </p:nvSpPr>
        <p:spPr>
          <a:xfrm>
            <a:off x="314280" y="6477120"/>
            <a:ext cx="23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5.4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偵測到的橢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4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查表式的圓和橢圓測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利用查表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okup Table)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的技巧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5,17]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來加快前面兩節所介紹的隨機式測圓與測橢圓法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假設我們已經找到了候選圓。令候選圓的圓心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而半徑為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。先產生一個足夠大的二維陣列。然後植基在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senham[20]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的畫圓技巧上，我們在二維陣列上畫出一帶狀圓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有了二維陣列上的帶狀圓後，將邊點集上的邊點位置映射到陣列上，若其掉在帶狀圓上，則該邊點貢獻了一票。依此方式，將邊點一一映射到二維陣列上，當發現貢獻的票數超過門檻值，就找到真正的圓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D8FF-1B45-48F0-98B4-A9C4D39CD6D0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9DF8-564C-40F7-94E6-8BBCBA341544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視訊場景的變化偵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群組 18"/>
          <p:cNvGrpSpPr/>
          <p:nvPr/>
        </p:nvGrpSpPr>
        <p:grpSpPr>
          <a:xfrm>
            <a:off x="380880" y="1676520"/>
            <a:ext cx="8458200" cy="5031720"/>
            <a:chOff x="380880" y="1676520"/>
            <a:chExt cx="8458200" cy="5031720"/>
          </a:xfrm>
        </p:grpSpPr>
        <p:sp>
          <p:nvSpPr>
            <p:cNvPr id="424" name="Rectangle 1060"/>
            <p:cNvSpPr/>
            <p:nvPr/>
          </p:nvSpPr>
          <p:spPr>
            <a:xfrm>
              <a:off x="380880" y="167652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Hausdorff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1061"/>
            <p:cNvSpPr/>
            <p:nvPr/>
          </p:nvSpPr>
          <p:spPr>
            <a:xfrm>
              <a:off x="380880" y="2098800"/>
              <a:ext cx="8458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對任一張影像而言，一旦找出影像中的各種形狀，例如有直線、圓和橢圓。我們接著求出任二種形狀的所有交點以為影像的代表點集。假設某影像的代表點集為                           而下一張影像的代表點集為                        ，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的距離被下列的</a:t>
              </a:r>
              <a:r>
                <a:rPr b="1" lang="en-US" sz="2200" spc="-1" strike="noStrike">
                  <a:solidFill>
                    <a:srgbClr val="666699"/>
                  </a:solidFill>
                  <a:latin typeface="Times New Roman"/>
                </a:rPr>
                <a:t>Hausdorff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式子所決定 </a:t>
              </a:r>
              <a:r>
                <a:rPr b="0" lang="zh-TW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Object 1062"/>
                <p:cNvSpPr txBox="1"/>
                <p:nvPr/>
              </p:nvSpPr>
              <p:spPr>
                <a:xfrm>
                  <a:off x="3571560" y="2786040"/>
                  <a:ext cx="187308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7" name="Object 1063"/>
                <p:cNvSpPr txBox="1"/>
                <p:nvPr/>
              </p:nvSpPr>
              <p:spPr>
                <a:xfrm>
                  <a:off x="785520" y="3143160"/>
                  <a:ext cx="175248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8" name="Object 1066"/>
                <p:cNvSpPr txBox="1"/>
                <p:nvPr/>
              </p:nvSpPr>
              <p:spPr>
                <a:xfrm>
                  <a:off x="2601720" y="3622680"/>
                  <a:ext cx="348300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ax</m:t>
                      </m:r>
                      <m:r>
                        <m:t xml:space="preserve">(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9" name="Text Box 1067"/>
            <p:cNvSpPr/>
            <p:nvPr/>
          </p:nvSpPr>
          <p:spPr>
            <a:xfrm>
              <a:off x="380880" y="3962520"/>
              <a:ext cx="4648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這裡                                          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0" name="Object 1068"/>
                <p:cNvSpPr txBox="1"/>
                <p:nvPr/>
              </p:nvSpPr>
              <p:spPr>
                <a:xfrm>
                  <a:off x="1104480" y="4016520"/>
                  <a:ext cx="281916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lim>
                          <m:r>
                            <m:t xml:space="preserve">a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lim>
                      </m:limLow>
                      <m:r>
                        <m:t xml:space="preserve"> 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lim>
                          <m:r>
                            <m:t xml:space="preserve">b</m:t>
                          </m:r>
                          <m:r>
                            <m:t xml:space="preserve">∈</m:t>
                          </m:r>
                          <m:r>
                            <m:t xml:space="preserve">B</m:t>
                          </m:r>
                        </m:lim>
                      </m:limLow>
                      <m:r>
                        <m:t xml:space="preserve"> 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1" name="Rectangle 1070"/>
            <p:cNvSpPr/>
            <p:nvPr/>
          </p:nvSpPr>
          <p:spPr>
            <a:xfrm>
              <a:off x="380880" y="45720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部份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Hausdorff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1071"/>
            <p:cNvSpPr/>
            <p:nvPr/>
          </p:nvSpPr>
          <p:spPr>
            <a:xfrm>
              <a:off x="380880" y="4953240"/>
              <a:ext cx="7391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部分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Hausdorff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距離度量定義為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3" name="Object 1072"/>
                <p:cNvSpPr txBox="1"/>
                <p:nvPr/>
              </p:nvSpPr>
              <p:spPr>
                <a:xfrm>
                  <a:off x="2319120" y="5451840"/>
                  <a:ext cx="435132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ax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4" name="Rectangle 1079"/>
            <p:cNvSpPr/>
            <p:nvPr/>
          </p:nvSpPr>
          <p:spPr>
            <a:xfrm>
              <a:off x="380880" y="594396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我們選定                    而            ；                                         是選第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大的而非             中的最大的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5" name="Object 1080"/>
                <p:cNvSpPr txBox="1"/>
                <p:nvPr/>
              </p:nvSpPr>
              <p:spPr>
                <a:xfrm>
                  <a:off x="1599840" y="6013800"/>
                  <a:ext cx="12952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6" name="Object 1081"/>
                <p:cNvSpPr txBox="1"/>
                <p:nvPr/>
              </p:nvSpPr>
              <p:spPr>
                <a:xfrm>
                  <a:off x="3276360" y="6013800"/>
                  <a:ext cx="8380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7" name="Object 1082"/>
                <p:cNvSpPr txBox="1"/>
                <p:nvPr/>
              </p:nvSpPr>
              <p:spPr>
                <a:xfrm>
                  <a:off x="4419360" y="5972400"/>
                  <a:ext cx="2895480" cy="46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b</m:t>
                          </m:r>
                          <m:r>
                            <m:t xml:space="preserve">∈</m:t>
                          </m:r>
                          <m:r>
                            <m:t xml:space="preserve">B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p>
                      </m:sSubSup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lim>
                          <m:r>
                            <m:t xml:space="preserve">a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lim>
                      </m:limLow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8" name="Object 1083"/>
                <p:cNvSpPr txBox="1"/>
                <p:nvPr/>
              </p:nvSpPr>
              <p:spPr>
                <a:xfrm>
                  <a:off x="1371240" y="6366240"/>
                  <a:ext cx="83808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CC70-D492-410B-B02C-3FB0A3EE632A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群組 13"/>
          <p:cNvGrpSpPr/>
          <p:nvPr/>
        </p:nvGrpSpPr>
        <p:grpSpPr>
          <a:xfrm>
            <a:off x="0" y="3438360"/>
            <a:ext cx="3708360" cy="2775960"/>
            <a:chOff x="0" y="3438360"/>
            <a:chExt cx="3708360" cy="2775960"/>
          </a:xfrm>
        </p:grpSpPr>
        <p:graphicFrame>
          <p:nvGraphicFramePr>
            <p:cNvPr id="441" name="Object 2"/>
            <p:cNvGraphicFramePr/>
            <p:nvPr/>
          </p:nvGraphicFramePr>
          <p:xfrm>
            <a:off x="0" y="3438360"/>
            <a:ext cx="3534480" cy="243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438360"/>
                      <a:ext cx="3534480" cy="243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3" name="Text Box 10"/>
            <p:cNvSpPr/>
            <p:nvPr/>
          </p:nvSpPr>
          <p:spPr>
            <a:xfrm>
              <a:off x="202680" y="5877000"/>
              <a:ext cx="350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.1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視訊中的部份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ausdorff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距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Text Box 12"/>
          <p:cNvSpPr/>
          <p:nvPr/>
        </p:nvSpPr>
        <p:spPr>
          <a:xfrm>
            <a:off x="380880" y="2371680"/>
            <a:ext cx="838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視訊的內容為一個籃球在地板上滾動的情形。在圖中，我們可看出視訊中，第九張影像到第十張影像有場景變化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3"/>
          <p:cNvSpPr/>
          <p:nvPr/>
        </p:nvSpPr>
        <p:spPr>
          <a:xfrm>
            <a:off x="380880" y="736560"/>
            <a:ext cx="830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若連續二張影像的部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usdorff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距離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ial Hausdorff Distance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大於所設定的門檻值，則代表二張影像內的代表點有大的移位，我們於是認為有場景的變化存在。</a:t>
            </a:r>
            <a:r>
              <a:rPr b="0" lang="zh-TW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380880" y="1990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一個例子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群組 12"/>
          <p:cNvGrpSpPr/>
          <p:nvPr/>
        </p:nvGrpSpPr>
        <p:grpSpPr>
          <a:xfrm>
            <a:off x="3657600" y="3645000"/>
            <a:ext cx="5257800" cy="2591640"/>
            <a:chOff x="3657600" y="3645000"/>
            <a:chExt cx="5257800" cy="2591640"/>
          </a:xfrm>
        </p:grpSpPr>
        <p:pic>
          <p:nvPicPr>
            <p:cNvPr id="448" name="Picture 15" descr="040"/>
            <p:cNvPicPr/>
            <p:nvPr/>
          </p:nvPicPr>
          <p:blipFill>
            <a:blip r:embed="rId3"/>
            <a:stretch/>
          </p:blipFill>
          <p:spPr>
            <a:xfrm>
              <a:off x="3657600" y="3645000"/>
              <a:ext cx="25146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16" descr="050"/>
            <p:cNvPicPr/>
            <p:nvPr/>
          </p:nvPicPr>
          <p:blipFill>
            <a:blip r:embed="rId4"/>
            <a:stretch/>
          </p:blipFill>
          <p:spPr>
            <a:xfrm>
              <a:off x="6400800" y="3645000"/>
              <a:ext cx="251460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Text Box 17"/>
            <p:cNvSpPr/>
            <p:nvPr/>
          </p:nvSpPr>
          <p:spPr>
            <a:xfrm>
              <a:off x="5029200" y="589932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.5.2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二個場景的起頭影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3809880" y="539748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)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第一個場景的起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6629400" y="539748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)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第二個場景的起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B777-6C4B-4C53-B5CC-5B528F4F95F4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6.2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隨機式測圓法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範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：哈克轉換可否應用於圓偵測上？缺點為何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解答：這裡給同學們討論一下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8"/>
          <p:cNvGraphicFramePr/>
          <p:nvPr/>
        </p:nvGraphicFramePr>
        <p:xfrm>
          <a:off x="2579760" y="2487600"/>
          <a:ext cx="3360600" cy="27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9760" y="2487600"/>
                    <a:ext cx="336060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15EA-EC2A-48CC-AB48-E67901DEFA9D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6.2.1 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基本想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36"/>
          <p:cNvGraphicFramePr/>
          <p:nvPr/>
        </p:nvGraphicFramePr>
        <p:xfrm>
          <a:off x="2916360" y="3573360"/>
          <a:ext cx="3063600" cy="30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3573360"/>
                    <a:ext cx="3063600" cy="30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37"/>
          <p:cNvSpPr/>
          <p:nvPr/>
        </p:nvSpPr>
        <p:spPr>
          <a:xfrm>
            <a:off x="604800" y="5869080"/>
            <a:ext cx="245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2.1.1 </a:t>
            </a:r>
            <a:br>
              <a:rPr sz="16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四點決定四個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群組 13"/>
          <p:cNvGrpSpPr/>
          <p:nvPr/>
        </p:nvGrpSpPr>
        <p:grpSpPr>
          <a:xfrm>
            <a:off x="380880" y="1981080"/>
            <a:ext cx="8229600" cy="1805400"/>
            <a:chOff x="380880" y="1981080"/>
            <a:chExt cx="8229600" cy="1805400"/>
          </a:xfrm>
        </p:grpSpPr>
        <p:sp>
          <p:nvSpPr>
            <p:cNvPr id="129" name="Text Box 38"/>
            <p:cNvSpPr/>
            <p:nvPr/>
          </p:nvSpPr>
          <p:spPr>
            <a:xfrm>
              <a:off x="395280" y="3357360"/>
              <a:ext cx="813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隨機的從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中挑出四點。該四點可以決定出四個可能圓，如圖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.1.1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所示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39"/>
            <p:cNvSpPr/>
            <p:nvPr/>
          </p:nvSpPr>
          <p:spPr>
            <a:xfrm>
              <a:off x="380880" y="1981080"/>
              <a:ext cx="822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邊點集                。我們用下列方程式來表示圓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43"/>
            <p:cNvSpPr/>
            <p:nvPr/>
          </p:nvSpPr>
          <p:spPr>
            <a:xfrm>
              <a:off x="7315200" y="2713680"/>
              <a:ext cx="128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6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2.1.1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Object 1047"/>
                <p:cNvSpPr txBox="1"/>
                <p:nvPr/>
              </p:nvSpPr>
              <p:spPr>
                <a:xfrm>
                  <a:off x="1331640" y="2060280"/>
                  <a:ext cx="113004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" name="Object 1049"/>
                <p:cNvSpPr txBox="1"/>
                <p:nvPr/>
              </p:nvSpPr>
              <p:spPr>
                <a:xfrm>
                  <a:off x="2600280" y="2709000"/>
                  <a:ext cx="261936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−</m:t>
                      </m:r>
                      <m:r>
                        <m:t xml:space="preserve">b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C257-5BFA-48D8-87CF-3C128619E27F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6.2.2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決定候選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群組 25"/>
          <p:cNvGrpSpPr/>
          <p:nvPr/>
        </p:nvGrpSpPr>
        <p:grpSpPr>
          <a:xfrm>
            <a:off x="457200" y="1676520"/>
            <a:ext cx="8077320" cy="2166120"/>
            <a:chOff x="457200" y="1676520"/>
            <a:chExt cx="8077320" cy="2166120"/>
          </a:xfrm>
        </p:grpSpPr>
        <p:sp>
          <p:nvSpPr>
            <p:cNvPr id="137" name="Text Box 2056"/>
            <p:cNvSpPr/>
            <p:nvPr/>
          </p:nvSpPr>
          <p:spPr>
            <a:xfrm>
              <a:off x="457200" y="1676520"/>
              <a:ext cx="5758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圓方程式改寫，可得下式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Object 2057"/>
                <p:cNvSpPr txBox="1"/>
                <p:nvPr/>
              </p:nvSpPr>
              <p:spPr>
                <a:xfrm>
                  <a:off x="2743200" y="2209680"/>
                  <a:ext cx="281952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xa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yb</m:t>
                      </m:r>
                      <m:r>
                        <m:t xml:space="preserve">+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Text Box 2058"/>
            <p:cNvSpPr/>
            <p:nvPr/>
          </p:nvSpPr>
          <p:spPr>
            <a:xfrm>
              <a:off x="7309080" y="2209680"/>
              <a:ext cx="1149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6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.2.1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2059"/>
            <p:cNvSpPr/>
            <p:nvPr/>
          </p:nvSpPr>
          <p:spPr>
            <a:xfrm>
              <a:off x="457200" y="2743200"/>
              <a:ext cx="8077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此處                         。令              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 1, 2, 3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為影像邊點集中被隨機挑選出來的三個邊點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假若    、    和     沒有共線，則他們可以決定一圓       ， 且可以得到圓心                和半徑     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2060"/>
                <p:cNvSpPr txBox="1"/>
                <p:nvPr/>
              </p:nvSpPr>
              <p:spPr>
                <a:xfrm>
                  <a:off x="1143000" y="2795760"/>
                  <a:ext cx="1646280" cy="3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" name="Object 2061"/>
                <p:cNvSpPr txBox="1"/>
                <p:nvPr/>
              </p:nvSpPr>
              <p:spPr>
                <a:xfrm>
                  <a:off x="3505320" y="2786040"/>
                  <a:ext cx="123804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2062"/>
                <p:cNvSpPr txBox="1"/>
                <p:nvPr/>
              </p:nvSpPr>
              <p:spPr>
                <a:xfrm>
                  <a:off x="7000920" y="3457800"/>
                  <a:ext cx="35244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2064"/>
                <p:cNvSpPr txBox="1"/>
                <p:nvPr/>
              </p:nvSpPr>
              <p:spPr>
                <a:xfrm>
                  <a:off x="2286000" y="3457800"/>
                  <a:ext cx="4554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2065"/>
                <p:cNvSpPr txBox="1"/>
                <p:nvPr/>
              </p:nvSpPr>
              <p:spPr>
                <a:xfrm>
                  <a:off x="5000760" y="3457800"/>
                  <a:ext cx="106668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3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2066"/>
                <p:cNvSpPr txBox="1"/>
                <p:nvPr/>
              </p:nvSpPr>
              <p:spPr>
                <a:xfrm>
                  <a:off x="4786560" y="3071880"/>
                  <a:ext cx="2664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Object 2067"/>
                <p:cNvSpPr txBox="1"/>
                <p:nvPr/>
              </p:nvSpPr>
              <p:spPr>
                <a:xfrm>
                  <a:off x="5286600" y="3071880"/>
                  <a:ext cx="2822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2068"/>
                <p:cNvSpPr txBox="1"/>
                <p:nvPr/>
              </p:nvSpPr>
              <p:spPr>
                <a:xfrm>
                  <a:off x="5857920" y="3071880"/>
                  <a:ext cx="2822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9" name="群組 26"/>
          <p:cNvGrpSpPr/>
          <p:nvPr/>
        </p:nvGrpSpPr>
        <p:grpSpPr>
          <a:xfrm>
            <a:off x="380880" y="3886200"/>
            <a:ext cx="7720200" cy="2745360"/>
            <a:chOff x="380880" y="3886200"/>
            <a:chExt cx="7720200" cy="2745360"/>
          </a:xfrm>
        </p:grpSpPr>
        <p:sp>
          <p:nvSpPr>
            <p:cNvPr id="150" name="Rectangle 2069"/>
            <p:cNvSpPr/>
            <p:nvPr/>
          </p:nvSpPr>
          <p:spPr>
            <a:xfrm>
              <a:off x="380880" y="3886200"/>
              <a:ext cx="2743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解圓心和半徑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2070"/>
            <p:cNvSpPr/>
            <p:nvPr/>
          </p:nvSpPr>
          <p:spPr>
            <a:xfrm>
              <a:off x="960840" y="4267080"/>
              <a:ext cx="7140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、                和                  代入式子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6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2.2.1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2071"/>
                <p:cNvSpPr txBox="1"/>
                <p:nvPr/>
              </p:nvSpPr>
              <p:spPr>
                <a:xfrm>
                  <a:off x="826920" y="4293000"/>
                  <a:ext cx="100188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2072"/>
                <p:cNvSpPr txBox="1"/>
                <p:nvPr/>
              </p:nvSpPr>
              <p:spPr>
                <a:xfrm>
                  <a:off x="2051280" y="4293000"/>
                  <a:ext cx="106488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Object 2073"/>
                <p:cNvSpPr txBox="1"/>
                <p:nvPr/>
              </p:nvSpPr>
              <p:spPr>
                <a:xfrm>
                  <a:off x="3564000" y="4293000"/>
                  <a:ext cx="104580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Object 2074"/>
                <p:cNvSpPr txBox="1"/>
                <p:nvPr/>
              </p:nvSpPr>
              <p:spPr>
                <a:xfrm>
                  <a:off x="1904760" y="4846680"/>
                  <a:ext cx="3581640" cy="12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3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3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3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3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3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3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6" name="Text Box 2075"/>
            <p:cNvSpPr/>
            <p:nvPr/>
          </p:nvSpPr>
          <p:spPr>
            <a:xfrm>
              <a:off x="737280" y="6202440"/>
              <a:ext cx="5563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此處                                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Object 2076"/>
                <p:cNvSpPr txBox="1"/>
                <p:nvPr/>
              </p:nvSpPr>
              <p:spPr>
                <a:xfrm>
                  <a:off x="1425600" y="6237360"/>
                  <a:ext cx="22100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3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3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−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3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−</m:t>
                      </m:r>
                      <m:sSubSup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3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58" name="Text Box 2077"/>
            <p:cNvSpPr/>
            <p:nvPr/>
          </p:nvSpPr>
          <p:spPr>
            <a:xfrm>
              <a:off x="990360" y="525780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Object 2079"/>
                <p:cNvSpPr txBox="1"/>
                <p:nvPr/>
              </p:nvSpPr>
              <p:spPr>
                <a:xfrm>
                  <a:off x="1654200" y="4876920"/>
                  <a:ext cx="326880" cy="121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377B-1B7D-4995-BBE1-B6016ABEDA29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群組 16"/>
          <p:cNvGrpSpPr/>
          <p:nvPr/>
        </p:nvGrpSpPr>
        <p:grpSpPr>
          <a:xfrm>
            <a:off x="457200" y="487440"/>
            <a:ext cx="8218440" cy="6369840"/>
            <a:chOff x="457200" y="487440"/>
            <a:chExt cx="8218440" cy="6369840"/>
          </a:xfrm>
        </p:grpSpPr>
        <mc:AlternateContent>
          <mc:Choice xmlns:a14="http://schemas.microsoft.com/office/drawing/2010/main" Requires="a14">
            <p:sp>
              <p:nvSpPr>
                <p:cNvPr id="162" name="Object 2"/>
                <p:cNvSpPr txBox="1"/>
                <p:nvPr/>
              </p:nvSpPr>
              <p:spPr>
                <a:xfrm>
                  <a:off x="1676160" y="487440"/>
                  <a:ext cx="3276720" cy="105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3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mr>
                            <m:m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mr>
                            <m:m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63" name="Text Box 3"/>
            <p:cNvSpPr/>
            <p:nvPr/>
          </p:nvSpPr>
          <p:spPr>
            <a:xfrm>
              <a:off x="990360" y="79200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4" name="Object 4"/>
                <p:cNvSpPr txBox="1"/>
                <p:nvPr/>
              </p:nvSpPr>
              <p:spPr>
                <a:xfrm>
                  <a:off x="1676160" y="1630440"/>
                  <a:ext cx="548640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3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mr>
                            <m:m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Text Box 5"/>
            <p:cNvSpPr/>
            <p:nvPr/>
          </p:nvSpPr>
          <p:spPr>
            <a:xfrm>
              <a:off x="7596360" y="1965240"/>
              <a:ext cx="1079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6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.2.2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990360" y="196524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457200" y="2773440"/>
              <a:ext cx="6923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得圓心解為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Object 11"/>
                <p:cNvSpPr txBox="1"/>
                <p:nvPr/>
              </p:nvSpPr>
              <p:spPr>
                <a:xfrm>
                  <a:off x="2128680" y="3230640"/>
                  <a:ext cx="4348080" cy="106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|"/>
                              <m:endChr m:val="|"/>
                            </m:dPr>
                            <m:e>
                              <m:m>
                                <m:mr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(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Object 12"/>
                <p:cNvSpPr txBox="1"/>
                <p:nvPr/>
              </p:nvSpPr>
              <p:spPr>
                <a:xfrm>
                  <a:off x="2133360" y="4449960"/>
                  <a:ext cx="4336920" cy="106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|"/>
                              <m:endChr m:val="|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d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(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Text Box 13"/>
            <p:cNvSpPr/>
            <p:nvPr/>
          </p:nvSpPr>
          <p:spPr>
            <a:xfrm>
              <a:off x="7593120" y="5013360"/>
              <a:ext cx="108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6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.2.3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990360" y="414828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Object 16"/>
                <p:cNvSpPr txBox="1"/>
                <p:nvPr/>
              </p:nvSpPr>
              <p:spPr>
                <a:xfrm>
                  <a:off x="1600200" y="3233880"/>
                  <a:ext cx="460080" cy="22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173" name="Text Box 18"/>
            <p:cNvSpPr/>
            <p:nvPr/>
          </p:nvSpPr>
          <p:spPr>
            <a:xfrm>
              <a:off x="457200" y="5592960"/>
              <a:ext cx="6477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進而解得圓半徑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Object 20"/>
                <p:cNvSpPr txBox="1"/>
                <p:nvPr/>
              </p:nvSpPr>
              <p:spPr>
                <a:xfrm>
                  <a:off x="2209680" y="6107400"/>
                  <a:ext cx="3581280" cy="52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3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3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3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75" name="Text Box 21"/>
            <p:cNvSpPr/>
            <p:nvPr/>
          </p:nvSpPr>
          <p:spPr>
            <a:xfrm>
              <a:off x="7593120" y="6093000"/>
              <a:ext cx="108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6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.2.4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7CF9-F689-4F2E-898E-1F48D12E9A6D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群組 28"/>
          <p:cNvGrpSpPr/>
          <p:nvPr/>
        </p:nvGrpSpPr>
        <p:grpSpPr>
          <a:xfrm>
            <a:off x="395280" y="3068640"/>
            <a:ext cx="8640720" cy="2838600"/>
            <a:chOff x="395280" y="3068640"/>
            <a:chExt cx="8640720" cy="2838600"/>
          </a:xfrm>
        </p:grpSpPr>
        <p:graphicFrame>
          <p:nvGraphicFramePr>
            <p:cNvPr id="178" name="Object 20"/>
            <p:cNvGraphicFramePr/>
            <p:nvPr/>
          </p:nvGraphicFramePr>
          <p:xfrm>
            <a:off x="395280" y="3212640"/>
            <a:ext cx="2618640" cy="261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9" name="Object 2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3212640"/>
                      <a:ext cx="2618640" cy="261864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80" name="Object 21"/>
            <p:cNvGraphicFramePr/>
            <p:nvPr/>
          </p:nvGraphicFramePr>
          <p:xfrm>
            <a:off x="4252680" y="3068640"/>
            <a:ext cx="2838960" cy="2838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1" name="Object 2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52680" y="3068640"/>
                      <a:ext cx="2838960" cy="283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22"/>
            <p:cNvSpPr/>
            <p:nvPr/>
          </p:nvSpPr>
          <p:spPr>
            <a:xfrm>
              <a:off x="3059280" y="5292360"/>
              <a:ext cx="115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.2.1</a:t>
              </a:r>
              <a:br>
                <a:rPr sz="1600"/>
              </a:b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數位圖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23"/>
            <p:cNvSpPr/>
            <p:nvPr/>
          </p:nvSpPr>
          <p:spPr>
            <a:xfrm>
              <a:off x="6948000" y="5292360"/>
              <a:ext cx="2088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.2.2 </a:t>
              </a:r>
              <a:br>
                <a:rPr sz="1600"/>
              </a:b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四個抽樣邊點在一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群組 29"/>
          <p:cNvGrpSpPr/>
          <p:nvPr/>
        </p:nvGrpSpPr>
        <p:grpSpPr>
          <a:xfrm>
            <a:off x="539640" y="5877000"/>
            <a:ext cx="6983640" cy="429120"/>
            <a:chOff x="539640" y="5877000"/>
            <a:chExt cx="6983640" cy="429120"/>
          </a:xfrm>
        </p:grpSpPr>
        <p:sp>
          <p:nvSpPr>
            <p:cNvPr id="185" name="Text Box 24"/>
            <p:cNvSpPr/>
            <p:nvPr/>
          </p:nvSpPr>
          <p:spPr>
            <a:xfrm>
              <a:off x="539640" y="5877000"/>
              <a:ext cx="69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若距離值夠小，則     在圓       的邊界上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見圖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6.2.2.2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Object 25"/>
                <p:cNvSpPr txBox="1"/>
                <p:nvPr/>
              </p:nvSpPr>
              <p:spPr>
                <a:xfrm>
                  <a:off x="3780000" y="5877000"/>
                  <a:ext cx="480960" cy="39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Object 26"/>
                <p:cNvSpPr txBox="1"/>
                <p:nvPr/>
              </p:nvSpPr>
              <p:spPr>
                <a:xfrm>
                  <a:off x="2916000" y="5877000"/>
                  <a:ext cx="282240" cy="38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8" name="群組 27"/>
          <p:cNvGrpSpPr/>
          <p:nvPr/>
        </p:nvGrpSpPr>
        <p:grpSpPr>
          <a:xfrm>
            <a:off x="380880" y="533520"/>
            <a:ext cx="8439120" cy="3062160"/>
            <a:chOff x="380880" y="533520"/>
            <a:chExt cx="8439120" cy="3062160"/>
          </a:xfrm>
        </p:grpSpPr>
        <p:sp>
          <p:nvSpPr>
            <p:cNvPr id="189" name="Rectangle 2"/>
            <p:cNvSpPr/>
            <p:nvPr/>
          </p:nvSpPr>
          <p:spPr>
            <a:xfrm>
              <a:off x="380880" y="5335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、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和      共線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群組 26"/>
            <p:cNvGrpSpPr/>
            <p:nvPr/>
          </p:nvGrpSpPr>
          <p:grpSpPr>
            <a:xfrm>
              <a:off x="803880" y="533520"/>
              <a:ext cx="1425600" cy="396720"/>
              <a:chOff x="803880" y="533520"/>
              <a:chExt cx="1425600" cy="396720"/>
            </a:xfrm>
          </p:grpSpPr>
          <mc:AlternateContent>
            <mc:Choice xmlns:a14="http://schemas.microsoft.com/office/drawing/2010/main" Requires="a14">
              <p:sp>
                <p:nvSpPr>
                  <p:cNvPr id="191" name="Object 4"/>
                  <p:cNvSpPr txBox="1"/>
                  <p:nvPr/>
                </p:nvSpPr>
                <p:spPr>
                  <a:xfrm>
                    <a:off x="803880" y="533520"/>
                    <a:ext cx="26676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2" name="Object 5"/>
                  <p:cNvSpPr txBox="1"/>
                  <p:nvPr/>
                </p:nvSpPr>
                <p:spPr>
                  <a:xfrm>
                    <a:off x="1337400" y="533520"/>
                    <a:ext cx="28260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3" name="Object 6"/>
                  <p:cNvSpPr txBox="1"/>
                  <p:nvPr/>
                </p:nvSpPr>
                <p:spPr>
                  <a:xfrm>
                    <a:off x="1946880" y="533520"/>
                    <a:ext cx="282600" cy="39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94" name="Text Box 7"/>
            <p:cNvSpPr/>
            <p:nvPr/>
          </p:nvSpPr>
          <p:spPr>
            <a:xfrm>
              <a:off x="456840" y="914400"/>
              <a:ext cx="836316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若所選定的三個邊點不幸滿足等式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-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 y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=0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則意謂被隨機挑選的三個邊點   、    和     為共線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Object 9"/>
                <p:cNvSpPr txBox="1"/>
                <p:nvPr/>
              </p:nvSpPr>
              <p:spPr>
                <a:xfrm>
                  <a:off x="4414680" y="1247760"/>
                  <a:ext cx="2822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Object 10"/>
                <p:cNvSpPr txBox="1"/>
                <p:nvPr/>
              </p:nvSpPr>
              <p:spPr>
                <a:xfrm>
                  <a:off x="5003640" y="1271520"/>
                  <a:ext cx="2822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Text Box 11"/>
            <p:cNvSpPr/>
            <p:nvPr/>
          </p:nvSpPr>
          <p:spPr>
            <a:xfrm>
              <a:off x="607320" y="1585440"/>
              <a:ext cx="79250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至圓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23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的距離為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Object 12"/>
                <p:cNvSpPr txBox="1"/>
                <p:nvPr/>
              </p:nvSpPr>
              <p:spPr>
                <a:xfrm>
                  <a:off x="617760" y="1657440"/>
                  <a:ext cx="12603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Object 15"/>
                <p:cNvSpPr txBox="1"/>
                <p:nvPr/>
              </p:nvSpPr>
              <p:spPr>
                <a:xfrm>
                  <a:off x="1796760" y="2277000"/>
                  <a:ext cx="4132080" cy="58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4</m:t>
                          </m:r>
                          <m:r>
                            <m:t xml:space="preserve">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3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3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00" name="Text Box 16"/>
            <p:cNvSpPr/>
            <p:nvPr/>
          </p:nvSpPr>
          <p:spPr>
            <a:xfrm>
              <a:off x="7668360" y="2277000"/>
              <a:ext cx="1079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6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.2.5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17"/>
            <p:cNvSpPr/>
            <p:nvPr/>
          </p:nvSpPr>
          <p:spPr>
            <a:xfrm>
              <a:off x="456840" y="3168720"/>
              <a:ext cx="5562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Object 28"/>
                <p:cNvSpPr txBox="1"/>
                <p:nvPr/>
              </p:nvSpPr>
              <p:spPr>
                <a:xfrm>
                  <a:off x="3924000" y="1247760"/>
                  <a:ext cx="2664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AF38-2544-4FE2-88EC-B0AA2EF2C39B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群組 21"/>
          <p:cNvGrpSpPr/>
          <p:nvPr/>
        </p:nvGrpSpPr>
        <p:grpSpPr>
          <a:xfrm>
            <a:off x="457200" y="533520"/>
            <a:ext cx="8291520" cy="3127320"/>
            <a:chOff x="457200" y="533520"/>
            <a:chExt cx="8291520" cy="3127320"/>
          </a:xfrm>
        </p:grpSpPr>
        <p:sp>
          <p:nvSpPr>
            <p:cNvPr id="205" name="Text Box 2"/>
            <p:cNvSpPr/>
            <p:nvPr/>
          </p:nvSpPr>
          <p:spPr>
            <a:xfrm>
              <a:off x="457200" y="533520"/>
              <a:ext cx="815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給四個隨機邊點              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 1, 2, 3, 4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這四個邊點至多造成四個圓。其中由   、    和    造成的圓表為      且其圓心與半徑表示為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2"/>
                <p:cNvSpPr txBox="1"/>
                <p:nvPr/>
              </p:nvSpPr>
              <p:spPr>
                <a:xfrm>
                  <a:off x="2606760" y="609480"/>
                  <a:ext cx="120312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Object 3"/>
                <p:cNvSpPr txBox="1"/>
                <p:nvPr/>
              </p:nvSpPr>
              <p:spPr>
                <a:xfrm>
                  <a:off x="2286000" y="914400"/>
                  <a:ext cx="24444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Object 4"/>
                <p:cNvSpPr txBox="1"/>
                <p:nvPr/>
              </p:nvSpPr>
              <p:spPr>
                <a:xfrm>
                  <a:off x="2666880" y="914400"/>
                  <a:ext cx="2602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Object 5"/>
                <p:cNvSpPr txBox="1"/>
                <p:nvPr/>
              </p:nvSpPr>
              <p:spPr>
                <a:xfrm>
                  <a:off x="3322800" y="914400"/>
                  <a:ext cx="25848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6"/>
                <p:cNvSpPr txBox="1"/>
                <p:nvPr/>
              </p:nvSpPr>
              <p:spPr>
                <a:xfrm>
                  <a:off x="5257800" y="914400"/>
                  <a:ext cx="4111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7"/>
                <p:cNvSpPr txBox="1"/>
                <p:nvPr/>
              </p:nvSpPr>
              <p:spPr>
                <a:xfrm>
                  <a:off x="2879640" y="1219320"/>
                  <a:ext cx="24444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Object 9"/>
                <p:cNvSpPr txBox="1"/>
                <p:nvPr/>
              </p:nvSpPr>
              <p:spPr>
                <a:xfrm>
                  <a:off x="533160" y="1219320"/>
                  <a:ext cx="9604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Object 10"/>
                <p:cNvSpPr txBox="1"/>
                <p:nvPr/>
              </p:nvSpPr>
              <p:spPr>
                <a:xfrm>
                  <a:off x="1904760" y="1219320"/>
                  <a:ext cx="3063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4" name="Object 11"/>
                <p:cNvSpPr txBox="1"/>
                <p:nvPr/>
              </p:nvSpPr>
              <p:spPr>
                <a:xfrm>
                  <a:off x="2209680" y="1981800"/>
                  <a:ext cx="434340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l</m:t>
                          </m:r>
                          <m:r>
                            <m:t xml:space="preserve">→</m:t>
                          </m:r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k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k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k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15" name="Text Box 13"/>
            <p:cNvSpPr/>
            <p:nvPr/>
          </p:nvSpPr>
          <p:spPr>
            <a:xfrm>
              <a:off x="457200" y="2565360"/>
              <a:ext cx="829152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給四個點，共有           個可能的圓需進一步檢查來決定誰是候選圓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12"/>
                <p:cNvSpPr txBox="1"/>
                <p:nvPr/>
              </p:nvSpPr>
              <p:spPr>
                <a:xfrm>
                  <a:off x="3733920" y="1219320"/>
                  <a:ext cx="4111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Text Box 15"/>
            <p:cNvSpPr/>
            <p:nvPr/>
          </p:nvSpPr>
          <p:spPr>
            <a:xfrm>
              <a:off x="7380720" y="2057760"/>
              <a:ext cx="1079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6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2.2.6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16"/>
            <p:cNvSpPr/>
            <p:nvPr/>
          </p:nvSpPr>
          <p:spPr>
            <a:xfrm>
              <a:off x="457200" y="1187640"/>
              <a:ext cx="804420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和      。令     到圓       的距離為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Object 13"/>
                <p:cNvSpPr txBox="1"/>
                <p:nvPr/>
              </p:nvSpPr>
              <p:spPr>
                <a:xfrm>
                  <a:off x="2483640" y="2971800"/>
                  <a:ext cx="761760" cy="68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4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3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0" name="群組 22"/>
          <p:cNvGrpSpPr/>
          <p:nvPr/>
        </p:nvGrpSpPr>
        <p:grpSpPr>
          <a:xfrm>
            <a:off x="380880" y="4114800"/>
            <a:ext cx="8223480" cy="2439360"/>
            <a:chOff x="380880" y="4114800"/>
            <a:chExt cx="8223480" cy="2439360"/>
          </a:xfrm>
        </p:grpSpPr>
        <p:sp>
          <p:nvSpPr>
            <p:cNvPr id="221" name="Rectangle 18"/>
            <p:cNvSpPr/>
            <p:nvPr/>
          </p:nvSpPr>
          <p:spPr>
            <a:xfrm>
              <a:off x="380880" y="411480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不理想的情形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2" name="Object 14"/>
            <p:cNvGraphicFramePr/>
            <p:nvPr/>
          </p:nvGraphicFramePr>
          <p:xfrm>
            <a:off x="6477120" y="4267080"/>
            <a:ext cx="1876320" cy="187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3" name="Object 1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77120" y="4267080"/>
                      <a:ext cx="1876320" cy="187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4" name="Text Box 20"/>
            <p:cNvSpPr/>
            <p:nvPr/>
          </p:nvSpPr>
          <p:spPr>
            <a:xfrm>
              <a:off x="456840" y="4495680"/>
              <a:ext cx="586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這種不理想的情形是發生在三個</a:t>
              </a:r>
              <a:r>
                <a:rPr b="1" lang="zh-TW" sz="2200" spc="-1" strike="noStrike">
                  <a:solidFill>
                    <a:srgbClr val="666699"/>
                  </a:solidFill>
                  <a:latin typeface="Times New Roman"/>
                </a:rPr>
                <a:t>代理點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中有二點很接近。我們希望任二個代理點之間的距離得超過一個門檻值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21"/>
            <p:cNvSpPr/>
            <p:nvPr/>
          </p:nvSpPr>
          <p:spPr>
            <a:xfrm>
              <a:off x="6372360" y="6216840"/>
              <a:ext cx="22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.2.3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不理想的情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DCEB-D9EA-4FCB-BB9A-077190BDA1E3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46040" y="1341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範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：給定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個邊點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,0)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,6)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,10)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，在進行隨機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式測圓法來決定可能圓的過程中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請判斷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個邊點是否可以形成一個可能圓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請求出此可能圓的圓心與半徑，並詳述其計算過程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解答：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. 215-21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4:48:03Z</dcterms:created>
  <dc:creator/>
  <dc:description/>
  <dc:language>en-US</dc:language>
  <cp:lastModifiedBy>Mirrorchiu</cp:lastModifiedBy>
  <dcterms:modified xsi:type="dcterms:W3CDTF">2012-05-02T02:39:32Z</dcterms:modified>
  <cp:revision>323</cp:revision>
  <dc:subject/>
  <dc:title>第六章 圓與橢圓偵測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