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media/image28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18.png" ContentType="image/png"/>
  <Override PartName="/ppt/media/image20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53.png" ContentType="image/png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12.wmf" ContentType="image/x-wmf"/>
  <Override PartName="/ppt/media/image35.wmf" ContentType="image/x-wmf"/>
  <Override PartName="/ppt/media/image41.wmf" ContentType="image/x-wmf"/>
  <Override PartName="/ppt/media/image30.wmf" ContentType="image/x-wmf"/>
  <Override PartName="/ppt/media/image43.png" ContentType="image/png"/>
  <Override PartName="/ppt/media/image44.png" ContentType="image/png"/>
  <Override PartName="/ppt/media/image45.wmf" ContentType="image/x-wmf"/>
  <Override PartName="/ppt/media/image47.wmf" ContentType="image/x-wmf"/>
  <Override PartName="/ppt/media/image10.wmf" ContentType="image/x-wmf"/>
  <Override PartName="/ppt/media/image46.wmf" ContentType="image/x-wmf"/>
  <Override PartName="/ppt/media/image42.jpeg" ContentType="image/jpeg"/>
  <Override PartName="/ppt/media/image39.wmf" ContentType="image/x-wmf"/>
  <Override PartName="/ppt/media/image9.wmf" ContentType="image/x-wmf"/>
  <Override PartName="/ppt/media/image40.wmf" ContentType="image/x-wmf"/>
  <Override PartName="/ppt/media/image49.png" ContentType="image/png"/>
  <Override PartName="/ppt/media/image52.wmf" ContentType="image/x-wmf"/>
  <Override PartName="/ppt/media/image51.wmf" ContentType="image/x-wmf"/>
  <Override PartName="/ppt/media/image13.wmf" ContentType="image/x-wmf"/>
  <Override PartName="/ppt/media/image5.png" ContentType="image/png"/>
  <Override PartName="/ppt/media/image38.wmf" ContentType="image/x-wmf"/>
  <Override PartName="/ppt/media/image8.wmf" ContentType="image/x-wmf"/>
  <Override PartName="/ppt/media/image11.wmf" ContentType="image/x-wmf"/>
  <Override PartName="/ppt/media/image48.wmf" ContentType="image/x-wmf"/>
  <Override PartName="/ppt/media/image50.png" ContentType="image/png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BF3F6-3287-42C1-B09C-7DD69A394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04862-2DDE-4D0E-A802-8ED21E48E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7A757-8D5F-476F-98DF-768A0F972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2565E-B989-40C1-90F5-C72ECA7ED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67982-8A53-4F6D-836D-D9389D8E0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F9F0B-A87C-4FA3-8340-F54453DC8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B94D6-74F7-4566-B600-C3CC36B95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02A6C-B2F8-4A39-90E0-689A3D71B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96E03-B122-4D06-A3DD-1D189AA33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219FF-94EB-4905-B0A3-343B5ECB3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7AA47-6841-4F6E-9DA1-80152E2B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20D38-3C2C-4090-ABA9-F3537EFA4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36A81-441B-427E-9B2E-C86453E7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C020A-A006-451F-BB09-05D23FC7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436FD-0CE2-48A9-92DC-14A18C99C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E89B7-526C-421F-B848-4F4A6B0C5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9E3ED-3E32-491A-A1B5-A836A5009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019B0-A96B-4F9E-BB65-70A367C1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E1375-E9F7-4646-90D1-F06A95EDC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59E16-35FB-4BB3-872D-9D1B6205B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EB75E-0F7C-461F-A214-AE6465426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4175A-FE5E-47FA-A002-7CC7994A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4CF68-69BE-4BE7-851B-3448F0DE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0D062-F7B8-454D-9C97-3AC6B8A1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67D83-91C3-4FF2-B2C9-3BBD24C5ADBC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02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1027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028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1029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1030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1031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1032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33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34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035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036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037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038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039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FD764-2C6D-45FD-9B35-5A76EC041B31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3.wmf"/><Relationship Id="rId2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04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629BB-AA42-44CC-836B-454B9DFA185F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65000" y="1866960"/>
            <a:ext cx="74437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300" spc="-1" strike="noStrike">
                <a:solidFill>
                  <a:srgbClr val="ffffff"/>
                </a:solidFill>
                <a:latin typeface="Arial"/>
              </a:rPr>
              <a:t>第五章</a:t>
            </a:r>
            <a:br>
              <a:rPr sz="4300"/>
            </a:br>
            <a:r>
              <a:rPr b="1" lang="zh-TW" sz="4300" spc="-1" strike="noStrike">
                <a:solidFill>
                  <a:srgbClr val="ffffff"/>
                </a:solidFill>
                <a:latin typeface="Arial"/>
              </a:rPr>
              <a:t>直線與道路偵測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投影片編號版面配置區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A1268-A437-44C6-83D9-FD74ED01A1F9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Object 12"/>
          <p:cNvGraphicFramePr/>
          <p:nvPr/>
        </p:nvGraphicFramePr>
        <p:xfrm>
          <a:off x="1042920" y="1000080"/>
          <a:ext cx="6672240" cy="485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000080"/>
                    <a:ext cx="667224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投影片編號版面配置區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14EEE-B15F-41E7-9979-5D6E9A91A3F3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12"/>
          <p:cNvGraphicFramePr/>
          <p:nvPr/>
        </p:nvGraphicFramePr>
        <p:xfrm>
          <a:off x="1236600" y="1201680"/>
          <a:ext cx="6672240" cy="44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6600" y="1201680"/>
                    <a:ext cx="6672240" cy="44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投影片編號版面配置區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E0FD4-B375-4E14-A93F-E6335AD77F98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Object 12"/>
          <p:cNvGraphicFramePr/>
          <p:nvPr/>
        </p:nvGraphicFramePr>
        <p:xfrm>
          <a:off x="785880" y="1643040"/>
          <a:ext cx="7689960" cy="385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880" y="1643040"/>
                    <a:ext cx="7689960" cy="38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投影片編號版面配置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634B5-CFB0-4D03-8E70-23BE3B9AB995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5.3 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霍式轉換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1532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新細明體"/>
              </a:rPr>
              <a:t>霍式轉換法的精神為將   </a:t>
            </a:r>
            <a:r>
              <a:rPr b="0" lang="en-US" sz="2200" spc="-1" strike="noStrike">
                <a:solidFill>
                  <a:srgbClr val="000000"/>
                </a:solidFill>
                <a:latin typeface="新細明體"/>
              </a:rPr>
              <a:t>-</a:t>
            </a:r>
            <a:r>
              <a:rPr b="0" lang="zh-TW" sz="2200" spc="-1" strike="noStrike">
                <a:solidFill>
                  <a:srgbClr val="000000"/>
                </a:solidFill>
                <a:latin typeface="新細明體"/>
              </a:rPr>
              <a:t>    </a:t>
            </a:r>
            <a:r>
              <a:rPr b="0" lang="zh-TW" sz="2200" spc="-1" strike="noStrike">
                <a:solidFill>
                  <a:srgbClr val="000000"/>
                </a:solidFill>
                <a:latin typeface="新細明體"/>
              </a:rPr>
              <a:t>空間轉換成   </a:t>
            </a:r>
            <a:r>
              <a:rPr b="0" lang="en-US" sz="2200" spc="-1" strike="noStrike">
                <a:solidFill>
                  <a:srgbClr val="000000"/>
                </a:solidFill>
                <a:latin typeface="新細明體"/>
              </a:rPr>
              <a:t>-</a:t>
            </a:r>
            <a:r>
              <a:rPr b="0" lang="zh-TW" sz="2200" spc="-1" strike="noStrike">
                <a:solidFill>
                  <a:srgbClr val="000000"/>
                </a:solidFill>
                <a:latin typeface="新細明體"/>
              </a:rPr>
              <a:t>    </a:t>
            </a:r>
            <a:r>
              <a:rPr b="1" lang="zh-TW" sz="2200" spc="-1" strike="noStrike">
                <a:solidFill>
                  <a:srgbClr val="666699"/>
                </a:solidFill>
                <a:latin typeface="新細明體"/>
              </a:rPr>
              <a:t>參數空間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er Space)</a:t>
            </a:r>
            <a:r>
              <a:rPr b="0" lang="en-US" sz="2200" spc="-1" strike="noStrike">
                <a:solidFill>
                  <a:srgbClr val="000000"/>
                </a:solidFill>
                <a:latin typeface="新細明體"/>
              </a:rPr>
              <a:t>，</a:t>
            </a:r>
            <a:r>
              <a:rPr b="0" lang="zh-TW" sz="2200" spc="-1" strike="noStrike">
                <a:solidFill>
                  <a:srgbClr val="000000"/>
                </a:solidFill>
                <a:latin typeface="新細明體"/>
              </a:rPr>
              <a:t>即所謂的</a:t>
            </a:r>
            <a:r>
              <a:rPr b="1" lang="zh-TW" sz="2200" spc="-1" strike="noStrike">
                <a:solidFill>
                  <a:srgbClr val="666699"/>
                </a:solidFill>
                <a:latin typeface="新細明體"/>
              </a:rPr>
              <a:t>法距－法角空間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Distance - Normal Angle Space)</a:t>
            </a:r>
            <a:r>
              <a:rPr b="0" lang="en-US" sz="2200" spc="-1" strike="noStrike">
                <a:solidFill>
                  <a:srgbClr val="000000"/>
                </a:solidFill>
                <a:latin typeface="新細明體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群組 40"/>
          <p:cNvGrpSpPr/>
          <p:nvPr/>
        </p:nvGrpSpPr>
        <p:grpSpPr>
          <a:xfrm>
            <a:off x="820800" y="1843200"/>
            <a:ext cx="7942680" cy="4752000"/>
            <a:chOff x="820800" y="1843200"/>
            <a:chExt cx="7942680" cy="4752000"/>
          </a:xfrm>
        </p:grpSpPr>
        <p:graphicFrame>
          <p:nvGraphicFramePr>
            <p:cNvPr id="207" name="Object 166"/>
            <p:cNvGraphicFramePr/>
            <p:nvPr/>
          </p:nvGraphicFramePr>
          <p:xfrm>
            <a:off x="5328000" y="2514960"/>
            <a:ext cx="3435480" cy="3476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8" name="Object 16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28000" y="2514960"/>
                      <a:ext cx="3435480" cy="347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9" name="Text Box 6"/>
            <p:cNvSpPr/>
            <p:nvPr/>
          </p:nvSpPr>
          <p:spPr>
            <a:xfrm>
              <a:off x="5577120" y="6020280"/>
              <a:ext cx="293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圖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.1</a:t>
              </a:r>
              <a:r>
                <a:rPr b="0" lang="zh-TW" sz="1600" spc="-1" strike="noStrike">
                  <a:solidFill>
                    <a:srgbClr val="000000"/>
                  </a:solidFill>
                  <a:latin typeface="新細明體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 -    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空間和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空間的關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10" name="Object 167"/>
            <p:cNvGraphicFramePr/>
            <p:nvPr/>
          </p:nvGraphicFramePr>
          <p:xfrm>
            <a:off x="3651120" y="1866960"/>
            <a:ext cx="244800" cy="257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1" name="Object 16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651120" y="1866960"/>
                      <a:ext cx="244800" cy="25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212" name="Object 168"/>
                <p:cNvSpPr txBox="1"/>
                <p:nvPr/>
              </p:nvSpPr>
              <p:spPr>
                <a:xfrm>
                  <a:off x="5694840" y="1872360"/>
                  <a:ext cx="214200" cy="27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3" name="Object 169"/>
                <p:cNvSpPr txBox="1"/>
                <p:nvPr/>
              </p:nvSpPr>
              <p:spPr>
                <a:xfrm>
                  <a:off x="1314360" y="3962880"/>
                  <a:ext cx="171288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θ</m:t>
                      </m:r>
                      <m:r>
                        <m:t xml:space="preserve">=</m:t>
                      </m:r>
                      <m:bar>
                        <m:barPr>
                          <m:pos m:val="top"/>
                        </m:barPr>
                        <m:e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4" name="Object 170"/>
                <p:cNvSpPr txBox="1"/>
                <p:nvPr/>
              </p:nvSpPr>
              <p:spPr>
                <a:xfrm>
                  <a:off x="1333440" y="4877280"/>
                  <a:ext cx="239904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rPr>
                              <m:lit/>
                              <m:nor/>
                            </m:rPr>
                            <m:t xml:space="preserve">OB</m:t>
                          </m:r>
                        </m:e>
                      </m:bar>
                      <m:r>
                        <m:t xml:space="preserve">=</m:t>
                      </m:r>
                      <m:bar>
                        <m:barPr>
                          <m:pos m:val="top"/>
                        </m:barPr>
                        <m:e>
                          <m:r>
                            <m:rPr>
                              <m:lit/>
                              <m:nor/>
                            </m:rPr>
                            <m:t xml:space="preserve">OE</m:t>
                          </m:r>
                        </m:e>
                      </m:ba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θ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5" name="Object 171"/>
                <p:cNvSpPr txBox="1"/>
                <p:nvPr/>
              </p:nvSpPr>
              <p:spPr>
                <a:xfrm>
                  <a:off x="820800" y="5868000"/>
                  <a:ext cx="309600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  <m:r>
                        <m:t xml:space="preserve">=</m:t>
                      </m:r>
                      <m:bar>
                        <m:barPr>
                          <m:pos m:val="top"/>
                        </m:barPr>
                        <m:e>
                          <m:r>
                            <m:rPr>
                              <m:lit/>
                              <m:nor/>
                            </m:rPr>
                            <m:t xml:space="preserve">OB</m:t>
                          </m:r>
                        </m:e>
                      </m:bar>
                      <m:r>
                        <m:t xml:space="preserve">+</m:t>
                      </m:r>
                      <m:bar>
                        <m:barPr>
                          <m:pos m:val="top"/>
                        </m:barPr>
                        <m:e>
                          <m:r>
                            <m:rPr>
                              <m:lit/>
                              <m:nor/>
                            </m:rPr>
                            <m:t xml:space="preserve">BA</m:t>
                          </m:r>
                        </m:e>
                      </m:bar>
                      <m:r>
                        <m:t xml:space="preserve">=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θ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216" name="Group 26"/>
            <p:cNvGrpSpPr/>
            <p:nvPr/>
          </p:nvGrpSpPr>
          <p:grpSpPr>
            <a:xfrm>
              <a:off x="933480" y="3048120"/>
              <a:ext cx="1952640" cy="429120"/>
              <a:chOff x="933480" y="3048120"/>
              <a:chExt cx="1952640" cy="429120"/>
            </a:xfrm>
          </p:grpSpPr>
          <mc:AlternateContent>
            <mc:Choice xmlns:a14="http://schemas.microsoft.com/office/drawing/2010/main" Requires="a14">
              <p:sp>
                <p:nvSpPr>
                  <p:cNvPr id="217" name="Object 172"/>
                  <p:cNvSpPr txBox="1"/>
                  <p:nvPr/>
                </p:nvSpPr>
                <p:spPr>
                  <a:xfrm>
                    <a:off x="2066760" y="3085920"/>
                    <a:ext cx="819360" cy="367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e>
                        </m:bar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18" name="Object 173"/>
                  <p:cNvSpPr txBox="1"/>
                  <p:nvPr/>
                </p:nvSpPr>
                <p:spPr>
                  <a:xfrm>
                    <a:off x="933480" y="3085920"/>
                    <a:ext cx="824040" cy="367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E</m:t>
                            </m:r>
                          </m:e>
                        </m:ba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19" name="Text Box 24"/>
              <p:cNvSpPr/>
              <p:nvPr/>
            </p:nvSpPr>
            <p:spPr>
              <a:xfrm>
                <a:off x="1733760" y="304812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200" spc="-1" strike="noStrike">
                    <a:solidFill>
                      <a:srgbClr val="000000"/>
                    </a:solidFill>
                    <a:latin typeface="Arial"/>
                  </a:rPr>
                  <a:t>，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" name="Group 27"/>
            <p:cNvGrpSpPr/>
            <p:nvPr/>
          </p:nvGrpSpPr>
          <p:grpSpPr>
            <a:xfrm>
              <a:off x="1159200" y="3505680"/>
              <a:ext cx="2145960" cy="429120"/>
              <a:chOff x="1159200" y="3505680"/>
              <a:chExt cx="2145960" cy="429120"/>
            </a:xfrm>
          </p:grpSpPr>
          <mc:AlternateContent>
            <mc:Choice xmlns:a14="http://schemas.microsoft.com/office/drawing/2010/main" Requires="a14">
              <p:sp>
                <p:nvSpPr>
                  <p:cNvPr id="221" name="Object 174"/>
                  <p:cNvSpPr txBox="1"/>
                  <p:nvPr/>
                </p:nvSpPr>
                <p:spPr>
                  <a:xfrm>
                    <a:off x="2600280" y="3581640"/>
                    <a:ext cx="704880" cy="279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CDE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22" name="Text Box 25"/>
              <p:cNvSpPr/>
              <p:nvPr/>
            </p:nvSpPr>
            <p:spPr>
              <a:xfrm>
                <a:off x="1159200" y="3505680"/>
                <a:ext cx="11865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200" spc="-1" strike="noStrike">
                    <a:solidFill>
                      <a:srgbClr val="000000"/>
                    </a:solidFill>
                    <a:latin typeface="新細明體"/>
                  </a:rPr>
                  <a:t>由直角三角形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Text Box 28"/>
            <p:cNvSpPr/>
            <p:nvPr/>
          </p:nvSpPr>
          <p:spPr>
            <a:xfrm>
              <a:off x="838080" y="3962880"/>
              <a:ext cx="609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Group 30"/>
            <p:cNvGrpSpPr/>
            <p:nvPr/>
          </p:nvGrpSpPr>
          <p:grpSpPr>
            <a:xfrm>
              <a:off x="1159200" y="4410360"/>
              <a:ext cx="2134800" cy="429120"/>
              <a:chOff x="1159200" y="4410360"/>
              <a:chExt cx="2134800" cy="429120"/>
            </a:xfrm>
          </p:grpSpPr>
          <mc:AlternateContent>
            <mc:Choice xmlns:a14="http://schemas.microsoft.com/office/drawing/2010/main" Requires="a14">
              <p:sp>
                <p:nvSpPr>
                  <p:cNvPr id="225" name="Object 175"/>
                  <p:cNvSpPr txBox="1"/>
                  <p:nvPr/>
                </p:nvSpPr>
                <p:spPr>
                  <a:xfrm>
                    <a:off x="2610000" y="4496040"/>
                    <a:ext cx="684000" cy="279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OBE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26" name="Text Box 29"/>
              <p:cNvSpPr/>
              <p:nvPr/>
            </p:nvSpPr>
            <p:spPr>
              <a:xfrm>
                <a:off x="1159200" y="4410360"/>
                <a:ext cx="11865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200" spc="-1" strike="noStrike">
                    <a:solidFill>
                      <a:srgbClr val="000000"/>
                    </a:solidFill>
                    <a:latin typeface="新細明體"/>
                  </a:rPr>
                  <a:t>由直角三角形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Text Box 31"/>
            <p:cNvSpPr/>
            <p:nvPr/>
          </p:nvSpPr>
          <p:spPr>
            <a:xfrm>
              <a:off x="838080" y="4831200"/>
              <a:ext cx="609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33"/>
            <p:cNvSpPr/>
            <p:nvPr/>
          </p:nvSpPr>
          <p:spPr>
            <a:xfrm>
              <a:off x="1999080" y="5574600"/>
              <a:ext cx="51552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AutoShape 34"/>
            <p:cNvSpPr/>
            <p:nvPr/>
          </p:nvSpPr>
          <p:spPr>
            <a:xfrm rot="16174200">
              <a:off x="2133360" y="4036680"/>
              <a:ext cx="299880" cy="2741760"/>
            </a:xfrm>
            <a:custGeom>
              <a:avLst/>
              <a:gdLst>
                <a:gd name="textAreaLeft" fmla="*/ 191520 w 299880"/>
                <a:gd name="textAreaRight" fmla="*/ 300240 w 299880"/>
                <a:gd name="textAreaTop" fmla="*/ 71280 h 2741760"/>
                <a:gd name="textAreaBottom" fmla="*/ 2670480 h 274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35"/>
            <p:cNvSpPr/>
            <p:nvPr/>
          </p:nvSpPr>
          <p:spPr>
            <a:xfrm>
              <a:off x="3493440" y="6166080"/>
              <a:ext cx="927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(5.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3.1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1" name="Object 176"/>
                <p:cNvSpPr txBox="1"/>
                <p:nvPr/>
              </p:nvSpPr>
              <p:spPr>
                <a:xfrm>
                  <a:off x="3985920" y="1889280"/>
                  <a:ext cx="252000" cy="28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2" name="Object 177"/>
                <p:cNvSpPr txBox="1"/>
                <p:nvPr/>
              </p:nvSpPr>
              <p:spPr>
                <a:xfrm>
                  <a:off x="5983200" y="1843200"/>
                  <a:ext cx="214200" cy="29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3" name="Object 178"/>
                <p:cNvSpPr txBox="1"/>
                <p:nvPr/>
              </p:nvSpPr>
              <p:spPr>
                <a:xfrm>
                  <a:off x="6013800" y="6100560"/>
                  <a:ext cx="214200" cy="22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4" name="Object 179"/>
                <p:cNvSpPr txBox="1"/>
                <p:nvPr/>
              </p:nvSpPr>
              <p:spPr>
                <a:xfrm>
                  <a:off x="6228720" y="6092280"/>
                  <a:ext cx="236520" cy="26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5" name="Object 180"/>
                <p:cNvSpPr txBox="1"/>
                <p:nvPr/>
              </p:nvSpPr>
              <p:spPr>
                <a:xfrm>
                  <a:off x="7129080" y="6120360"/>
                  <a:ext cx="184680" cy="23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6" name="Object 181"/>
                <p:cNvSpPr txBox="1"/>
                <p:nvPr/>
              </p:nvSpPr>
              <p:spPr>
                <a:xfrm>
                  <a:off x="7419240" y="6091200"/>
                  <a:ext cx="184680" cy="25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投影片編號版面配置區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282CF-29C0-4F69-BA42-66E23CF7579D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Object 158"/>
          <p:cNvGraphicFramePr/>
          <p:nvPr/>
        </p:nvGraphicFramePr>
        <p:xfrm>
          <a:off x="4710240" y="3519360"/>
          <a:ext cx="3979800" cy="291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Object 15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0240" y="3519360"/>
                    <a:ext cx="3979800" cy="29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0" name="群組 21"/>
          <p:cNvGrpSpPr/>
          <p:nvPr/>
        </p:nvGrpSpPr>
        <p:grpSpPr>
          <a:xfrm>
            <a:off x="571680" y="574560"/>
            <a:ext cx="7503480" cy="6087600"/>
            <a:chOff x="571680" y="574560"/>
            <a:chExt cx="7503480" cy="6087600"/>
          </a:xfrm>
        </p:grpSpPr>
        <p:sp>
          <p:nvSpPr>
            <p:cNvPr id="241" name="Text Box 40"/>
            <p:cNvSpPr/>
            <p:nvPr/>
          </p:nvSpPr>
          <p:spPr>
            <a:xfrm>
              <a:off x="1019160" y="3657600"/>
              <a:ext cx="3827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(2,1)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、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(1,2)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和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(0,3)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為共線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4"/>
            <p:cNvSpPr/>
            <p:nvPr/>
          </p:nvSpPr>
          <p:spPr>
            <a:xfrm>
              <a:off x="5930280" y="6324840"/>
              <a:ext cx="2144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圖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.2           </a:t>
              </a:r>
              <a:r>
                <a:rPr b="0" lang="zh-TW" sz="1600" spc="-1" strike="noStrike">
                  <a:solidFill>
                    <a:srgbClr val="000000"/>
                  </a:solidFill>
                  <a:latin typeface="新細明體"/>
                </a:rPr>
                <a:t>的影像小例子</a:t>
              </a:r>
              <a:r>
                <a:rPr b="0" lang="zh-TW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3" name="Object 159"/>
                <p:cNvSpPr txBox="1"/>
                <p:nvPr/>
              </p:nvSpPr>
              <p:spPr>
                <a:xfrm>
                  <a:off x="6491520" y="6380280"/>
                  <a:ext cx="457200" cy="23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×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4" name="Object 160"/>
                <p:cNvSpPr txBox="1"/>
                <p:nvPr/>
              </p:nvSpPr>
              <p:spPr>
                <a:xfrm>
                  <a:off x="4191120" y="1676160"/>
                  <a:ext cx="936360" cy="63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5" name="Object 161"/>
                <p:cNvSpPr txBox="1"/>
                <p:nvPr/>
              </p:nvSpPr>
              <p:spPr>
                <a:xfrm>
                  <a:off x="4221360" y="2819160"/>
                  <a:ext cx="228924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3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3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grpSp>
          <p:nvGrpSpPr>
            <p:cNvPr id="246" name="Group 30"/>
            <p:cNvGrpSpPr/>
            <p:nvPr/>
          </p:nvGrpSpPr>
          <p:grpSpPr>
            <a:xfrm>
              <a:off x="667080" y="574560"/>
              <a:ext cx="1128240" cy="429120"/>
              <a:chOff x="667080" y="574560"/>
              <a:chExt cx="1128240" cy="429120"/>
            </a:xfrm>
          </p:grpSpPr>
          <mc:AlternateContent>
            <mc:Choice xmlns:a14="http://schemas.microsoft.com/office/drawing/2010/main" Requires="a14">
              <p:sp>
                <p:nvSpPr>
                  <p:cNvPr id="247" name="Object 162"/>
                  <p:cNvSpPr txBox="1"/>
                  <p:nvPr/>
                </p:nvSpPr>
                <p:spPr>
                  <a:xfrm>
                    <a:off x="1006200" y="621360"/>
                    <a:ext cx="789120" cy="343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θ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48" name="Text Box 29"/>
              <p:cNvSpPr/>
              <p:nvPr/>
            </p:nvSpPr>
            <p:spPr>
              <a:xfrm>
                <a:off x="667080" y="57456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200" spc="-1" strike="noStrike">
                    <a:solidFill>
                      <a:srgbClr val="000000"/>
                    </a:solidFill>
                    <a:latin typeface="新細明體"/>
                  </a:rPr>
                  <a:t>令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49" name="Object 163"/>
                <p:cNvSpPr txBox="1"/>
                <p:nvPr/>
              </p:nvSpPr>
              <p:spPr>
                <a:xfrm>
                  <a:off x="5118480" y="1014120"/>
                  <a:ext cx="268920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×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t xml:space="preserve">×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250" name="Text Box 31"/>
            <p:cNvSpPr/>
            <p:nvPr/>
          </p:nvSpPr>
          <p:spPr>
            <a:xfrm>
              <a:off x="1102680" y="1172880"/>
              <a:ext cx="36014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新細明體"/>
                </a:rPr>
                <a:t>座標</a:t>
              </a:r>
              <a:r>
                <a:rPr b="0" lang="en-US" sz="2200" spc="-1" strike="noStrike">
                  <a:solidFill>
                    <a:srgbClr val="000000"/>
                  </a:solidFill>
                  <a:latin typeface="新細明體"/>
                </a:rPr>
                <a:t>(2,1)</a:t>
              </a:r>
              <a:r>
                <a:rPr b="0" lang="zh-TW" sz="2200" spc="-1" strike="noStrike">
                  <a:solidFill>
                    <a:srgbClr val="000000"/>
                  </a:solidFill>
                  <a:latin typeface="新細明體"/>
                </a:rPr>
                <a:t>，代入式子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5.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.1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zh-TW" sz="2200" spc="-1" strike="noStrike">
                  <a:solidFill>
                    <a:srgbClr val="000000"/>
                  </a:solidFill>
                  <a:latin typeface="新細明體"/>
                </a:rPr>
                <a:t>後，得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33"/>
            <p:cNvSpPr/>
            <p:nvPr/>
          </p:nvSpPr>
          <p:spPr>
            <a:xfrm>
              <a:off x="1120680" y="1782720"/>
              <a:ext cx="255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新細明體"/>
                </a:rPr>
                <a:t>座標</a:t>
              </a:r>
              <a:r>
                <a:rPr b="0" lang="en-US" sz="2200" spc="-1" strike="noStrike">
                  <a:solidFill>
                    <a:srgbClr val="000000"/>
                  </a:solidFill>
                  <a:latin typeface="新細明體"/>
                </a:rPr>
                <a:t>(1,2)</a:t>
              </a:r>
              <a:r>
                <a:rPr b="0" lang="zh-TW" sz="2200" spc="-1" strike="noStrike">
                  <a:solidFill>
                    <a:srgbClr val="000000"/>
                  </a:solidFill>
                  <a:latin typeface="新細明體"/>
                </a:rPr>
                <a:t>，透過式子可得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34"/>
            <p:cNvSpPr/>
            <p:nvPr/>
          </p:nvSpPr>
          <p:spPr>
            <a:xfrm>
              <a:off x="1126800" y="2361960"/>
              <a:ext cx="255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新細明體"/>
                </a:rPr>
                <a:t>座標</a:t>
              </a:r>
              <a:r>
                <a:rPr b="0" lang="en-US" sz="2200" spc="-1" strike="noStrike">
                  <a:solidFill>
                    <a:srgbClr val="000000"/>
                  </a:solidFill>
                  <a:latin typeface="新細明體"/>
                </a:rPr>
                <a:t>(0,3)</a:t>
              </a:r>
              <a:r>
                <a:rPr b="0" lang="zh-TW" sz="2200" spc="-1" strike="noStrike">
                  <a:solidFill>
                    <a:srgbClr val="000000"/>
                  </a:solidFill>
                  <a:latin typeface="新細明體"/>
                </a:rPr>
                <a:t>，透過式子可得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3" name="Object 164"/>
                <p:cNvSpPr txBox="1"/>
                <p:nvPr/>
              </p:nvSpPr>
              <p:spPr>
                <a:xfrm>
                  <a:off x="4191120" y="2265120"/>
                  <a:ext cx="936360" cy="63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254" name="Text Box 36"/>
            <p:cNvSpPr/>
            <p:nvPr/>
          </p:nvSpPr>
          <p:spPr>
            <a:xfrm>
              <a:off x="609480" y="3657600"/>
              <a:ext cx="609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42"/>
            <p:cNvSpPr/>
            <p:nvPr/>
          </p:nvSpPr>
          <p:spPr>
            <a:xfrm>
              <a:off x="1126800" y="2971800"/>
              <a:ext cx="255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新細明體"/>
                </a:rPr>
                <a:t>座標</a:t>
              </a:r>
              <a:r>
                <a:rPr b="0" lang="en-US" sz="2200" spc="-1" strike="noStrike">
                  <a:solidFill>
                    <a:srgbClr val="000000"/>
                  </a:solidFill>
                  <a:latin typeface="新細明體"/>
                </a:rPr>
                <a:t>(3,3)</a:t>
              </a:r>
              <a:r>
                <a:rPr b="0" lang="zh-TW" sz="2200" spc="-1" strike="noStrike">
                  <a:solidFill>
                    <a:srgbClr val="000000"/>
                  </a:solidFill>
                  <a:latin typeface="新細明體"/>
                </a:rPr>
                <a:t>，透過式子可得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43"/>
            <p:cNvSpPr/>
            <p:nvPr/>
          </p:nvSpPr>
          <p:spPr>
            <a:xfrm>
              <a:off x="571680" y="4214880"/>
              <a:ext cx="4816440" cy="11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新細明體"/>
                </a:rPr>
                <a:t>假設門檻值定為　　  。所以可得知在圖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.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.2</a:t>
              </a:r>
              <a:r>
                <a:rPr b="0" lang="zh-TW" sz="2200" spc="-1" strike="noStrike">
                  <a:solidFill>
                    <a:srgbClr val="000000"/>
                  </a:solidFill>
                  <a:latin typeface="新細明體"/>
                </a:rPr>
                <a:t>中有一條角度為                       的直線通過該影像。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7" name="Object 172"/>
                <p:cNvSpPr txBox="1"/>
                <p:nvPr/>
              </p:nvSpPr>
              <p:spPr>
                <a:xfrm>
                  <a:off x="2676600" y="4419720"/>
                  <a:ext cx="65232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8" name="Object 173"/>
                <p:cNvSpPr txBox="1"/>
                <p:nvPr/>
              </p:nvSpPr>
              <p:spPr>
                <a:xfrm>
                  <a:off x="3502080" y="4775040"/>
                  <a:ext cx="1414440" cy="62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π</m:t>
                      </m:r>
                      <m:r>
                        <m:t xml:space="preserve">(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投影片編號版面配置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46E7-1689-4265-968B-14B750748AF4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群組 18"/>
          <p:cNvGrpSpPr/>
          <p:nvPr/>
        </p:nvGrpSpPr>
        <p:grpSpPr>
          <a:xfrm>
            <a:off x="4643280" y="2565360"/>
            <a:ext cx="3891240" cy="3878280"/>
            <a:chOff x="4643280" y="2565360"/>
            <a:chExt cx="3891240" cy="3878280"/>
          </a:xfrm>
        </p:grpSpPr>
        <p:graphicFrame>
          <p:nvGraphicFramePr>
            <p:cNvPr id="261" name="Object 91"/>
            <p:cNvGraphicFramePr/>
            <p:nvPr/>
          </p:nvGraphicFramePr>
          <p:xfrm>
            <a:off x="4643280" y="2565360"/>
            <a:ext cx="3891240" cy="3591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2" name="Object 91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43280" y="2565360"/>
                      <a:ext cx="3891240" cy="359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3" name="Text Box 4"/>
            <p:cNvSpPr/>
            <p:nvPr/>
          </p:nvSpPr>
          <p:spPr>
            <a:xfrm>
              <a:off x="6095880" y="6106320"/>
              <a:ext cx="1344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圖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.3 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累積陣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新細明體"/>
              </a:rPr>
              <a:t>將角度範圍　　切割成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zh-TW" sz="2200" spc="-1" strike="noStrike">
                <a:solidFill>
                  <a:srgbClr val="000000"/>
                </a:solidFill>
                <a:latin typeface="新細明體"/>
              </a:rPr>
              <a:t>份。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新細明體"/>
              </a:rPr>
              <a:t>使用二維陣列來完成　　參數空間的資料維護。</a:t>
            </a:r>
            <a:br>
              <a:rPr sz="2200"/>
            </a:br>
            <a:r>
              <a:rPr b="0" lang="zh-TW" sz="2200" spc="-1" strike="noStrike">
                <a:solidFill>
                  <a:srgbClr val="000000"/>
                </a:solidFill>
                <a:latin typeface="新細明體"/>
              </a:rPr>
              <a:t>這二維陣列稱作累積陣列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umulation Array)</a:t>
            </a:r>
            <a:r>
              <a:rPr b="0" lang="en-US" sz="2200" spc="-1" strike="noStrike">
                <a:solidFill>
                  <a:srgbClr val="000000"/>
                </a:solidFill>
                <a:latin typeface="新細明體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新細明體"/>
              </a:rPr>
              <a:t>霍式轉換法在累積陣列上的投票動作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新細明體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Object 92"/>
              <p:cNvSpPr txBox="1"/>
              <p:nvPr/>
            </p:nvSpPr>
            <p:spPr>
              <a:xfrm>
                <a:off x="2295360" y="685800"/>
                <a:ext cx="51444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π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93"/>
              <p:cNvSpPr txBox="1"/>
              <p:nvPr/>
            </p:nvSpPr>
            <p:spPr>
              <a:xfrm>
                <a:off x="3429000" y="1084320"/>
                <a:ext cx="51444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−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7" name="群組 17"/>
          <p:cNvGrpSpPr/>
          <p:nvPr/>
        </p:nvGrpSpPr>
        <p:grpSpPr>
          <a:xfrm>
            <a:off x="533520" y="2209680"/>
            <a:ext cx="4800600" cy="2104920"/>
            <a:chOff x="533520" y="2209680"/>
            <a:chExt cx="4800600" cy="2104920"/>
          </a:xfrm>
        </p:grpSpPr>
        <p:sp>
          <p:nvSpPr>
            <p:cNvPr id="268" name="Rectangle 16"/>
            <p:cNvSpPr/>
            <p:nvPr/>
          </p:nvSpPr>
          <p:spPr>
            <a:xfrm>
              <a:off x="533520" y="2209680"/>
              <a:ext cx="480060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　　　  ｛將二維累積陣列歸零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對邊點集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的每一邊點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or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　　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o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　　　　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n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9" name="Object 94"/>
                <p:cNvSpPr txBox="1"/>
                <p:nvPr/>
              </p:nvSpPr>
              <p:spPr>
                <a:xfrm>
                  <a:off x="1228680" y="2285640"/>
                  <a:ext cx="904680" cy="29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A</m:t>
                      </m:r>
                      <m:r>
                        <m:t xml:space="preserve">[</m:t>
                      </m:r>
                      <m:r>
                        <m:t xml:space="preserve">]</m:t>
                      </m:r>
                      <m:r>
                        <m:t xml:space="preserve">←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0" name="Object 95"/>
                <p:cNvSpPr txBox="1"/>
                <p:nvPr/>
              </p:nvSpPr>
              <p:spPr>
                <a:xfrm>
                  <a:off x="3862440" y="2642040"/>
                  <a:ext cx="538200" cy="29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1" name="Object 96"/>
                <p:cNvSpPr txBox="1"/>
                <p:nvPr/>
              </p:nvSpPr>
              <p:spPr>
                <a:xfrm>
                  <a:off x="1608120" y="2971800"/>
                  <a:ext cx="4600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2" name="Object 97"/>
                <p:cNvSpPr txBox="1"/>
                <p:nvPr/>
              </p:nvSpPr>
              <p:spPr>
                <a:xfrm>
                  <a:off x="1636560" y="3276720"/>
                  <a:ext cx="1814400" cy="33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y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3" name="Object 98"/>
                <p:cNvSpPr txBox="1"/>
                <p:nvPr/>
              </p:nvSpPr>
              <p:spPr>
                <a:xfrm>
                  <a:off x="1589040" y="3657960"/>
                  <a:ext cx="2135160" cy="33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A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d>
                      <m:r>
                        <m:t xml:space="preserve">←</m:t>
                      </m:r>
                      <m:r>
                        <m:rPr>
                          <m:lit/>
                          <m:nor/>
                        </m:rPr>
                        <m:t xml:space="preserve">AA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d>
                      <m:r>
                        <m:t xml:space="preserve">+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4" name="Group 21"/>
          <p:cNvGrpSpPr/>
          <p:nvPr/>
        </p:nvGrpSpPr>
        <p:grpSpPr>
          <a:xfrm>
            <a:off x="838080" y="4267080"/>
            <a:ext cx="3962520" cy="1219320"/>
            <a:chOff x="838080" y="4267080"/>
            <a:chExt cx="3962520" cy="1219320"/>
          </a:xfrm>
        </p:grpSpPr>
        <p:sp>
          <p:nvSpPr>
            <p:cNvPr id="275" name="Rectangle 19"/>
            <p:cNvSpPr/>
            <p:nvPr/>
          </p:nvSpPr>
          <p:spPr>
            <a:xfrm>
              <a:off x="838080" y="4267080"/>
              <a:ext cx="3962520" cy="47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新細明體"/>
                </a:rPr>
                <a:t>若在某一個投票箱</a:t>
              </a:r>
              <a:r>
                <a:rPr b="0" lang="zh-TW" sz="2200" spc="-1" strike="noStrike">
                  <a:solidFill>
                    <a:srgbClr val="000000"/>
                  </a:solidFill>
                  <a:latin typeface="新細明體"/>
                </a:rPr>
                <a:t>(</a:t>
              </a:r>
              <a:r>
                <a:rPr b="0" lang="zh-TW" sz="2200" spc="-1" strike="noStrike">
                  <a:solidFill>
                    <a:srgbClr val="000000"/>
                  </a:solidFill>
                  <a:latin typeface="新細明體"/>
                </a:rPr>
                <a:t>小房子</a:t>
              </a:r>
              <a:r>
                <a:rPr b="0" lang="zh-TW" sz="2200" spc="-1" strike="noStrike">
                  <a:solidFill>
                    <a:srgbClr val="000000"/>
                  </a:solidFill>
                  <a:latin typeface="新細明體"/>
                </a:rPr>
                <a:t>)</a:t>
              </a:r>
              <a:r>
                <a:rPr b="0" lang="zh-TW" sz="2200" spc="-1" strike="noStrike">
                  <a:solidFill>
                    <a:srgbClr val="000000"/>
                  </a:solidFill>
                  <a:latin typeface="新細明體"/>
                </a:rPr>
                <a:t>中，其記錄的邊點數超過門檻值      ，則投票到該投票箱的那些邊點可說形成了一條可接受的直線。</a:t>
              </a:r>
              <a:r>
                <a:rPr b="0" lang="zh-TW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6" name="Object 99"/>
                <p:cNvSpPr txBox="1"/>
                <p:nvPr/>
              </p:nvSpPr>
              <p:spPr>
                <a:xfrm>
                  <a:off x="1305000" y="5105520"/>
                  <a:ext cx="27144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投影片編號版面配置區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A18FC-2A04-478E-A107-6DC230D7CEFE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Object 12"/>
          <p:cNvGraphicFramePr/>
          <p:nvPr/>
        </p:nvGraphicFramePr>
        <p:xfrm>
          <a:off x="1338120" y="919080"/>
          <a:ext cx="6492960" cy="531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8120" y="919080"/>
                    <a:ext cx="6492960" cy="531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投影片編號版面配置區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7BFE1-2FBE-4554-BA56-5B0EA7BF11C6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" name="Object 12"/>
          <p:cNvGraphicFramePr/>
          <p:nvPr/>
        </p:nvGraphicFramePr>
        <p:xfrm>
          <a:off x="263520" y="1125360"/>
          <a:ext cx="8553600" cy="482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3520" y="1125360"/>
                    <a:ext cx="8553600" cy="48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投影片編號版面配置區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E0CA-26C4-4021-BCF8-CCC4C26D5691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Object 12"/>
          <p:cNvGraphicFramePr/>
          <p:nvPr/>
        </p:nvGraphicFramePr>
        <p:xfrm>
          <a:off x="1071720" y="1500120"/>
          <a:ext cx="6804000" cy="42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1500120"/>
                    <a:ext cx="6804000" cy="42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投影片編號版面配置區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A7FE4-9E0D-4D16-A7CC-F16BD0AC8B7C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3"/>
          <p:cNvSpPr/>
          <p:nvPr/>
        </p:nvSpPr>
        <p:spPr>
          <a:xfrm>
            <a:off x="1870920" y="762120"/>
            <a:ext cx="5846760" cy="86436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定理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.1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　霍式轉換法可在　　　的時間內完成直線偵測的工作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　　　    此處           且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為           的角度分割數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Object 96"/>
              <p:cNvSpPr txBox="1"/>
              <p:nvPr/>
            </p:nvSpPr>
            <p:spPr>
              <a:xfrm>
                <a:off x="2712960" y="1219320"/>
                <a:ext cx="7462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97"/>
              <p:cNvSpPr txBox="1"/>
              <p:nvPr/>
            </p:nvSpPr>
            <p:spPr>
              <a:xfrm>
                <a:off x="4352760" y="1219320"/>
                <a:ext cx="56376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π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98"/>
              <p:cNvSpPr txBox="1"/>
              <p:nvPr/>
            </p:nvSpPr>
            <p:spPr>
              <a:xfrm>
                <a:off x="4086360" y="863640"/>
                <a:ext cx="74124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Ο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91" name="群組 21"/>
          <p:cNvGrpSpPr/>
          <p:nvPr/>
        </p:nvGrpSpPr>
        <p:grpSpPr>
          <a:xfrm>
            <a:off x="685800" y="3581280"/>
            <a:ext cx="7772400" cy="2852280"/>
            <a:chOff x="685800" y="3581280"/>
            <a:chExt cx="7772400" cy="2852280"/>
          </a:xfrm>
        </p:grpSpPr>
        <p:pic>
          <p:nvPicPr>
            <p:cNvPr id="292" name="Picture 18" descr="Fig9a"/>
            <p:cNvPicPr/>
            <p:nvPr/>
          </p:nvPicPr>
          <p:blipFill>
            <a:blip r:embed="rId1"/>
            <a:stretch/>
          </p:blipFill>
          <p:spPr>
            <a:xfrm>
              <a:off x="6019920" y="3581280"/>
              <a:ext cx="2438280" cy="243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20" descr="Fig8a"/>
            <p:cNvPicPr/>
            <p:nvPr/>
          </p:nvPicPr>
          <p:blipFill>
            <a:blip r:embed="rId2"/>
            <a:stretch/>
          </p:blipFill>
          <p:spPr>
            <a:xfrm>
              <a:off x="3352680" y="3581280"/>
              <a:ext cx="2438280" cy="243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Text Box 22"/>
            <p:cNvSpPr/>
            <p:nvPr/>
          </p:nvSpPr>
          <p:spPr>
            <a:xfrm>
              <a:off x="6497640" y="6096240"/>
              <a:ext cx="146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圖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.4 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測得之直線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23"/>
            <p:cNvSpPr/>
            <p:nvPr/>
          </p:nvSpPr>
          <p:spPr>
            <a:xfrm>
              <a:off x="3640320" y="6096240"/>
              <a:ext cx="197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圖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.2 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圖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5.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1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的邊點集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6" name="Picture 24" descr="Road"/>
            <p:cNvPicPr/>
            <p:nvPr/>
          </p:nvPicPr>
          <p:blipFill>
            <a:blip r:embed="rId3"/>
            <a:stretch/>
          </p:blipFill>
          <p:spPr>
            <a:xfrm>
              <a:off x="685800" y="3581280"/>
              <a:ext cx="2438280" cy="243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Text Box 25"/>
            <p:cNvSpPr/>
            <p:nvPr/>
          </p:nvSpPr>
          <p:spPr>
            <a:xfrm>
              <a:off x="1271880" y="6096240"/>
              <a:ext cx="1344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圖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5.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1 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道路影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群組 20"/>
          <p:cNvGrpSpPr/>
          <p:nvPr/>
        </p:nvGrpSpPr>
        <p:grpSpPr>
          <a:xfrm>
            <a:off x="609480" y="1676520"/>
            <a:ext cx="8001000" cy="1326960"/>
            <a:chOff x="609480" y="1676520"/>
            <a:chExt cx="8001000" cy="1326960"/>
          </a:xfrm>
        </p:grpSpPr>
        <p:sp>
          <p:nvSpPr>
            <p:cNvPr id="299" name="Text Box 15"/>
            <p:cNvSpPr/>
            <p:nvPr/>
          </p:nvSpPr>
          <p:spPr>
            <a:xfrm>
              <a:off x="778680" y="1676520"/>
              <a:ext cx="68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新細明體"/>
                </a:rPr>
                <a:t>證明：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16"/>
            <p:cNvSpPr/>
            <p:nvPr/>
          </p:nvSpPr>
          <p:spPr>
            <a:xfrm>
              <a:off x="609480" y="2133720"/>
              <a:ext cx="8001000" cy="86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新細明體"/>
                </a:rPr>
                <a:t>針對任一個    ，            ，花          的時間完成在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新細明體"/>
                </a:rPr>
                <a:t>      </a:t>
              </a:r>
              <a:r>
                <a:rPr b="0" lang="zh-TW" sz="2200" spc="-1" strike="noStrike">
                  <a:solidFill>
                    <a:srgbClr val="000000"/>
                  </a:solidFill>
                  <a:latin typeface="新細明體"/>
                </a:rPr>
                <a:t>的投票工作。考慮所有的    ，共需            的時間來完成投票的工作。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1" name="Object 99"/>
                <p:cNvSpPr txBox="1"/>
                <p:nvPr/>
              </p:nvSpPr>
              <p:spPr>
                <a:xfrm>
                  <a:off x="5435640" y="2637000"/>
                  <a:ext cx="75240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Ο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mn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2" name="Object 100"/>
                <p:cNvSpPr txBox="1"/>
                <p:nvPr/>
              </p:nvSpPr>
              <p:spPr>
                <a:xfrm>
                  <a:off x="2168280" y="2225520"/>
                  <a:ext cx="250560" cy="37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3" name="Object 101"/>
                <p:cNvSpPr txBox="1"/>
                <p:nvPr/>
              </p:nvSpPr>
              <p:spPr>
                <a:xfrm>
                  <a:off x="2617560" y="2225520"/>
                  <a:ext cx="976320" cy="32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t xml:space="preserve">≤</m:t>
                      </m:r>
                      <m:r>
                        <m:t xml:space="preserve">i</m:t>
                      </m:r>
                      <m:r>
                        <m:t xml:space="preserve">≤</m:t>
                      </m:r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4" name="Object 102"/>
                <p:cNvSpPr txBox="1"/>
                <p:nvPr/>
              </p:nvSpPr>
              <p:spPr>
                <a:xfrm>
                  <a:off x="4140000" y="2248200"/>
                  <a:ext cx="626760" cy="32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Ο</m:t>
                      </m:r>
                      <m:r>
                        <m:t xml:space="preserve">(</m:t>
                      </m:r>
                      <m:r>
                        <m:t xml:space="preserve">m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5" name="Object 103"/>
                <p:cNvSpPr txBox="1"/>
                <p:nvPr/>
              </p:nvSpPr>
              <p:spPr>
                <a:xfrm>
                  <a:off x="706320" y="2627280"/>
                  <a:ext cx="392040" cy="26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6" name="Object 104"/>
                <p:cNvSpPr txBox="1"/>
                <p:nvPr/>
              </p:nvSpPr>
              <p:spPr>
                <a:xfrm>
                  <a:off x="4267080" y="2627280"/>
                  <a:ext cx="250560" cy="37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投影片編號版面配置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BBAE5-175D-4F8C-84CE-1C5D18B3DC92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617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內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06400" y="1773000"/>
            <a:ext cx="7726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1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前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5.2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蠻力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3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霍式轉換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5.4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隨機式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5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道路偵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6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結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投影片編號版面配置區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5C536-8C49-417F-9859-C600540F101C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34"/>
          <p:cNvSpPr/>
          <p:nvPr/>
        </p:nvSpPr>
        <p:spPr>
          <a:xfrm>
            <a:off x="539640" y="810720"/>
            <a:ext cx="813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範例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TW" sz="22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：給予下列八個點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,4), (2,8), (4,3), (4,6), (5,5), (7,3), (10,0), (10,5)</a:t>
            </a:r>
            <a:r>
              <a:rPr b="0" lang="zh-TW" sz="22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，請利用霍式轉換法並配合圖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3.3</a:t>
            </a:r>
            <a:r>
              <a:rPr b="0" lang="zh-TW" sz="22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所給的二維累積陣列</a:t>
            </a:r>
            <a:r>
              <a:rPr b="0" lang="en-US" sz="22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</a:t>
            </a:r>
            <a:r>
              <a:rPr b="0" lang="zh-TW" sz="22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假設門檻為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雅坊美工03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1)</a:t>
            </a:r>
            <a:r>
              <a:rPr b="0" lang="zh-TW" sz="22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求出滿足條件直線的法距</a:t>
            </a:r>
            <a:r>
              <a:rPr b="0" lang="en-US" sz="22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</a:t>
            </a:r>
            <a:r>
              <a:rPr b="0" lang="el-GR" sz="22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22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及法角</a:t>
            </a:r>
            <a:r>
              <a:rPr b="0" lang="en-US" sz="22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</a:t>
            </a:r>
            <a:r>
              <a:rPr b="0" lang="el-GR" sz="22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θ</a:t>
            </a:r>
            <a:r>
              <a:rPr b="0" lang="en-US" sz="22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(2)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並把連成直線的點列出來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38"/>
          <p:cNvSpPr/>
          <p:nvPr/>
        </p:nvSpPr>
        <p:spPr>
          <a:xfrm>
            <a:off x="539640" y="2567520"/>
            <a:ext cx="817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解答：令角度以</a:t>
            </a:r>
            <a:r>
              <a:rPr b="0" lang="en-US" sz="2200" spc="-1" strike="noStrike">
                <a:solidFill>
                  <a:srgbClr val="000000"/>
                </a:solidFill>
                <a:latin typeface="新細明體"/>
                <a:ea typeface="Times New Roman"/>
              </a:rPr>
              <a:t>45°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為跳躍基準，利用副程式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44"/>
          <p:cNvSpPr/>
          <p:nvPr/>
        </p:nvSpPr>
        <p:spPr>
          <a:xfrm>
            <a:off x="3255480" y="2851560"/>
            <a:ext cx="347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群組 18"/>
          <p:cNvGrpSpPr/>
          <p:nvPr/>
        </p:nvGrpSpPr>
        <p:grpSpPr>
          <a:xfrm>
            <a:off x="1764000" y="3007080"/>
            <a:ext cx="3976560" cy="2135520"/>
            <a:chOff x="1764000" y="3007080"/>
            <a:chExt cx="3976560" cy="2135520"/>
          </a:xfrm>
        </p:grpSpPr>
        <p:sp>
          <p:nvSpPr>
            <p:cNvPr id="312" name="Rectangle 43"/>
            <p:cNvSpPr/>
            <p:nvPr/>
          </p:nvSpPr>
          <p:spPr>
            <a:xfrm>
              <a:off x="1775520" y="3007080"/>
              <a:ext cx="2148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or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0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o 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13" name="Object 67"/>
            <p:cNvGraphicFramePr/>
            <p:nvPr/>
          </p:nvGraphicFramePr>
          <p:xfrm>
            <a:off x="2556000" y="3644640"/>
            <a:ext cx="2596320" cy="422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14" name="Object 6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56000" y="3644640"/>
                      <a:ext cx="2596320" cy="42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5" name="Object 68"/>
            <p:cNvGraphicFramePr/>
            <p:nvPr/>
          </p:nvGraphicFramePr>
          <p:xfrm>
            <a:off x="2603520" y="4134240"/>
            <a:ext cx="3137040" cy="519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6" name="Object 6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603520" y="4134240"/>
                      <a:ext cx="3137040" cy="51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7" name="Rectangle 46"/>
            <p:cNvSpPr/>
            <p:nvPr/>
          </p:nvSpPr>
          <p:spPr>
            <a:xfrm>
              <a:off x="1764000" y="4652640"/>
              <a:ext cx="1368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nd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投影片編號版面配置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64E64-223A-426F-90C2-74AD9EE1997F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群組 13"/>
          <p:cNvGrpSpPr/>
          <p:nvPr/>
        </p:nvGrpSpPr>
        <p:grpSpPr>
          <a:xfrm>
            <a:off x="826920" y="1104840"/>
            <a:ext cx="7020000" cy="2958840"/>
            <a:chOff x="826920" y="1104840"/>
            <a:chExt cx="7020000" cy="2958840"/>
          </a:xfrm>
        </p:grpSpPr>
        <p:sp>
          <p:nvSpPr>
            <p:cNvPr id="320" name="Rectangle 10"/>
            <p:cNvSpPr/>
            <p:nvPr/>
          </p:nvSpPr>
          <p:spPr>
            <a:xfrm>
              <a:off x="826920" y="1104840"/>
              <a:ext cx="7020000" cy="29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可得到在</a:t>
              </a:r>
              <a:r>
                <a:rPr b="0" lang="el-GR" sz="2400" spc="-1" strike="noStrike">
                  <a:solidFill>
                    <a:srgbClr val="000000"/>
                  </a:solidFill>
                  <a:latin typeface="新細明體"/>
                  <a:ea typeface="Times New Roman"/>
                </a:rPr>
                <a:t>θ</a:t>
              </a:r>
              <a:r>
                <a:rPr b="0" lang="en-US" sz="2400" spc="-1" strike="noStrike">
                  <a:solidFill>
                    <a:srgbClr val="000000"/>
                  </a:solidFill>
                  <a:latin typeface="新細明體"/>
                  <a:ea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新細明體"/>
                </a:rPr>
                <a:t> 45 °</a:t>
              </a:r>
              <a:r>
                <a:rPr b="0" lang="zh-TW" sz="2400" spc="-1" strike="noStrike">
                  <a:solidFill>
                    <a:srgbClr val="000000"/>
                  </a:solidFill>
                  <a:latin typeface="Arial"/>
                </a:rPr>
                <a:t>且</a:t>
              </a:r>
              <a:r>
                <a:rPr b="0" lang="el-GR" sz="2400" spc="-1" strike="noStrike">
                  <a:solidFill>
                    <a:srgbClr val="000000"/>
                  </a:solidFill>
                  <a:latin typeface="新細明體"/>
                  <a:ea typeface="Times New Roman"/>
                </a:rPr>
                <a:t>γ</a:t>
              </a:r>
              <a:r>
                <a:rPr b="0" lang="en-US" sz="2400" spc="-1" strike="noStrike">
                  <a:solidFill>
                    <a:srgbClr val="000000"/>
                  </a:solidFill>
                  <a:latin typeface="新細明體"/>
                  <a:ea typeface="Times New Roman"/>
                </a:rPr>
                <a:t>=</a:t>
              </a:r>
              <a:r>
                <a:rPr b="0" lang="zh-TW" sz="2400" spc="-1" strike="noStrike">
                  <a:solidFill>
                    <a:srgbClr val="000000"/>
                  </a:solidFill>
                  <a:latin typeface="新細明體"/>
                  <a:ea typeface="Times New Roman"/>
                </a:rPr>
                <a:t>       </a:t>
              </a:r>
              <a:r>
                <a:rPr b="0" lang="zh-TW" sz="2400" spc="-1" strike="noStrike">
                  <a:solidFill>
                    <a:srgbClr val="000000"/>
                  </a:solidFill>
                  <a:latin typeface="新細明體"/>
                </a:rPr>
                <a:t>處的投票箱內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新細明體"/>
                </a:rPr>
                <a:t>得票數等於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r>
                <a:rPr b="0" lang="zh-TW" sz="2400" spc="-1" strike="noStrike">
                  <a:solidFill>
                    <a:srgbClr val="000000"/>
                  </a:solidFill>
                  <a:latin typeface="新細明體"/>
                </a:rPr>
                <a:t>。</a:t>
              </a:r>
              <a:r>
                <a:rPr b="0" lang="zh-TW" sz="2400" spc="-1" strike="noStrike">
                  <a:solidFill>
                    <a:srgbClr val="000000"/>
                  </a:solidFill>
                  <a:latin typeface="新細明體"/>
                  <a:ea typeface="Times New Roman"/>
                </a:rPr>
                <a:t>因為得票數大於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r>
                <a:rPr b="0" lang="zh-TW" sz="2400" spc="-1" strike="noStrike">
                  <a:solidFill>
                    <a:srgbClr val="000000"/>
                  </a:solidFill>
                  <a:latin typeface="新細明體"/>
                  <a:ea typeface="Times New Roman"/>
                </a:rPr>
                <a:t>，所以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新細明體"/>
                  <a:ea typeface="Times New Roman"/>
                </a:rPr>
                <a:t>距</a:t>
              </a:r>
              <a:r>
                <a:rPr b="0" lang="en-US" sz="2400" spc="-1" strike="noStrike">
                  <a:solidFill>
                    <a:srgbClr val="000000"/>
                  </a:solidFill>
                  <a:latin typeface="新細明體"/>
                  <a:ea typeface="Times New Roman"/>
                </a:rPr>
                <a:t>(</a:t>
              </a:r>
              <a:r>
                <a:rPr b="0" lang="el-GR" sz="2400" spc="-1" strike="noStrike">
                  <a:solidFill>
                    <a:srgbClr val="000000"/>
                  </a:solidFill>
                  <a:latin typeface="新細明體"/>
                  <a:ea typeface="Times New Roman"/>
                </a:rPr>
                <a:t>γ</a:t>
              </a:r>
              <a:r>
                <a:rPr b="0" lang="en-US" sz="2400" spc="-1" strike="noStrike">
                  <a:solidFill>
                    <a:srgbClr val="000000"/>
                  </a:solidFill>
                  <a:latin typeface="新細明體"/>
                </a:rPr>
                <a:t>)</a:t>
              </a:r>
              <a:r>
                <a:rPr b="0" lang="zh-TW" sz="2400" spc="-1" strike="noStrike">
                  <a:solidFill>
                    <a:srgbClr val="000000"/>
                  </a:solidFill>
                  <a:latin typeface="新細明體"/>
                </a:rPr>
                <a:t>為       ，而法角</a:t>
              </a:r>
              <a:r>
                <a:rPr b="0" lang="en-US" sz="2400" spc="-1" strike="noStrike">
                  <a:solidFill>
                    <a:srgbClr val="000000"/>
                  </a:solidFill>
                  <a:latin typeface="新細明體"/>
                </a:rPr>
                <a:t>(</a:t>
              </a:r>
              <a:r>
                <a:rPr b="0" lang="el-GR" sz="2400" spc="-1" strike="noStrike">
                  <a:solidFill>
                    <a:srgbClr val="000000"/>
                  </a:solidFill>
                  <a:latin typeface="新細明體"/>
                  <a:ea typeface="Times New Roman"/>
                </a:rPr>
                <a:t>θ</a:t>
              </a:r>
              <a:r>
                <a:rPr b="0" lang="en-US" sz="2400" spc="-1" strike="noStrike">
                  <a:solidFill>
                    <a:srgbClr val="000000"/>
                  </a:solidFill>
                  <a:latin typeface="新細明體"/>
                </a:rPr>
                <a:t>)</a:t>
              </a:r>
              <a:r>
                <a:rPr b="0" lang="zh-TW" sz="2400" spc="-1" strike="noStrike">
                  <a:solidFill>
                    <a:srgbClr val="000000"/>
                  </a:solidFill>
                  <a:latin typeface="新細明體"/>
                </a:rPr>
                <a:t>為</a:t>
              </a:r>
              <a:r>
                <a:rPr b="0" lang="en-US" sz="2400" spc="-1" strike="noStrike">
                  <a:solidFill>
                    <a:srgbClr val="000000"/>
                  </a:solidFill>
                  <a:latin typeface="新細明體"/>
                </a:rPr>
                <a:t>45 ° </a:t>
              </a:r>
              <a:r>
                <a:rPr b="0" lang="zh-TW" sz="24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新細明體"/>
                  <a:ea typeface="Times New Roman"/>
                </a:rPr>
                <a:t>將投票箱內每個邊點取出來，可得知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2,8), (4,6)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5,5), (7,3), (10,0)</a:t>
              </a:r>
              <a:r>
                <a:rPr b="0" lang="zh-TW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zh-TW" sz="2400" spc="-1" strike="noStrike">
                  <a:solidFill>
                    <a:srgbClr val="000000"/>
                  </a:solidFill>
                  <a:latin typeface="新細明體"/>
                  <a:ea typeface="Times New Roman"/>
                </a:rPr>
                <a:t>五個點是連成一直線的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新細明體"/>
                  <a:ea typeface="Times New Roman"/>
                </a:rPr>
                <a:t>解答完畢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1" name="Object 66"/>
                <p:cNvSpPr txBox="1"/>
                <p:nvPr/>
              </p:nvSpPr>
              <p:spPr>
                <a:xfrm>
                  <a:off x="2015280" y="1872360"/>
                  <a:ext cx="552240" cy="39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2" name="Object 67"/>
                <p:cNvSpPr txBox="1"/>
                <p:nvPr/>
              </p:nvSpPr>
              <p:spPr>
                <a:xfrm>
                  <a:off x="3879360" y="1158480"/>
                  <a:ext cx="552240" cy="39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3" name="Object 221"/>
          <p:cNvGraphicFramePr/>
          <p:nvPr/>
        </p:nvGraphicFramePr>
        <p:xfrm>
          <a:off x="5580000" y="3797280"/>
          <a:ext cx="2952720" cy="250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Object 2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0000" y="3797280"/>
                    <a:ext cx="2952720" cy="25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25" name="Object 226"/>
              <p:cNvSpPr txBox="1"/>
              <p:nvPr/>
            </p:nvSpPr>
            <p:spPr>
              <a:xfrm>
                <a:off x="812790360" y="2147484240"/>
                <a:ext cx="1572577560" cy="5846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,2,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6" name="投影片編號版面配置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19602-9C81-4055-A21A-ED05B979C769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5.4 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隨機式方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6"/>
          <p:cNvSpPr/>
          <p:nvPr/>
        </p:nvSpPr>
        <p:spPr>
          <a:xfrm>
            <a:off x="6113880" y="6137280"/>
            <a:ext cx="1643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圖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三個邊點決定出三條可能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群組 68"/>
          <p:cNvGrpSpPr/>
          <p:nvPr/>
        </p:nvGrpSpPr>
        <p:grpSpPr>
          <a:xfrm>
            <a:off x="1031760" y="2573280"/>
            <a:ext cx="6554880" cy="1401840"/>
            <a:chOff x="1031760" y="2573280"/>
            <a:chExt cx="6554880" cy="1401840"/>
          </a:xfrm>
        </p:grpSpPr>
        <mc:AlternateContent>
          <mc:Choice xmlns:a14="http://schemas.microsoft.com/office/drawing/2010/main" Requires="a14">
            <p:sp>
              <p:nvSpPr>
                <p:cNvPr id="330" name="Object 222"/>
                <p:cNvSpPr txBox="1"/>
                <p:nvPr/>
              </p:nvSpPr>
              <p:spPr>
                <a:xfrm>
                  <a:off x="3936960" y="2573280"/>
                  <a:ext cx="546120" cy="520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1" name="Object 223"/>
                <p:cNvSpPr txBox="1"/>
                <p:nvPr/>
              </p:nvSpPr>
              <p:spPr>
                <a:xfrm>
                  <a:off x="2411280" y="2580840"/>
                  <a:ext cx="357120" cy="50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32" name="Rectangle 70"/>
            <p:cNvSpPr/>
            <p:nvPr/>
          </p:nvSpPr>
          <p:spPr>
            <a:xfrm>
              <a:off x="1187280" y="2593080"/>
              <a:ext cx="184680" cy="4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71"/>
            <p:cNvSpPr/>
            <p:nvPr/>
          </p:nvSpPr>
          <p:spPr>
            <a:xfrm>
              <a:off x="2900880" y="2594160"/>
              <a:ext cx="900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到</a:t>
              </a:r>
              <a:r>
                <a:rPr b="0" lang="zh-TW" sz="2200" spc="-1" strike="noStrike">
                  <a:solidFill>
                    <a:srgbClr val="000000"/>
                  </a:solidFill>
                  <a:latin typeface="Arial"/>
                </a:rPr>
                <a:t>可能線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72"/>
            <p:cNvSpPr/>
            <p:nvPr/>
          </p:nvSpPr>
          <p:spPr>
            <a:xfrm>
              <a:off x="4557240" y="2594160"/>
              <a:ext cx="1119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的距離：</a:t>
              </a:r>
              <a:r>
                <a:rPr b="0" lang="zh-TW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5" name="Object 225"/>
                <p:cNvSpPr txBox="1"/>
                <p:nvPr/>
              </p:nvSpPr>
              <p:spPr>
                <a:xfrm>
                  <a:off x="1031760" y="2997000"/>
                  <a:ext cx="4843440" cy="97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k</m:t>
                          </m:r>
                          <m:r>
                            <m:t xml:space="preserve">→</m:t>
                          </m:r>
                          <m:r>
                            <m:rPr>
                              <m:lit/>
                              <m:nor/>
                            </m:rPr>
                            <m:t xml:space="preserve">ij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d>
                            <m:dPr>
                              <m:begChr m:val="|"/>
                              <m:endChr m:val="|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d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36" name="Rectangle 75"/>
            <p:cNvSpPr/>
            <p:nvPr/>
          </p:nvSpPr>
          <p:spPr>
            <a:xfrm>
              <a:off x="6589080" y="3211920"/>
              <a:ext cx="997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(5.4.1)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群組 69"/>
          <p:cNvGrpSpPr/>
          <p:nvPr/>
        </p:nvGrpSpPr>
        <p:grpSpPr>
          <a:xfrm>
            <a:off x="510480" y="4004280"/>
            <a:ext cx="4594680" cy="2635200"/>
            <a:chOff x="510480" y="4004280"/>
            <a:chExt cx="4594680" cy="2635200"/>
          </a:xfrm>
        </p:grpSpPr>
        <p:sp>
          <p:nvSpPr>
            <p:cNvPr id="338" name="Rectangle 79"/>
            <p:cNvSpPr/>
            <p:nvPr/>
          </p:nvSpPr>
          <p:spPr>
            <a:xfrm>
              <a:off x="1870200" y="4004280"/>
              <a:ext cx="31006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，由式子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5.4.1)</a:t>
              </a:r>
              <a:r>
                <a:rPr b="0" lang="zh-TW" sz="2200" spc="-1" strike="noStrike">
                  <a:solidFill>
                    <a:srgbClr val="000000"/>
                  </a:solidFill>
                  <a:latin typeface="Arial"/>
                </a:rPr>
                <a:t>得到三個距離值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9" name="Object 227"/>
                <p:cNvSpPr txBox="1"/>
                <p:nvPr/>
              </p:nvSpPr>
              <p:spPr>
                <a:xfrm>
                  <a:off x="510480" y="4437000"/>
                  <a:ext cx="64764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1</m:t>
                          </m:r>
                          <m:r>
                            <m:t xml:space="preserve">→</m:t>
                          </m:r>
                          <m:r>
                            <m:rPr>
                              <m:lit/>
                              <m:nor/>
                            </m:rPr>
                            <m:t xml:space="preserve">2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40" name="Rectangle 82"/>
            <p:cNvSpPr/>
            <p:nvPr/>
          </p:nvSpPr>
          <p:spPr>
            <a:xfrm>
              <a:off x="1085400" y="4435920"/>
              <a:ext cx="4633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、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1" name="Object 228"/>
                <p:cNvSpPr txBox="1"/>
                <p:nvPr/>
              </p:nvSpPr>
              <p:spPr>
                <a:xfrm>
                  <a:off x="1445760" y="4437000"/>
                  <a:ext cx="64764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2</m:t>
                          </m:r>
                          <m:r>
                            <m:t xml:space="preserve">→</m:t>
                          </m:r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42" name="Rectangle 84"/>
            <p:cNvSpPr/>
            <p:nvPr/>
          </p:nvSpPr>
          <p:spPr>
            <a:xfrm>
              <a:off x="2126880" y="4435920"/>
              <a:ext cx="397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和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3" name="Object 229"/>
                <p:cNvSpPr txBox="1"/>
                <p:nvPr/>
              </p:nvSpPr>
              <p:spPr>
                <a:xfrm>
                  <a:off x="2527200" y="4437000"/>
                  <a:ext cx="64764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3</m:t>
                          </m:r>
                          <m:r>
                            <m:t xml:space="preserve">→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44" name="Text Box 87"/>
            <p:cNvSpPr/>
            <p:nvPr/>
          </p:nvSpPr>
          <p:spPr>
            <a:xfrm>
              <a:off x="4014000" y="4437000"/>
              <a:ext cx="3164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Arial"/>
                </a:rPr>
                <a:t>。假設這最小的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5" name="Object 230"/>
                <p:cNvSpPr txBox="1"/>
                <p:nvPr/>
              </p:nvSpPr>
              <p:spPr>
                <a:xfrm>
                  <a:off x="1698840" y="4934880"/>
                  <a:ext cx="649440" cy="46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k</m:t>
                          </m:r>
                          <m:r>
                            <m:t xml:space="preserve">→</m:t>
                          </m:r>
                          <m:r>
                            <m:rPr>
                              <m:lit/>
                              <m:nor/>
                            </m:rPr>
                            <m:t xml:space="preserve">ij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46" name="Rectangle 89"/>
            <p:cNvSpPr/>
            <p:nvPr/>
          </p:nvSpPr>
          <p:spPr>
            <a:xfrm>
              <a:off x="2275200" y="4940640"/>
              <a:ext cx="934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，則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7" name="Object 231"/>
                <p:cNvSpPr txBox="1"/>
                <p:nvPr/>
              </p:nvSpPr>
              <p:spPr>
                <a:xfrm>
                  <a:off x="2923200" y="4891680"/>
                  <a:ext cx="334800" cy="50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48" name="Rectangle 91"/>
            <p:cNvSpPr/>
            <p:nvPr/>
          </p:nvSpPr>
          <p:spPr>
            <a:xfrm>
              <a:off x="3243600" y="4940640"/>
              <a:ext cx="397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和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9" name="Object 232"/>
                <p:cNvSpPr txBox="1"/>
                <p:nvPr/>
              </p:nvSpPr>
              <p:spPr>
                <a:xfrm>
                  <a:off x="3643920" y="4890960"/>
                  <a:ext cx="34272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50" name="Rectangle 93"/>
            <p:cNvSpPr/>
            <p:nvPr/>
          </p:nvSpPr>
          <p:spPr>
            <a:xfrm>
              <a:off x="4058640" y="4869720"/>
              <a:ext cx="1046520" cy="47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這二個邊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94"/>
            <p:cNvSpPr/>
            <p:nvPr/>
          </p:nvSpPr>
          <p:spPr>
            <a:xfrm>
              <a:off x="2666160" y="5297400"/>
              <a:ext cx="31644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Arial"/>
                </a:rPr>
                <a:t>點便被稱作代理點。代理點形成的直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Arial"/>
                </a:rPr>
                <a:t>線可被稱作候選線。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95"/>
            <p:cNvSpPr/>
            <p:nvPr/>
          </p:nvSpPr>
          <p:spPr>
            <a:xfrm>
              <a:off x="699480" y="4915080"/>
              <a:ext cx="85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Arial"/>
                </a:rPr>
                <a:t>距離值為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3" name="Object 233"/>
                <p:cNvSpPr txBox="1"/>
                <p:nvPr/>
              </p:nvSpPr>
              <p:spPr>
                <a:xfrm>
                  <a:off x="3059640" y="5805720"/>
                  <a:ext cx="647640" cy="46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k</m:t>
                          </m:r>
                          <m:r>
                            <m:t xml:space="preserve">→</m:t>
                          </m:r>
                          <m:r>
                            <m:rPr>
                              <m:lit/>
                              <m:nor/>
                            </m:rPr>
                            <m:t xml:space="preserve">ij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54" name="Rectangle 99"/>
            <p:cNvSpPr/>
            <p:nvPr/>
          </p:nvSpPr>
          <p:spPr>
            <a:xfrm>
              <a:off x="3836520" y="5804640"/>
              <a:ext cx="1046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必需小於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100"/>
            <p:cNvSpPr/>
            <p:nvPr/>
          </p:nvSpPr>
          <p:spPr>
            <a:xfrm>
              <a:off x="861120" y="6210360"/>
              <a:ext cx="13543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Arial"/>
                </a:rPr>
                <a:t>設定的門檻值。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群組 67"/>
          <p:cNvGrpSpPr/>
          <p:nvPr/>
        </p:nvGrpSpPr>
        <p:grpSpPr>
          <a:xfrm>
            <a:off x="468000" y="1657800"/>
            <a:ext cx="7918920" cy="934200"/>
            <a:chOff x="468000" y="1657800"/>
            <a:chExt cx="7918920" cy="934200"/>
          </a:xfrm>
        </p:grpSpPr>
        <p:sp>
          <p:nvSpPr>
            <p:cNvPr id="357" name="Rectangle 45"/>
            <p:cNvSpPr/>
            <p:nvPr/>
          </p:nvSpPr>
          <p:spPr>
            <a:xfrm>
              <a:off x="1137240" y="1663920"/>
              <a:ext cx="3170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在邊點集    </a:t>
              </a:r>
              <a:r>
                <a:rPr b="0" lang="zh-TW" sz="2200" spc="-1" strike="noStrike">
                  <a:solidFill>
                    <a:srgbClr val="000000"/>
                  </a:solidFill>
                  <a:latin typeface="Arial"/>
                </a:rPr>
                <a:t>中，隨機抽出三個邊點：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8" name="Object 234"/>
                <p:cNvSpPr txBox="1"/>
                <p:nvPr/>
              </p:nvSpPr>
              <p:spPr>
                <a:xfrm>
                  <a:off x="1619280" y="1731600"/>
                  <a:ext cx="269640" cy="32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59" name="Object 235"/>
                <p:cNvSpPr txBox="1"/>
                <p:nvPr/>
              </p:nvSpPr>
              <p:spPr>
                <a:xfrm>
                  <a:off x="4932360" y="1658880"/>
                  <a:ext cx="1400040" cy="42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60" name="Rectangle 51"/>
            <p:cNvSpPr/>
            <p:nvPr/>
          </p:nvSpPr>
          <p:spPr>
            <a:xfrm>
              <a:off x="6304680" y="1657800"/>
              <a:ext cx="308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、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1" name="Object 236"/>
                <p:cNvSpPr txBox="1"/>
                <p:nvPr/>
              </p:nvSpPr>
              <p:spPr>
                <a:xfrm>
                  <a:off x="6516720" y="1658880"/>
                  <a:ext cx="1511280" cy="44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62" name="Rectangle 52"/>
            <p:cNvSpPr/>
            <p:nvPr/>
          </p:nvSpPr>
          <p:spPr>
            <a:xfrm>
              <a:off x="7989840" y="1657800"/>
              <a:ext cx="397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和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3" name="Object 237"/>
                <p:cNvSpPr txBox="1"/>
                <p:nvPr/>
              </p:nvSpPr>
              <p:spPr>
                <a:xfrm>
                  <a:off x="468000" y="2092320"/>
                  <a:ext cx="1511280" cy="42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64" name="Rectangle 54"/>
            <p:cNvSpPr/>
            <p:nvPr/>
          </p:nvSpPr>
          <p:spPr>
            <a:xfrm>
              <a:off x="3307680" y="2089800"/>
              <a:ext cx="389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Arial"/>
                </a:rPr>
                <a:t>。可決定出三條可能線：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5" name="Object 238"/>
                <p:cNvSpPr txBox="1"/>
                <p:nvPr/>
              </p:nvSpPr>
              <p:spPr>
                <a:xfrm>
                  <a:off x="4960800" y="2088360"/>
                  <a:ext cx="534960" cy="45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bar>
                    </m:oMath>
                  </a14:m>
                </a:p>
              </p:txBody>
            </p:sp>
          </mc:Choice>
          <mc:Fallback/>
        </mc:AlternateContent>
        <p:sp>
          <p:nvSpPr>
            <p:cNvPr id="366" name="Rectangle 59"/>
            <p:cNvSpPr/>
            <p:nvPr/>
          </p:nvSpPr>
          <p:spPr>
            <a:xfrm>
              <a:off x="5441040" y="2162880"/>
              <a:ext cx="308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、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60"/>
            <p:cNvSpPr/>
            <p:nvPr/>
          </p:nvSpPr>
          <p:spPr>
            <a:xfrm>
              <a:off x="6189480" y="2089800"/>
              <a:ext cx="397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和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61"/>
            <p:cNvSpPr/>
            <p:nvPr/>
          </p:nvSpPr>
          <p:spPr>
            <a:xfrm>
              <a:off x="7168680" y="2089800"/>
              <a:ext cx="389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。</a:t>
              </a:r>
              <a:r>
                <a:rPr b="0" lang="zh-TW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9" name="Object 239"/>
                <p:cNvSpPr txBox="1"/>
                <p:nvPr/>
              </p:nvSpPr>
              <p:spPr>
                <a:xfrm>
                  <a:off x="5735520" y="2076480"/>
                  <a:ext cx="510840" cy="47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0" name="Object 240"/>
                <p:cNvSpPr txBox="1"/>
                <p:nvPr/>
              </p:nvSpPr>
              <p:spPr>
                <a:xfrm>
                  <a:off x="6635880" y="2076480"/>
                  <a:ext cx="558720" cy="47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投影片編號版面配置區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3EF50-1B0F-415B-8125-F4257E96B7E5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群組 24"/>
          <p:cNvGrpSpPr/>
          <p:nvPr/>
        </p:nvGrpSpPr>
        <p:grpSpPr>
          <a:xfrm>
            <a:off x="5904000" y="1052640"/>
            <a:ext cx="2989080" cy="3242520"/>
            <a:chOff x="5904000" y="1052640"/>
            <a:chExt cx="2989080" cy="3242520"/>
          </a:xfrm>
        </p:grpSpPr>
        <p:graphicFrame>
          <p:nvGraphicFramePr>
            <p:cNvPr id="373" name="Object 128"/>
            <p:cNvGraphicFramePr/>
            <p:nvPr/>
          </p:nvGraphicFramePr>
          <p:xfrm>
            <a:off x="5904000" y="1052640"/>
            <a:ext cx="2974320" cy="2741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74" name="Object 12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904000" y="1052640"/>
                      <a:ext cx="2974320" cy="274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5" name="Text Box 21"/>
            <p:cNvSpPr/>
            <p:nvPr/>
          </p:nvSpPr>
          <p:spPr>
            <a:xfrm>
              <a:off x="6084000" y="3714480"/>
              <a:ext cx="2809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圖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4.2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三個邊點太靠近的異常例子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Rectangle 42"/>
          <p:cNvSpPr/>
          <p:nvPr/>
        </p:nvSpPr>
        <p:spPr>
          <a:xfrm>
            <a:off x="380880" y="4724280"/>
            <a:ext cx="819180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新細明體"/>
              </a:rPr>
              <a:t>重覆上面的程序。設定檢查失敗的容忍最大次數。檢查次數一經超過容忍次數，若仍沒有偵測出直線，則強迫重新進行抽樣的動作。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群組 23"/>
          <p:cNvGrpSpPr/>
          <p:nvPr/>
        </p:nvGrpSpPr>
        <p:grpSpPr>
          <a:xfrm>
            <a:off x="473040" y="765000"/>
            <a:ext cx="5496120" cy="3274560"/>
            <a:chOff x="473040" y="765000"/>
            <a:chExt cx="5496120" cy="3274560"/>
          </a:xfrm>
        </p:grpSpPr>
        <p:sp>
          <p:nvSpPr>
            <p:cNvPr id="378" name="Rectangle 41"/>
            <p:cNvSpPr/>
            <p:nvPr/>
          </p:nvSpPr>
          <p:spPr>
            <a:xfrm>
              <a:off x="473040" y="2015640"/>
              <a:ext cx="541008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新細明體"/>
                </a:rPr>
                <a:t>將邊點集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</a:t>
              </a:r>
              <a:r>
                <a:rPr b="0" lang="zh-TW" sz="2200" spc="-1" strike="noStrike">
                  <a:solidFill>
                    <a:srgbClr val="000000"/>
                  </a:solidFill>
                  <a:latin typeface="新細明體"/>
                </a:rPr>
                <a:t>中的每一邊點代入式子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5.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.1)</a:t>
              </a:r>
              <a:r>
                <a:rPr b="0" lang="zh-TW" sz="2200" spc="-1" strike="noStrike">
                  <a:solidFill>
                    <a:srgbClr val="000000"/>
                  </a:solidFill>
                  <a:latin typeface="新細明體"/>
                </a:rPr>
                <a:t>中，若距離         小於門檻值，代表邊點    對候選線投了一票，我們這時就在計數器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0" lang="zh-TW" sz="2200" spc="-1" strike="noStrike">
                  <a:solidFill>
                    <a:srgbClr val="000000"/>
                  </a:solidFill>
                  <a:latin typeface="新細明體"/>
                </a:rPr>
                <a:t>上加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zh-TW" sz="2200" spc="-1" strike="noStrike">
                  <a:solidFill>
                    <a:srgbClr val="000000"/>
                  </a:solidFill>
                  <a:latin typeface="新細明體"/>
                </a:rPr>
                <a:t>。當邊點集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</a:t>
              </a:r>
              <a:r>
                <a:rPr b="0" lang="zh-TW" sz="2200" spc="-1" strike="noStrike">
                  <a:solidFill>
                    <a:srgbClr val="000000"/>
                  </a:solidFill>
                  <a:latin typeface="新細明體"/>
                </a:rPr>
                <a:t>中的每一邊點都完成了投票後。假設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0" lang="zh-TW" sz="2200" spc="-1" strike="noStrike">
                  <a:solidFill>
                    <a:srgbClr val="000000"/>
                  </a:solidFill>
                  <a:latin typeface="新細明體"/>
                </a:rPr>
                <a:t>值    大於門檻值    ，則候選線       是真正線。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25"/>
            <p:cNvSpPr/>
            <p:nvPr/>
          </p:nvSpPr>
          <p:spPr>
            <a:xfrm>
              <a:off x="583200" y="766800"/>
              <a:ext cx="829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有時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0" name="Object 129"/>
                <p:cNvSpPr txBox="1"/>
                <p:nvPr/>
              </p:nvSpPr>
              <p:spPr>
                <a:xfrm>
                  <a:off x="1423800" y="767880"/>
                  <a:ext cx="30636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81" name="Rectangle 26"/>
            <p:cNvSpPr/>
            <p:nvPr/>
          </p:nvSpPr>
          <p:spPr>
            <a:xfrm>
              <a:off x="1685160" y="766800"/>
              <a:ext cx="308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、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2" name="Object 130"/>
                <p:cNvSpPr txBox="1"/>
                <p:nvPr/>
              </p:nvSpPr>
              <p:spPr>
                <a:xfrm>
                  <a:off x="1931760" y="765000"/>
                  <a:ext cx="25524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83" name="Rectangle 27"/>
            <p:cNvSpPr/>
            <p:nvPr/>
          </p:nvSpPr>
          <p:spPr>
            <a:xfrm>
              <a:off x="2176200" y="766800"/>
              <a:ext cx="397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和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4" name="Object 131"/>
                <p:cNvSpPr txBox="1"/>
                <p:nvPr/>
              </p:nvSpPr>
              <p:spPr>
                <a:xfrm>
                  <a:off x="2576520" y="767880"/>
                  <a:ext cx="29340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85" name="Rectangle 28"/>
            <p:cNvSpPr/>
            <p:nvPr/>
          </p:nvSpPr>
          <p:spPr>
            <a:xfrm>
              <a:off x="3251520" y="766800"/>
              <a:ext cx="23446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三個邊點靠得太近了，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29"/>
            <p:cNvSpPr/>
            <p:nvPr/>
          </p:nvSpPr>
          <p:spPr>
            <a:xfrm>
              <a:off x="2171880" y="1087200"/>
              <a:ext cx="805680" cy="47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Arial"/>
                </a:rPr>
                <a:t>此一異常現象也必需予以排除。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7" name="Object 134"/>
                <p:cNvSpPr txBox="1"/>
                <p:nvPr/>
              </p:nvSpPr>
              <p:spPr>
                <a:xfrm>
                  <a:off x="1423800" y="2483640"/>
                  <a:ext cx="555480" cy="39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k</m:t>
                          </m:r>
                          <m:r>
                            <m:t xml:space="preserve">→</m:t>
                          </m:r>
                          <m:r>
                            <m:rPr>
                              <m:lit/>
                              <m:nor/>
                            </m:rPr>
                            <m:t xml:space="preserve">ij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8" name="Object 135"/>
                <p:cNvSpPr txBox="1"/>
                <p:nvPr/>
              </p:nvSpPr>
              <p:spPr>
                <a:xfrm>
                  <a:off x="4852080" y="2437920"/>
                  <a:ext cx="281160" cy="41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9" name="Object 136"/>
                <p:cNvSpPr txBox="1"/>
                <p:nvPr/>
              </p:nvSpPr>
              <p:spPr>
                <a:xfrm>
                  <a:off x="2132280" y="3646080"/>
                  <a:ext cx="296640" cy="39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0" name="Object 137"/>
                <p:cNvSpPr txBox="1"/>
                <p:nvPr/>
              </p:nvSpPr>
              <p:spPr>
                <a:xfrm>
                  <a:off x="3924720" y="3644640"/>
                  <a:ext cx="258480" cy="35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1" name="Object 138"/>
                <p:cNvSpPr txBox="1"/>
                <p:nvPr/>
              </p:nvSpPr>
              <p:spPr>
                <a:xfrm>
                  <a:off x="5509080" y="3572640"/>
                  <a:ext cx="460080" cy="44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投影片編號版面配置區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9E02C-AD62-4A87-A2B4-76197BB6E24D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2"/>
          <p:cNvSpPr/>
          <p:nvPr/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新細明體"/>
              </a:rPr>
              <a:t>圖解概念</a:t>
            </a:r>
            <a:r>
              <a:rPr b="1" lang="en-US" sz="2800" spc="-1" strike="noStrike">
                <a:solidFill>
                  <a:srgbClr val="000000"/>
                </a:solidFill>
                <a:latin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4" name="Object 107"/>
          <p:cNvGraphicFramePr/>
          <p:nvPr/>
        </p:nvGraphicFramePr>
        <p:xfrm>
          <a:off x="714240" y="1500120"/>
          <a:ext cx="1979640" cy="208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5" name="Object 10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4240" y="1500120"/>
                    <a:ext cx="1979640" cy="20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6" name="Object 108"/>
          <p:cNvGraphicFramePr/>
          <p:nvPr/>
        </p:nvGraphicFramePr>
        <p:xfrm>
          <a:off x="2000160" y="3929040"/>
          <a:ext cx="4448160" cy="221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7" name="Object 10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00160" y="3929040"/>
                    <a:ext cx="4448160" cy="22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8" name="矩形 11"/>
          <p:cNvSpPr/>
          <p:nvPr/>
        </p:nvSpPr>
        <p:spPr>
          <a:xfrm>
            <a:off x="3071880" y="14288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在邊點集中，隨機抽出三個邊點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9" name="Object 109"/>
          <p:cNvGraphicFramePr/>
          <p:nvPr/>
        </p:nvGraphicFramePr>
        <p:xfrm>
          <a:off x="3357720" y="1874880"/>
          <a:ext cx="966600" cy="317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0" name="Object 10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57720" y="1874880"/>
                    <a:ext cx="96660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Object 110"/>
          <p:cNvGraphicFramePr/>
          <p:nvPr/>
        </p:nvGraphicFramePr>
        <p:xfrm>
          <a:off x="4714920" y="1866960"/>
          <a:ext cx="1055520" cy="333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2" name="Object 1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1866960"/>
                    <a:ext cx="105552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3" name="Object 111"/>
          <p:cNvGraphicFramePr/>
          <p:nvPr/>
        </p:nvGraphicFramePr>
        <p:xfrm>
          <a:off x="6072120" y="1874880"/>
          <a:ext cx="1071720" cy="317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4" name="Object 1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72120" y="1874880"/>
                    <a:ext cx="107172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5" name="矩形 17"/>
          <p:cNvSpPr/>
          <p:nvPr/>
        </p:nvSpPr>
        <p:spPr>
          <a:xfrm>
            <a:off x="4174560" y="22334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決定出一條可能線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6" name="Object 112"/>
          <p:cNvGraphicFramePr/>
          <p:nvPr/>
        </p:nvGraphicFramePr>
        <p:xfrm>
          <a:off x="5580000" y="2276640"/>
          <a:ext cx="368280" cy="349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07" name="Object 11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80000" y="2276640"/>
                    <a:ext cx="36828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矩形 21"/>
          <p:cNvSpPr/>
          <p:nvPr/>
        </p:nvSpPr>
        <p:spPr>
          <a:xfrm>
            <a:off x="3710880" y="26733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到可能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矩形 22"/>
          <p:cNvSpPr/>
          <p:nvPr/>
        </p:nvSpPr>
        <p:spPr>
          <a:xfrm>
            <a:off x="5289480" y="267336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的距離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Object 113"/>
          <p:cNvGraphicFramePr/>
          <p:nvPr/>
        </p:nvGraphicFramePr>
        <p:xfrm>
          <a:off x="3286080" y="2709720"/>
          <a:ext cx="233280" cy="325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11" name="Object 11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286080" y="2709720"/>
                    <a:ext cx="23328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Object 114"/>
          <p:cNvGraphicFramePr/>
          <p:nvPr/>
        </p:nvGraphicFramePr>
        <p:xfrm>
          <a:off x="4716360" y="2698920"/>
          <a:ext cx="368280" cy="349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13" name="Object 11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716360" y="2698920"/>
                    <a:ext cx="36828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Object 115"/>
          <p:cNvGraphicFramePr/>
          <p:nvPr/>
        </p:nvGraphicFramePr>
        <p:xfrm>
          <a:off x="6000840" y="5572080"/>
          <a:ext cx="500040" cy="4748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15" name="Object 11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000840" y="5572080"/>
                    <a:ext cx="5000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6" name="Object 116"/>
          <p:cNvGraphicFramePr/>
          <p:nvPr/>
        </p:nvGraphicFramePr>
        <p:xfrm>
          <a:off x="4572000" y="3213000"/>
          <a:ext cx="3711600" cy="7542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17" name="Object 11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572000" y="3213000"/>
                    <a:ext cx="371160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8" name="Object 117"/>
          <p:cNvGraphicFramePr/>
          <p:nvPr/>
        </p:nvGraphicFramePr>
        <p:xfrm>
          <a:off x="4929120" y="5429160"/>
          <a:ext cx="330120" cy="2415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19" name="Object 117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929120" y="5429160"/>
                    <a:ext cx="330120" cy="2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投影片編號版面配置區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F03EB-D741-4696-83A1-467EAB466874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1" name="Object 23"/>
          <p:cNvGraphicFramePr/>
          <p:nvPr/>
        </p:nvGraphicFramePr>
        <p:xfrm>
          <a:off x="776160" y="2219400"/>
          <a:ext cx="2724120" cy="29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2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6160" y="2219400"/>
                    <a:ext cx="2724120" cy="29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3" name="Object 24"/>
          <p:cNvGraphicFramePr/>
          <p:nvPr/>
        </p:nvGraphicFramePr>
        <p:xfrm>
          <a:off x="4786200" y="2290680"/>
          <a:ext cx="2724120" cy="292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4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6200" y="2290680"/>
                    <a:ext cx="2724120" cy="29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5" name="矩形 5"/>
          <p:cNvSpPr/>
          <p:nvPr/>
        </p:nvSpPr>
        <p:spPr>
          <a:xfrm>
            <a:off x="785880" y="1571760"/>
            <a:ext cx="178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三個邊點不共線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矩形 6"/>
          <p:cNvSpPr/>
          <p:nvPr/>
        </p:nvSpPr>
        <p:spPr>
          <a:xfrm>
            <a:off x="4786200" y="1643040"/>
            <a:ext cx="178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三個邊點共線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投影片編號版面配置區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53E50-B862-4F82-A4BD-A92526777840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8" name="Object 31"/>
          <p:cNvGraphicFramePr/>
          <p:nvPr/>
        </p:nvGraphicFramePr>
        <p:xfrm>
          <a:off x="214200" y="2214720"/>
          <a:ext cx="2724120" cy="292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9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200" y="2214720"/>
                    <a:ext cx="2724120" cy="29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0" name="Object 32"/>
          <p:cNvGraphicFramePr/>
          <p:nvPr/>
        </p:nvGraphicFramePr>
        <p:xfrm>
          <a:off x="3214800" y="2214720"/>
          <a:ext cx="2724120" cy="2923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1" name="Object 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14800" y="2214720"/>
                    <a:ext cx="2724120" cy="29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2" name="Object 33"/>
          <p:cNvGraphicFramePr/>
          <p:nvPr/>
        </p:nvGraphicFramePr>
        <p:xfrm>
          <a:off x="6143760" y="2214720"/>
          <a:ext cx="2724120" cy="2923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3" name="Object 3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43760" y="2214720"/>
                    <a:ext cx="2724120" cy="29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4" name="矩形 7"/>
          <p:cNvSpPr/>
          <p:nvPr/>
        </p:nvSpPr>
        <p:spPr>
          <a:xfrm>
            <a:off x="214200" y="1571760"/>
            <a:ext cx="471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利用計算點到線距離的方式，檢測共線的邊點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投影片編號版面配置區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91C03-EBA3-4359-990B-756C263158CF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6" name="Object 22"/>
          <p:cNvGraphicFramePr/>
          <p:nvPr/>
        </p:nvGraphicFramePr>
        <p:xfrm>
          <a:off x="2868480" y="1919160"/>
          <a:ext cx="3216240" cy="345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7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68480" y="1919160"/>
                    <a:ext cx="3216240" cy="34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矩形 3"/>
          <p:cNvSpPr/>
          <p:nvPr/>
        </p:nvSpPr>
        <p:spPr>
          <a:xfrm>
            <a:off x="1835280" y="5516640"/>
            <a:ext cx="53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檢測共線的邊點數大於門檻值，       為一條真實的直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9" name="Object 23"/>
          <p:cNvGraphicFramePr/>
          <p:nvPr/>
        </p:nvGraphicFramePr>
        <p:xfrm>
          <a:off x="4764240" y="5516640"/>
          <a:ext cx="368280" cy="34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0" name="Object 2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64240" y="5516640"/>
                    <a:ext cx="36828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投影片編號版面配置區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06A9D-E730-4F44-BE0E-96EF1A2F8657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2" name="Object 32"/>
          <p:cNvGraphicFramePr/>
          <p:nvPr/>
        </p:nvGraphicFramePr>
        <p:xfrm>
          <a:off x="887400" y="1989000"/>
          <a:ext cx="2724120" cy="29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3" name="Object 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7400" y="1989000"/>
                    <a:ext cx="2724120" cy="29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4" name="矩形 4"/>
          <p:cNvSpPr/>
          <p:nvPr/>
        </p:nvSpPr>
        <p:spPr>
          <a:xfrm>
            <a:off x="887400" y="5275440"/>
            <a:ext cx="264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移除所有與       共線的邊點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5" name="Object 33"/>
          <p:cNvGraphicFramePr/>
          <p:nvPr/>
        </p:nvGraphicFramePr>
        <p:xfrm>
          <a:off x="2030400" y="5275440"/>
          <a:ext cx="368280" cy="34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6" name="Object 3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30400" y="5275440"/>
                    <a:ext cx="36828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7" name="Object 34"/>
          <p:cNvGraphicFramePr/>
          <p:nvPr/>
        </p:nvGraphicFramePr>
        <p:xfrm>
          <a:off x="5030640" y="2060640"/>
          <a:ext cx="2724120" cy="2924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8" name="Object 3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30640" y="2060640"/>
                    <a:ext cx="2724120" cy="29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9" name="矩形 8"/>
          <p:cNvSpPr/>
          <p:nvPr/>
        </p:nvSpPr>
        <p:spPr>
          <a:xfrm>
            <a:off x="4888080" y="5275440"/>
            <a:ext cx="350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利用隨機抽樣程序檢測下一條直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投影片編號版面配置區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6C86F-3061-497F-B67D-A748D4EBEDB5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5"/>
          <p:cNvSpPr/>
          <p:nvPr/>
        </p:nvSpPr>
        <p:spPr>
          <a:xfrm>
            <a:off x="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4" descr="FLOOR"/>
          <p:cNvPicPr/>
          <p:nvPr/>
        </p:nvPicPr>
        <p:blipFill>
          <a:blip r:embed="rId1"/>
          <a:stretch/>
        </p:blipFill>
        <p:spPr>
          <a:xfrm>
            <a:off x="695160" y="2532240"/>
            <a:ext cx="2391120" cy="2390760"/>
          </a:xfrm>
          <a:prstGeom prst="rect">
            <a:avLst/>
          </a:prstGeom>
          <a:ln w="0">
            <a:noFill/>
          </a:ln>
        </p:spPr>
      </p:pic>
      <p:sp>
        <p:nvSpPr>
          <p:cNvPr id="453" name="Rectangle 7"/>
          <p:cNvSpPr/>
          <p:nvPr/>
        </p:nvSpPr>
        <p:spPr>
          <a:xfrm>
            <a:off x="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Picture 6" descr="i"/>
          <p:cNvPicPr/>
          <p:nvPr/>
        </p:nvPicPr>
        <p:blipFill>
          <a:blip r:embed="rId2"/>
          <a:stretch/>
        </p:blipFill>
        <p:spPr>
          <a:xfrm>
            <a:off x="3430440" y="2532240"/>
            <a:ext cx="2390760" cy="239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55" name="Rectangle 9"/>
          <p:cNvSpPr/>
          <p:nvPr/>
        </p:nvSpPr>
        <p:spPr>
          <a:xfrm>
            <a:off x="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8" descr="out"/>
          <p:cNvPicPr/>
          <p:nvPr/>
        </p:nvPicPr>
        <p:blipFill>
          <a:blip r:embed="rId3"/>
          <a:stretch/>
        </p:blipFill>
        <p:spPr>
          <a:xfrm>
            <a:off x="6095880" y="2532240"/>
            <a:ext cx="2390760" cy="2390760"/>
          </a:xfrm>
          <a:prstGeom prst="rect">
            <a:avLst/>
          </a:prstGeom>
          <a:ln w="0">
            <a:noFill/>
          </a:ln>
        </p:spPr>
      </p:pic>
      <p:sp>
        <p:nvSpPr>
          <p:cNvPr id="457" name="Text Box 10"/>
          <p:cNvSpPr/>
          <p:nvPr/>
        </p:nvSpPr>
        <p:spPr>
          <a:xfrm>
            <a:off x="6569280" y="4997520"/>
            <a:ext cx="146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圖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4.5 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測出之直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1"/>
          <p:cNvSpPr/>
          <p:nvPr/>
        </p:nvSpPr>
        <p:spPr>
          <a:xfrm>
            <a:off x="3640320" y="4997520"/>
            <a:ext cx="197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圖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4 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圖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3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的邊點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12"/>
          <p:cNvSpPr/>
          <p:nvPr/>
        </p:nvSpPr>
        <p:spPr>
          <a:xfrm>
            <a:off x="1210320" y="4997520"/>
            <a:ext cx="134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圖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3 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地板影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隨機式測線法的實驗結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投影片編號版面配置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CDBCC-FF1E-4890-94A7-2D62BF7A3012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數位直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新細明體"/>
              </a:rPr>
              <a:t>直線由虛線兩側的數位邊點所構成。</a:t>
            </a:r>
            <a:br>
              <a:rPr sz="2200"/>
            </a:br>
            <a:r>
              <a:rPr b="0" lang="zh-TW" sz="2200" spc="-1" strike="noStrike">
                <a:solidFill>
                  <a:srgbClr val="000000"/>
                </a:solidFill>
                <a:latin typeface="新細明體"/>
              </a:rPr>
              <a:t>圖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1</a:t>
            </a:r>
            <a:r>
              <a:rPr b="0" lang="zh-TW" sz="2200" spc="-1" strike="noStrike">
                <a:solidFill>
                  <a:srgbClr val="000000"/>
                </a:solidFill>
                <a:latin typeface="新細明體"/>
              </a:rPr>
              <a:t>中，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TW" sz="2200" spc="-1" strike="noStrike">
                <a:solidFill>
                  <a:srgbClr val="000000"/>
                </a:solidFill>
                <a:latin typeface="新細明體"/>
              </a:rPr>
              <a:t>皆為邊點。 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新細明體"/>
              </a:rPr>
              <a:t>灰色帶狀區的頻寬以及離散邊點集會影響直線偵測的結果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新細明體"/>
              </a:rPr>
              <a:t>圖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1</a:t>
            </a:r>
            <a:r>
              <a:rPr b="0" lang="zh-TW" sz="2200" spc="-1" strike="noStrike">
                <a:solidFill>
                  <a:srgbClr val="000000"/>
                </a:solidFill>
                <a:latin typeface="新細明體"/>
              </a:rPr>
              <a:t>中的數位直線的邊點集往往並非如圖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新細明體"/>
              </a:rPr>
              <a:t>     </a:t>
            </a:r>
            <a:r>
              <a:rPr b="0" lang="zh-TW" sz="2200" spc="-1" strike="noStrike">
                <a:solidFill>
                  <a:srgbClr val="000000"/>
                </a:solidFill>
                <a:latin typeface="新細明體"/>
              </a:rPr>
              <a:t>示的這般密集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新細明體"/>
              </a:rPr>
              <a:t>利用測邊法得到邊點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新細明體"/>
              </a:rPr>
              <a:t>     </a:t>
            </a:r>
            <a:r>
              <a:rPr b="0" lang="zh-TW" sz="2200" spc="-1" strike="noStrike">
                <a:solidFill>
                  <a:srgbClr val="000000"/>
                </a:solidFill>
                <a:latin typeface="新細明體"/>
              </a:rPr>
              <a:t>集，利用其來決定出直線。 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372888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Object 16"/>
          <p:cNvGraphicFramePr/>
          <p:nvPr/>
        </p:nvGraphicFramePr>
        <p:xfrm>
          <a:off x="5659560" y="3581280"/>
          <a:ext cx="2800080" cy="257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9560" y="3581280"/>
                    <a:ext cx="2800080" cy="25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Text Box 6"/>
          <p:cNvSpPr/>
          <p:nvPr/>
        </p:nvSpPr>
        <p:spPr>
          <a:xfrm>
            <a:off x="6328440" y="6064200"/>
            <a:ext cx="134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圖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5.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1 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數位直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投影片編號版面配置區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B3AA7-0293-47A9-A0CE-7C9A9C71073B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比較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HT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LD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的時間複雜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17"/>
          <p:cNvSpPr/>
          <p:nvPr/>
        </p:nvSpPr>
        <p:spPr>
          <a:xfrm>
            <a:off x="1531800" y="1828800"/>
            <a:ext cx="4630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新細明體"/>
              </a:rPr>
              <a:t>令   代表邊點數，   代表落在直線上邊點數。令         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18"/>
          <p:cNvSpPr/>
          <p:nvPr/>
        </p:nvSpPr>
        <p:spPr>
          <a:xfrm>
            <a:off x="1688400" y="2392200"/>
            <a:ext cx="559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新細明體"/>
              </a:rPr>
              <a:t>A</a:t>
            </a:r>
            <a:r>
              <a:rPr b="0" lang="zh-TW" sz="2200" spc="-1" strike="noStrike">
                <a:solidFill>
                  <a:srgbClr val="000000"/>
                </a:solidFill>
                <a:latin typeface="新細明體"/>
              </a:rPr>
              <a:t>為所抽樣的二個邊點皆在線上的事件，其機率　　　　　　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9"/>
          <p:cNvSpPr/>
          <p:nvPr/>
        </p:nvSpPr>
        <p:spPr>
          <a:xfrm>
            <a:off x="380880" y="2895480"/>
            <a:ext cx="8685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新細明體"/>
              </a:rPr>
              <a:t>B</a:t>
            </a:r>
            <a:r>
              <a:rPr b="0" lang="zh-TW" sz="2200" spc="-1" strike="noStrike">
                <a:solidFill>
                  <a:srgbClr val="000000"/>
                </a:solidFill>
                <a:latin typeface="新細明體"/>
              </a:rPr>
              <a:t>為所抽樣的三個邊點皆在線上的事件，其機率　　　　　　　　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20"/>
          <p:cNvSpPr/>
          <p:nvPr/>
        </p:nvSpPr>
        <p:spPr>
          <a:xfrm>
            <a:off x="1114200" y="3429000"/>
            <a:ext cx="4239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新細明體"/>
              </a:rPr>
              <a:t>因為   和   皆很大，所以             而              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7" name="Object 138"/>
              <p:cNvSpPr txBox="1"/>
              <p:nvPr/>
            </p:nvSpPr>
            <p:spPr>
              <a:xfrm>
                <a:off x="689040" y="4432320"/>
                <a:ext cx="38908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H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,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Object 139"/>
              <p:cNvSpPr txBox="1"/>
              <p:nvPr/>
            </p:nvSpPr>
            <p:spPr>
              <a:xfrm>
                <a:off x="716040" y="5651640"/>
                <a:ext cx="34430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LD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,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9" name="Rectangle 25"/>
          <p:cNvSpPr/>
          <p:nvPr/>
        </p:nvSpPr>
        <p:spPr>
          <a:xfrm>
            <a:off x="380880" y="3962520"/>
            <a:ext cx="838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HT</a:t>
            </a:r>
            <a:r>
              <a:rPr b="0" lang="en-US" sz="2200" spc="-1" strike="noStrike">
                <a:solidFill>
                  <a:srgbClr val="000000"/>
                </a:solidFill>
                <a:latin typeface="新細明體"/>
              </a:rPr>
              <a:t>：</a:t>
            </a:r>
            <a:r>
              <a:rPr b="0" lang="zh-TW" sz="2200" spc="-1" strike="noStrike">
                <a:solidFill>
                  <a:srgbClr val="000000"/>
                </a:solidFill>
                <a:latin typeface="新細明體"/>
              </a:rPr>
              <a:t>經過多少次失敗才會使得事件</a:t>
            </a:r>
            <a:r>
              <a:rPr b="0" i="1" lang="en-US" sz="2200" spc="-1" strike="noStrike">
                <a:solidFill>
                  <a:srgbClr val="000000"/>
                </a:solidFill>
                <a:latin typeface="新細明體"/>
              </a:rPr>
              <a:t>A</a:t>
            </a:r>
            <a:r>
              <a:rPr b="0" lang="zh-TW" sz="2200" spc="-1" strike="noStrike">
                <a:solidFill>
                  <a:srgbClr val="000000"/>
                </a:solidFill>
                <a:latin typeface="新細明體"/>
              </a:rPr>
              <a:t>發生二次為一隨機變數</a:t>
            </a:r>
            <a:r>
              <a:rPr b="0" i="1" lang="en-US" sz="2200" spc="-1" strike="noStrike">
                <a:solidFill>
                  <a:srgbClr val="000000"/>
                </a:solidFill>
                <a:latin typeface="新細明體"/>
              </a:rPr>
              <a:t>X</a:t>
            </a:r>
            <a:r>
              <a:rPr b="0" lang="zh-TW" sz="2200" spc="-1" strike="noStrike">
                <a:solidFill>
                  <a:srgbClr val="000000"/>
                </a:solidFill>
                <a:latin typeface="新細明體"/>
              </a:rPr>
              <a:t>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28"/>
          <p:cNvSpPr/>
          <p:nvPr/>
        </p:nvSpPr>
        <p:spPr>
          <a:xfrm>
            <a:off x="4643280" y="4365720"/>
            <a:ext cx="45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666699"/>
                </a:solidFill>
                <a:latin typeface="新細明體"/>
              </a:rPr>
              <a:t>負的二項式分配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Negative Binom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tribution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29"/>
          <p:cNvSpPr/>
          <p:nvPr/>
        </p:nvSpPr>
        <p:spPr>
          <a:xfrm>
            <a:off x="380880" y="5172120"/>
            <a:ext cx="7925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LD</a:t>
            </a:r>
            <a:r>
              <a:rPr b="0" lang="en-US" sz="2200" spc="-1" strike="noStrike">
                <a:solidFill>
                  <a:srgbClr val="000000"/>
                </a:solidFill>
                <a:latin typeface="新細明體"/>
              </a:rPr>
              <a:t>：</a:t>
            </a:r>
            <a:r>
              <a:rPr b="0" lang="zh-TW" sz="2200" spc="-1" strike="noStrike">
                <a:solidFill>
                  <a:srgbClr val="000000"/>
                </a:solidFill>
                <a:latin typeface="新細明體"/>
              </a:rPr>
              <a:t>事件</a:t>
            </a:r>
            <a:r>
              <a:rPr b="0" i="1" lang="en-US" sz="2200" spc="-1" strike="noStrike">
                <a:solidFill>
                  <a:srgbClr val="000000"/>
                </a:solidFill>
                <a:latin typeface="新細明體"/>
              </a:rPr>
              <a:t>B</a:t>
            </a:r>
            <a:r>
              <a:rPr b="0" lang="zh-TW" sz="2200" spc="-1" strike="noStrike">
                <a:solidFill>
                  <a:srgbClr val="000000"/>
                </a:solidFill>
                <a:latin typeface="新細明體"/>
              </a:rPr>
              <a:t>發生過一次，則該候選線即算確定：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31"/>
          <p:cNvSpPr/>
          <p:nvPr/>
        </p:nvSpPr>
        <p:spPr>
          <a:xfrm>
            <a:off x="4284720" y="5589720"/>
            <a:ext cx="417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666699"/>
                </a:solidFill>
                <a:latin typeface="新細明體"/>
              </a:rPr>
              <a:t>幾何分佈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Geometric Distribution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Object 140"/>
              <p:cNvSpPr txBox="1"/>
              <p:nvPr/>
            </p:nvSpPr>
            <p:spPr>
              <a:xfrm>
                <a:off x="6300720" y="1773360"/>
                <a:ext cx="6238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Object 141"/>
              <p:cNvSpPr txBox="1"/>
              <p:nvPr/>
            </p:nvSpPr>
            <p:spPr>
              <a:xfrm>
                <a:off x="6345360" y="2325600"/>
                <a:ext cx="14842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Object 142"/>
              <p:cNvSpPr txBox="1"/>
              <p:nvPr/>
            </p:nvSpPr>
            <p:spPr>
              <a:xfrm>
                <a:off x="6364440" y="2886120"/>
                <a:ext cx="2095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[</m:t>
                    </m:r>
                    <m:r>
                      <m:t xml:space="preserve">B</m:t>
                    </m:r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Object 143"/>
              <p:cNvSpPr txBox="1"/>
              <p:nvPr/>
            </p:nvSpPr>
            <p:spPr>
              <a:xfrm>
                <a:off x="1066680" y="3564000"/>
                <a:ext cx="179640" cy="2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Object 144"/>
              <p:cNvSpPr txBox="1"/>
              <p:nvPr/>
            </p:nvSpPr>
            <p:spPr>
              <a:xfrm>
                <a:off x="1557360" y="3565440"/>
                <a:ext cx="22392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Object 145"/>
              <p:cNvSpPr txBox="1"/>
              <p:nvPr/>
            </p:nvSpPr>
            <p:spPr>
              <a:xfrm>
                <a:off x="762120" y="1981080"/>
                <a:ext cx="179280" cy="2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Object 146"/>
              <p:cNvSpPr txBox="1"/>
              <p:nvPr/>
            </p:nvSpPr>
            <p:spPr>
              <a:xfrm>
                <a:off x="2627280" y="1989000"/>
                <a:ext cx="22392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Object 147"/>
              <p:cNvSpPr txBox="1"/>
              <p:nvPr/>
            </p:nvSpPr>
            <p:spPr>
              <a:xfrm>
                <a:off x="3446640" y="3484440"/>
                <a:ext cx="93024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  <m:r>
                      <m:t xml:space="preserve">≈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Object 148"/>
              <p:cNvSpPr txBox="1"/>
              <p:nvPr/>
            </p:nvSpPr>
            <p:spPr>
              <a:xfrm>
                <a:off x="4741920" y="3484440"/>
                <a:ext cx="92880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[</m:t>
                    </m:r>
                    <m:r>
                      <m:t xml:space="preserve">B</m:t>
                    </m:r>
                    <m:r>
                      <m:t xml:space="preserve">]</m:t>
                    </m:r>
                    <m:r>
                      <m:t xml:space="preserve">≈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投影片編號版面配置區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77548-51B4-4ED4-A879-C9B1C03A84EC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3" name="Object 24"/>
          <p:cNvGraphicFramePr/>
          <p:nvPr/>
        </p:nvGraphicFramePr>
        <p:xfrm>
          <a:off x="0" y="1676520"/>
          <a:ext cx="4419720" cy="416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4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76520"/>
                    <a:ext cx="4419720" cy="41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5" name="Object 25"/>
          <p:cNvGraphicFramePr/>
          <p:nvPr/>
        </p:nvGraphicFramePr>
        <p:xfrm>
          <a:off x="4343400" y="1676520"/>
          <a:ext cx="4581360" cy="419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6" name="Object 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1676520"/>
                    <a:ext cx="458136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HT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LD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的機率分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7"/>
          <p:cNvSpPr/>
          <p:nvPr/>
        </p:nvSpPr>
        <p:spPr>
          <a:xfrm>
            <a:off x="924480" y="5987880"/>
            <a:ext cx="300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圖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6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0.5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時的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H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和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L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8"/>
          <p:cNvSpPr/>
          <p:nvPr/>
        </p:nvSpPr>
        <p:spPr>
          <a:xfrm>
            <a:off x="5241960" y="5987880"/>
            <a:ext cx="310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圖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7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0.25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時的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H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和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L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投影片編號版面配置區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C3E26-4542-4598-8023-58EB0E337C42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HT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LD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的累計分布函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2" name="Object 44"/>
          <p:cNvGraphicFramePr/>
          <p:nvPr/>
        </p:nvGraphicFramePr>
        <p:xfrm>
          <a:off x="0" y="2514600"/>
          <a:ext cx="4648320" cy="323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3" name="Object 4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14600"/>
                    <a:ext cx="464832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4" name="Object 45"/>
          <p:cNvGraphicFramePr/>
          <p:nvPr/>
        </p:nvGraphicFramePr>
        <p:xfrm>
          <a:off x="4467240" y="2514600"/>
          <a:ext cx="4676760" cy="325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5" name="Object 4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67240" y="2514600"/>
                    <a:ext cx="4676760" cy="32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96" name="Group 10"/>
          <p:cNvGrpSpPr/>
          <p:nvPr/>
        </p:nvGrpSpPr>
        <p:grpSpPr>
          <a:xfrm>
            <a:off x="546120" y="1752480"/>
            <a:ext cx="4199040" cy="2775240"/>
            <a:chOff x="546120" y="1752480"/>
            <a:chExt cx="4199040" cy="2775240"/>
          </a:xfrm>
        </p:grpSpPr>
        <p:sp>
          <p:nvSpPr>
            <p:cNvPr id="497" name="Rectangle 9"/>
            <p:cNvSpPr/>
            <p:nvPr/>
          </p:nvSpPr>
          <p:spPr>
            <a:xfrm>
              <a:off x="2438280" y="1752480"/>
              <a:ext cx="478080" cy="27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新細明體"/>
                </a:rPr>
                <a:t>和    　　　　　　</a:t>
              </a:r>
              <a:r>
                <a:rPr b="0" lang="zh-TW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8" name="Object 46"/>
                <p:cNvSpPr txBox="1"/>
                <p:nvPr/>
              </p:nvSpPr>
              <p:spPr>
                <a:xfrm>
                  <a:off x="2874960" y="1790640"/>
                  <a:ext cx="1870200" cy="49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LD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  <m:supHide m:val="1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≤</m:t>
                          </m:r>
                          <m:r>
                            <m:t xml:space="preserve">x</m:t>
                          </m:r>
                        </m:sub>
                        <m:sup/>
                        <m:e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RLD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9" name="Object 47"/>
                <p:cNvSpPr txBox="1"/>
                <p:nvPr/>
              </p:nvSpPr>
              <p:spPr>
                <a:xfrm>
                  <a:off x="546120" y="1790640"/>
                  <a:ext cx="1865160" cy="49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HT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  <m:supHide m:val="1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≤</m:t>
                          </m:r>
                          <m:r>
                            <m:t xml:space="preserve">x</m:t>
                          </m:r>
                        </m:sub>
                        <m:sup/>
                        <m:e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RHT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00" name="Text Box 11"/>
          <p:cNvSpPr/>
          <p:nvPr/>
        </p:nvSpPr>
        <p:spPr>
          <a:xfrm>
            <a:off x="924120" y="5867280"/>
            <a:ext cx="3136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圖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8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0.5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時的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H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和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L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12"/>
          <p:cNvSpPr/>
          <p:nvPr/>
        </p:nvSpPr>
        <p:spPr>
          <a:xfrm>
            <a:off x="5241960" y="5867280"/>
            <a:ext cx="3238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圖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9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0.25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時的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H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和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L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5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道路偵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457200" y="1773000"/>
            <a:ext cx="8362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首先來看一張道路彎曲度較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大的邊圖，如圖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51(a)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很明顯地，圖中的道路邊緣用肉眼看的確蠻像拋物線。利用測邊算子，我們可得到圖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5.1(a)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的邊圖如圖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5.1(b)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投影片編號版面配置區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80DE2-CD2B-481B-91C6-8455EC210333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26" descr="Road1"/>
          <p:cNvPicPr/>
          <p:nvPr/>
        </p:nvPicPr>
        <p:blipFill>
          <a:blip r:embed="rId1"/>
          <a:stretch/>
        </p:blipFill>
        <p:spPr>
          <a:xfrm>
            <a:off x="971640" y="2997360"/>
            <a:ext cx="3060720" cy="28684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28" descr="Edge1"/>
          <p:cNvPicPr/>
          <p:nvPr/>
        </p:nvPicPr>
        <p:blipFill>
          <a:blip r:embed="rId2"/>
          <a:stretch/>
        </p:blipFill>
        <p:spPr>
          <a:xfrm>
            <a:off x="4716360" y="2997360"/>
            <a:ext cx="3022560" cy="2833560"/>
          </a:xfrm>
          <a:prstGeom prst="rect">
            <a:avLst/>
          </a:prstGeom>
          <a:ln w="0">
            <a:noFill/>
          </a:ln>
        </p:spPr>
      </p:pic>
      <p:sp>
        <p:nvSpPr>
          <p:cNvPr id="507" name="Text Box 33"/>
          <p:cNvSpPr/>
          <p:nvPr/>
        </p:nvSpPr>
        <p:spPr>
          <a:xfrm>
            <a:off x="971640" y="586728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輸入的道路影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34"/>
          <p:cNvSpPr/>
          <p:nvPr/>
        </p:nvSpPr>
        <p:spPr>
          <a:xfrm>
            <a:off x="4716360" y="586728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)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得到的道路邊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文字方塊 9"/>
          <p:cNvSpPr/>
          <p:nvPr/>
        </p:nvSpPr>
        <p:spPr>
          <a:xfrm>
            <a:off x="2843280" y="62373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圖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250560" y="1125360"/>
            <a:ext cx="87138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根據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uge[11]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的數學推導，在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影像平面上，道路的邊緣形狀可以下列的拋物線數學式表示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   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.5.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上式中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和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為待解參數。利用求出的數學表示式，我們就可以標出道路的邊緣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植基於陣列上的隨機式演算法來求解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.5.1)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邊圖上抽取出四個邊點，將其中的三個邊點代入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.5.1)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解出來的三個參數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和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可用來決定描述道路邊緣的拋物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投影片編號版面配置區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DB642-7202-4518-908B-739F9732D61A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2" name="Object 14"/>
          <p:cNvGraphicFramePr/>
          <p:nvPr/>
        </p:nvGraphicFramePr>
        <p:xfrm>
          <a:off x="3419640" y="1844640"/>
          <a:ext cx="1533240" cy="68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3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1844640"/>
                    <a:ext cx="153324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468360" y="1125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令選用的三個邊點座標為          、         、         代入式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.5.1)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後，可以得到下列的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×3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線性系統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.5.2)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利用高斯消去法，式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.5.2)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中的三個參數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和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就可輕易解出了。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5.1(b)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道路邊緣圖示於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5.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投影片編號版面配置區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6FBAB-6CFA-4074-A243-DD6415131E72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6" name="Object 31"/>
              <p:cNvSpPr txBox="1"/>
              <p:nvPr/>
            </p:nvSpPr>
            <p:spPr>
              <a:xfrm>
                <a:off x="3995640" y="1125360"/>
                <a:ext cx="78264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Object 32"/>
              <p:cNvSpPr txBox="1"/>
              <p:nvPr/>
            </p:nvSpPr>
            <p:spPr>
              <a:xfrm>
                <a:off x="5011560" y="1125360"/>
                <a:ext cx="7128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Object 33"/>
              <p:cNvSpPr txBox="1"/>
              <p:nvPr/>
            </p:nvSpPr>
            <p:spPr>
              <a:xfrm>
                <a:off x="5950080" y="1125360"/>
                <a:ext cx="7826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19" name="Object 34"/>
          <p:cNvGraphicFramePr/>
          <p:nvPr/>
        </p:nvGraphicFramePr>
        <p:xfrm>
          <a:off x="3089160" y="2003400"/>
          <a:ext cx="2390760" cy="221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0" name="Object 3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89160" y="2003400"/>
                    <a:ext cx="2390760" cy="22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投影片編號版面配置區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0960F-EDB9-4168-AABE-17AE068311AD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29" descr="Result1"/>
          <p:cNvPicPr/>
          <p:nvPr/>
        </p:nvPicPr>
        <p:blipFill>
          <a:blip r:embed="rId1"/>
          <a:stretch/>
        </p:blipFill>
        <p:spPr>
          <a:xfrm>
            <a:off x="2484360" y="1484280"/>
            <a:ext cx="3745080" cy="3511440"/>
          </a:xfrm>
          <a:prstGeom prst="rect">
            <a:avLst/>
          </a:prstGeom>
          <a:ln w="0">
            <a:noFill/>
          </a:ln>
        </p:spPr>
      </p:pic>
      <p:sp>
        <p:nvSpPr>
          <p:cNvPr id="523" name="文字方塊 5"/>
          <p:cNvSpPr/>
          <p:nvPr/>
        </p:nvSpPr>
        <p:spPr>
          <a:xfrm>
            <a:off x="2484360" y="515772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圖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5.2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偵測到的道路邊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6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結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456840" y="1980720"/>
            <a:ext cx="8147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本章中介紹了四種直線偵測的方法。蠻力法在計算速度上太慢了。霍式轉換法是非隨機方法，缺點是使用了很花記憶體的累積陣列以及需檢查全部的邊點。隨機式方法避開上述兩種方法的缺點，且在道路偵測上也有一定的效果。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直線偵測在文件處理時對於文件內的欄位邊界之定位有很大的幫助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斜截式的霍式轉換法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2]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也可經由線性轉換而得到更省記憶體和更快的直線偵測法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投影片編號版面配置區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9C865-9481-483C-8A95-45E7821E22E0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投影片編號版面配置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F9C95-EE54-421A-8E8A-2313662C56E1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5.2 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蠻力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Object 82"/>
          <p:cNvGraphicFramePr/>
          <p:nvPr/>
        </p:nvGraphicFramePr>
        <p:xfrm>
          <a:off x="5791320" y="3886200"/>
          <a:ext cx="2819160" cy="239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8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3886200"/>
                    <a:ext cx="2819160" cy="23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Text Box 6"/>
          <p:cNvSpPr/>
          <p:nvPr/>
        </p:nvSpPr>
        <p:spPr>
          <a:xfrm>
            <a:off x="5992200" y="6292800"/>
            <a:ext cx="209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圖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3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時的所有可能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群組 17"/>
          <p:cNvGrpSpPr/>
          <p:nvPr/>
        </p:nvGrpSpPr>
        <p:grpSpPr>
          <a:xfrm>
            <a:off x="324000" y="1916280"/>
            <a:ext cx="8229600" cy="2800080"/>
            <a:chOff x="324000" y="1916280"/>
            <a:chExt cx="8229600" cy="2800080"/>
          </a:xfrm>
        </p:grpSpPr>
        <p:sp>
          <p:nvSpPr>
            <p:cNvPr id="124" name="Rectangle 14"/>
            <p:cNvSpPr/>
            <p:nvPr/>
          </p:nvSpPr>
          <p:spPr>
            <a:xfrm>
              <a:off x="324000" y="1916280"/>
              <a:ext cx="8229600" cy="47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新細明體"/>
                </a:rPr>
                <a:t>邊點集為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</a:t>
              </a:r>
              <a:r>
                <a:rPr b="0" lang="zh-TW" sz="2200" spc="-1" strike="noStrike">
                  <a:solidFill>
                    <a:srgbClr val="000000"/>
                  </a:solidFill>
                  <a:latin typeface="新細明體"/>
                </a:rPr>
                <a:t>且 　　。每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0" lang="zh-TW" sz="2200" spc="-1" strike="noStrike">
                  <a:solidFill>
                    <a:srgbClr val="000000"/>
                  </a:solidFill>
                  <a:latin typeface="新細明體"/>
                </a:rPr>
                <a:t>個邊點可構成一直線，共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5" name="Object 83"/>
                <p:cNvSpPr txBox="1"/>
                <p:nvPr/>
              </p:nvSpPr>
              <p:spPr>
                <a:xfrm>
                  <a:off x="1945800" y="1960560"/>
                  <a:ext cx="722160" cy="40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=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V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6" name="Object 84"/>
                <p:cNvSpPr txBox="1"/>
                <p:nvPr/>
              </p:nvSpPr>
              <p:spPr>
                <a:xfrm>
                  <a:off x="2844360" y="2636280"/>
                  <a:ext cx="2423880" cy="72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m</m:t>
                              </m:r>
                            </m:e>
                            <m:e/>
                          </m:d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27" name="Text Box 18"/>
            <p:cNvSpPr/>
            <p:nvPr/>
          </p:nvSpPr>
          <p:spPr>
            <a:xfrm>
              <a:off x="6224400" y="2734200"/>
              <a:ext cx="3164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新細明體"/>
                </a:rPr>
                <a:t>條可能的直線。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19"/>
            <p:cNvSpPr/>
            <p:nvPr/>
          </p:nvSpPr>
          <p:spPr>
            <a:xfrm>
              <a:off x="1558080" y="3581280"/>
              <a:ext cx="3862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新細明體"/>
                </a:rPr>
                <a:t>令這些直線為　、　、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zh-TW" sz="2200" spc="-1" strike="noStrike">
                  <a:solidFill>
                    <a:srgbClr val="000000"/>
                  </a:solidFill>
                  <a:latin typeface="新細明體"/>
                </a:rPr>
                <a:t>和　，此處　　　　　。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9" name="Object 85"/>
                <p:cNvSpPr txBox="1"/>
                <p:nvPr/>
              </p:nvSpPr>
              <p:spPr>
                <a:xfrm>
                  <a:off x="2162160" y="3668760"/>
                  <a:ext cx="24732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0" name="Object 86"/>
                <p:cNvSpPr txBox="1"/>
                <p:nvPr/>
              </p:nvSpPr>
              <p:spPr>
                <a:xfrm>
                  <a:off x="2695680" y="3668760"/>
                  <a:ext cx="27288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1" name="Object 87"/>
                <p:cNvSpPr txBox="1"/>
                <p:nvPr/>
              </p:nvSpPr>
              <p:spPr>
                <a:xfrm>
                  <a:off x="3838680" y="3668760"/>
                  <a:ext cx="272880" cy="35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2" name="Object 88"/>
                <p:cNvSpPr txBox="1"/>
                <p:nvPr/>
              </p:nvSpPr>
              <p:spPr>
                <a:xfrm>
                  <a:off x="4945320" y="3516480"/>
                  <a:ext cx="128412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m</m:t>
                          </m:r>
                          <m:r>
                            <m:t xml:space="preserve">(</m:t>
                          </m:r>
                          <m:r>
                            <m:t xml:space="preserve">m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133" name="Group 25"/>
            <p:cNvGrpSpPr/>
            <p:nvPr/>
          </p:nvGrpSpPr>
          <p:grpSpPr>
            <a:xfrm>
              <a:off x="324000" y="4278240"/>
              <a:ext cx="5638680" cy="438120"/>
              <a:chOff x="324000" y="4278240"/>
              <a:chExt cx="5638680" cy="438120"/>
            </a:xfrm>
          </p:grpSpPr>
          <p:sp>
            <p:nvSpPr>
              <p:cNvPr id="134" name="Text Box 16"/>
              <p:cNvSpPr/>
              <p:nvPr/>
            </p:nvSpPr>
            <p:spPr>
              <a:xfrm>
                <a:off x="324000" y="4278240"/>
                <a:ext cx="56386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200" spc="-1" strike="noStrike">
                    <a:solidFill>
                      <a:srgbClr val="000000"/>
                    </a:solidFill>
                    <a:latin typeface="新細明體"/>
                  </a:rPr>
                  <a:t>例如　　　　，有</a:t>
                </a:r>
                <a:r>
                  <a:rPr b="0" lang="zh-TW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</a:t>
                </a:r>
                <a:r>
                  <a:rPr b="0" lang="zh-TW" sz="2200" spc="-1" strike="noStrike">
                    <a:solidFill>
                      <a:srgbClr val="000000"/>
                    </a:solidFill>
                    <a:latin typeface="新細明體"/>
                  </a:rPr>
                  <a:t>種可能被偵測到的直線。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35" name="Object 89"/>
                  <p:cNvSpPr txBox="1"/>
                  <p:nvPr/>
                </p:nvSpPr>
                <p:spPr>
                  <a:xfrm>
                    <a:off x="1028880" y="4310280"/>
                    <a:ext cx="1077840" cy="406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m</m:t>
                        </m:r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4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投影片編號版面配置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E1CD3-C542-4762-9F32-CE63927B68F8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Object 117"/>
          <p:cNvGraphicFramePr/>
          <p:nvPr/>
        </p:nvGraphicFramePr>
        <p:xfrm>
          <a:off x="4859280" y="2924280"/>
          <a:ext cx="3657600" cy="291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1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2924280"/>
                    <a:ext cx="3657600" cy="29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Text Box 1037"/>
          <p:cNvSpPr/>
          <p:nvPr/>
        </p:nvSpPr>
        <p:spPr>
          <a:xfrm>
            <a:off x="5785560" y="6019920"/>
            <a:ext cx="176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圖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4 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距離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的決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群組 20"/>
          <p:cNvGrpSpPr/>
          <p:nvPr/>
        </p:nvGrpSpPr>
        <p:grpSpPr>
          <a:xfrm>
            <a:off x="304920" y="685800"/>
            <a:ext cx="8457840" cy="3801240"/>
            <a:chOff x="304920" y="685800"/>
            <a:chExt cx="8457840" cy="3801240"/>
          </a:xfrm>
        </p:grpSpPr>
        <p:sp>
          <p:nvSpPr>
            <p:cNvPr id="141" name="Text Box 1049"/>
            <p:cNvSpPr/>
            <p:nvPr/>
          </p:nvSpPr>
          <p:spPr>
            <a:xfrm>
              <a:off x="1741320" y="2205000"/>
              <a:ext cx="6046560" cy="86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新細明體"/>
                </a:rPr>
                <a:t>若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r>
                <a:rPr b="0" lang="zh-TW" sz="2200" spc="-1" strike="noStrike">
                  <a:solidFill>
                    <a:srgbClr val="000000"/>
                  </a:solidFill>
                  <a:latin typeface="新細明體"/>
                </a:rPr>
                <a:t>小於設定的門檻值     ，例如          ，則邊點            對    </a:t>
              </a:r>
              <a:r>
                <a:rPr b="0" lang="zh-TW" sz="2200" spc="-1" strike="noStrike">
                  <a:solidFill>
                    <a:srgbClr val="000000"/>
                  </a:solidFill>
                  <a:latin typeface="Arial"/>
                </a:rPr>
                <a:t>投了一票</a:t>
              </a:r>
              <a:r>
                <a:rPr b="0" lang="zh-TW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TW" sz="2200" spc="-1" strike="noStrike">
                  <a:solidFill>
                    <a:srgbClr val="000000"/>
                  </a:solidFill>
                  <a:latin typeface="新細明體"/>
                </a:rPr>
                <a:t>。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新細明體"/>
                </a:rPr>
                <a:t>此處          代表允許頻寬為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zh-TW" sz="2200" spc="-1" strike="noStrike">
                  <a:solidFill>
                    <a:srgbClr val="000000"/>
                  </a:solidFill>
                  <a:latin typeface="新細明體"/>
                </a:rPr>
                <a:t>。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048"/>
            <p:cNvSpPr/>
            <p:nvPr/>
          </p:nvSpPr>
          <p:spPr>
            <a:xfrm>
              <a:off x="304920" y="685800"/>
              <a:ext cx="8457840" cy="86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新細明體"/>
                </a:rPr>
                <a:t>每一邊點           計算其與                        的距離</a:t>
              </a:r>
              <a:r>
                <a:rPr b="0" lang="en-US" sz="2200" spc="-1" strike="noStrike">
                  <a:solidFill>
                    <a:srgbClr val="000000"/>
                  </a:solidFill>
                  <a:latin typeface="新細明體"/>
                </a:rPr>
                <a:t>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3" name="Object 118"/>
                <p:cNvSpPr txBox="1"/>
                <p:nvPr/>
              </p:nvSpPr>
              <p:spPr>
                <a:xfrm>
                  <a:off x="6163920" y="2286000"/>
                  <a:ext cx="76968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,</m:t>
                      </m:r>
                      <m:sSup>
                        <m:e>
                          <m:r>
                            <m:t xml:space="preserve">y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4" name="Object 119"/>
                <p:cNvSpPr txBox="1"/>
                <p:nvPr/>
              </p:nvSpPr>
              <p:spPr>
                <a:xfrm>
                  <a:off x="3563640" y="764640"/>
                  <a:ext cx="1603080" cy="39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: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x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5" name="Object 120"/>
                <p:cNvSpPr txBox="1"/>
                <p:nvPr/>
              </p:nvSpPr>
              <p:spPr>
                <a:xfrm>
                  <a:off x="3265200" y="1230120"/>
                  <a:ext cx="1871280" cy="86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r>
                        <m:t xml:space="preserve">=</m:t>
                      </m:r>
                      <m:f>
                        <m:num>
                          <m:d>
                            <m:dPr>
                              <m:begChr m:val="|"/>
                              <m:endChr m:val="|"/>
                            </m:dPr>
                            <m:e>
                              <m:sSup>
                                <m:e>
                                  <m:r>
                                    <m:t xml:space="preserve">y</m:t>
                                  </m:r>
                                </m:e>
                                <m:sup>
                                  <m:r>
                                    <m:t xml:space="preserve">'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'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d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6" name="Object 121"/>
                <p:cNvSpPr txBox="1"/>
                <p:nvPr/>
              </p:nvSpPr>
              <p:spPr>
                <a:xfrm>
                  <a:off x="3135240" y="2279520"/>
                  <a:ext cx="25704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7" name="Object 122"/>
                <p:cNvSpPr txBox="1"/>
                <p:nvPr/>
              </p:nvSpPr>
              <p:spPr>
                <a:xfrm>
                  <a:off x="1043640" y="2637000"/>
                  <a:ext cx="60768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8" name="Object 123"/>
                <p:cNvSpPr txBox="1"/>
                <p:nvPr/>
              </p:nvSpPr>
              <p:spPr>
                <a:xfrm>
                  <a:off x="1547640" y="764640"/>
                  <a:ext cx="76968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,</m:t>
                      </m:r>
                      <m:sSup>
                        <m:e>
                          <m:r>
                            <m:t xml:space="preserve">y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9" name="Object 124"/>
                <p:cNvSpPr txBox="1"/>
                <p:nvPr/>
              </p:nvSpPr>
              <p:spPr>
                <a:xfrm>
                  <a:off x="4298760" y="2279520"/>
                  <a:ext cx="60768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0" name="Object 125"/>
                <p:cNvSpPr txBox="1"/>
                <p:nvPr/>
              </p:nvSpPr>
              <p:spPr>
                <a:xfrm>
                  <a:off x="7248240" y="2286000"/>
                  <a:ext cx="271440" cy="39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51" name="Text Box 1050"/>
            <p:cNvSpPr/>
            <p:nvPr/>
          </p:nvSpPr>
          <p:spPr>
            <a:xfrm>
              <a:off x="7316280" y="1371600"/>
              <a:ext cx="927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(5.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2.1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Group 1056"/>
            <p:cNvGrpSpPr/>
            <p:nvPr/>
          </p:nvGrpSpPr>
          <p:grpSpPr>
            <a:xfrm>
              <a:off x="304920" y="3622680"/>
              <a:ext cx="4495320" cy="864360"/>
              <a:chOff x="304920" y="3622680"/>
              <a:chExt cx="4495320" cy="864360"/>
            </a:xfrm>
          </p:grpSpPr>
          <p:sp>
            <p:nvSpPr>
              <p:cNvPr id="153" name="Rectangle 1055"/>
              <p:cNvSpPr/>
              <p:nvPr/>
            </p:nvSpPr>
            <p:spPr>
              <a:xfrm>
                <a:off x="304920" y="3622680"/>
                <a:ext cx="4495320" cy="86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200" spc="-1" strike="noStrike">
                    <a:solidFill>
                      <a:srgbClr val="000000"/>
                    </a:solidFill>
                    <a:latin typeface="新細明體"/>
                  </a:rPr>
                  <a:t>若總得分數超過門檻值     ，則我們稱      為一真正的</a:t>
                </a:r>
                <a:r>
                  <a:rPr b="1" lang="zh-TW" sz="2200" spc="-1" strike="noStrike">
                    <a:solidFill>
                      <a:srgbClr val="666699"/>
                    </a:solidFill>
                    <a:latin typeface="新細明體"/>
                  </a:rPr>
                  <a:t>直線</a:t>
                </a:r>
                <a:r>
                  <a:rPr b="0" lang="zh-TW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True Line)</a:t>
                </a:r>
                <a:r>
                  <a:rPr b="0" lang="zh-TW" sz="2200" spc="-1" strike="noStrike">
                    <a:solidFill>
                      <a:srgbClr val="000000"/>
                    </a:solidFill>
                    <a:latin typeface="新細明體"/>
                  </a:rPr>
                  <a:t>。</a:t>
                </a:r>
                <a:r>
                  <a:rPr b="0" lang="zh-TW" sz="2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54" name="Object 127"/>
                  <p:cNvSpPr txBox="1"/>
                  <p:nvPr/>
                </p:nvSpPr>
                <p:spPr>
                  <a:xfrm>
                    <a:off x="707760" y="4077000"/>
                    <a:ext cx="258480" cy="380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55" name="Object 128"/>
                  <p:cNvSpPr txBox="1"/>
                  <p:nvPr/>
                </p:nvSpPr>
                <p:spPr>
                  <a:xfrm>
                    <a:off x="3276360" y="3716640"/>
                    <a:ext cx="258120" cy="355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投影片編號版面配置區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CC21E-2066-4424-A0CC-3FFC35F947D9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380880" y="1827360"/>
            <a:ext cx="8305920" cy="9313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新細明體"/>
              </a:rPr>
              <a:t>定理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   </a:t>
            </a:r>
            <a:r>
              <a:rPr b="0" lang="zh-TW" sz="2200" spc="-1" strike="noStrike">
                <a:solidFill>
                  <a:srgbClr val="000000"/>
                </a:solidFill>
                <a:latin typeface="新細明體"/>
              </a:rPr>
              <a:t>令邊點集    的邊點數為          ，蠻力法可在            的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新細明體"/>
              </a:rPr>
              <a:t>                  </a:t>
            </a:r>
            <a:r>
              <a:rPr b="0" lang="zh-TW" sz="2200" spc="-1" strike="noStrike">
                <a:solidFill>
                  <a:srgbClr val="000000"/>
                </a:solidFill>
                <a:latin typeface="新細明體"/>
              </a:rPr>
              <a:t>間完成直線偵測的工作。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88"/>
              <p:cNvSpPr txBox="1"/>
              <p:nvPr/>
            </p:nvSpPr>
            <p:spPr>
              <a:xfrm>
                <a:off x="2916360" y="1955880"/>
                <a:ext cx="25704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89"/>
              <p:cNvSpPr txBox="1"/>
              <p:nvPr/>
            </p:nvSpPr>
            <p:spPr>
              <a:xfrm>
                <a:off x="4643280" y="1884240"/>
                <a:ext cx="7700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90"/>
              <p:cNvSpPr txBox="1"/>
              <p:nvPr/>
            </p:nvSpPr>
            <p:spPr>
              <a:xfrm>
                <a:off x="7031160" y="1905120"/>
                <a:ext cx="7189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Ο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1" name="Group 16"/>
          <p:cNvGrpSpPr/>
          <p:nvPr/>
        </p:nvGrpSpPr>
        <p:grpSpPr>
          <a:xfrm>
            <a:off x="380880" y="3732120"/>
            <a:ext cx="8458200" cy="965160"/>
            <a:chOff x="380880" y="3732120"/>
            <a:chExt cx="8458200" cy="965160"/>
          </a:xfrm>
        </p:grpSpPr>
        <p:sp>
          <p:nvSpPr>
            <p:cNvPr id="162" name="Rectangle 13"/>
            <p:cNvSpPr/>
            <p:nvPr/>
          </p:nvSpPr>
          <p:spPr>
            <a:xfrm>
              <a:off x="380880" y="3732120"/>
              <a:ext cx="845820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新細明體"/>
                </a:rPr>
                <a:t>已知           ，計算    的貢獻分數，共需花費的時間         。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新細明體"/>
                </a:rPr>
                <a:t>考慮            條直線，總時間複雜度為                              。                             </a:t>
              </a:r>
              <a:r>
                <a:rPr b="0" lang="zh-TW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3" name="Object 91"/>
                <p:cNvSpPr txBox="1"/>
                <p:nvPr/>
              </p:nvSpPr>
              <p:spPr>
                <a:xfrm>
                  <a:off x="1087560" y="3828960"/>
                  <a:ext cx="733320" cy="40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=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V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4" name="Object 92"/>
                <p:cNvSpPr txBox="1"/>
                <p:nvPr/>
              </p:nvSpPr>
              <p:spPr>
                <a:xfrm>
                  <a:off x="2705040" y="3884760"/>
                  <a:ext cx="246240" cy="29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5" name="Object 94"/>
                <p:cNvSpPr txBox="1"/>
                <p:nvPr/>
              </p:nvSpPr>
              <p:spPr>
                <a:xfrm>
                  <a:off x="6583320" y="3857760"/>
                  <a:ext cx="69696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Ο</m:t>
                      </m:r>
                      <m:r>
                        <m:t xml:space="preserve">(</m:t>
                      </m:r>
                      <m:r>
                        <m:t xml:space="preserve">m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6" name="Object 95"/>
                <p:cNvSpPr txBox="1"/>
                <p:nvPr/>
              </p:nvSpPr>
              <p:spPr>
                <a:xfrm>
                  <a:off x="1042920" y="4240080"/>
                  <a:ext cx="804960" cy="41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Ο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m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167" name="Object 96"/>
            <p:cNvGraphicFramePr/>
            <p:nvPr/>
          </p:nvGraphicFramePr>
          <p:xfrm>
            <a:off x="4960800" y="4230720"/>
            <a:ext cx="2197080" cy="414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8" name="Object 9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960800" y="4230720"/>
                      <a:ext cx="2197080" cy="41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69" name="Text Box 14"/>
          <p:cNvSpPr/>
          <p:nvPr/>
        </p:nvSpPr>
        <p:spPr>
          <a:xfrm>
            <a:off x="534240" y="3076560"/>
            <a:ext cx="68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新細明體"/>
              </a:rPr>
              <a:t>證明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投影片編號版面配置區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DC4C4-4F83-4E03-A497-A4D846A8ECC5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604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範例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：今有二維空間上通過直線                         的兩點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             和            ，試問這兩點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,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參數空間的分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 佈情形為何？這裏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代表斜率，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代表截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78"/>
              <p:cNvSpPr txBox="1"/>
              <p:nvPr/>
            </p:nvSpPr>
            <p:spPr>
              <a:xfrm>
                <a:off x="4979880" y="555480"/>
                <a:ext cx="192420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x</m:t>
                    </m:r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79"/>
              <p:cNvSpPr txBox="1"/>
              <p:nvPr/>
            </p:nvSpPr>
            <p:spPr>
              <a:xfrm>
                <a:off x="1087560" y="927000"/>
                <a:ext cx="9554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80"/>
              <p:cNvSpPr txBox="1"/>
              <p:nvPr/>
            </p:nvSpPr>
            <p:spPr>
              <a:xfrm>
                <a:off x="2268360" y="928800"/>
                <a:ext cx="995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Rectangle 16"/>
          <p:cNvSpPr/>
          <p:nvPr/>
        </p:nvSpPr>
        <p:spPr>
          <a:xfrm>
            <a:off x="568440" y="1937160"/>
            <a:ext cx="829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解答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群組 22"/>
          <p:cNvGrpSpPr/>
          <p:nvPr/>
        </p:nvGrpSpPr>
        <p:grpSpPr>
          <a:xfrm>
            <a:off x="1332000" y="2087280"/>
            <a:ext cx="7392960" cy="486000"/>
            <a:chOff x="1332000" y="2087280"/>
            <a:chExt cx="7392960" cy="486000"/>
          </a:xfrm>
        </p:grpSpPr>
        <mc:AlternateContent>
          <mc:Choice xmlns:a14="http://schemas.microsoft.com/office/drawing/2010/main" Requires="a14">
            <p:sp>
              <p:nvSpPr>
                <p:cNvPr id="177" name="Object 81"/>
                <p:cNvSpPr txBox="1"/>
                <p:nvPr/>
              </p:nvSpPr>
              <p:spPr>
                <a:xfrm>
                  <a:off x="1332000" y="2132280"/>
                  <a:ext cx="1025280" cy="44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78" name="Rectangle 17"/>
            <p:cNvSpPr/>
            <p:nvPr/>
          </p:nvSpPr>
          <p:spPr>
            <a:xfrm>
              <a:off x="2373120" y="2131920"/>
              <a:ext cx="397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和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9" name="Object 82"/>
                <p:cNvSpPr txBox="1"/>
                <p:nvPr/>
              </p:nvSpPr>
              <p:spPr>
                <a:xfrm>
                  <a:off x="2772000" y="2132280"/>
                  <a:ext cx="1087200" cy="44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80" name="Rectangle 18"/>
            <p:cNvSpPr/>
            <p:nvPr/>
          </p:nvSpPr>
          <p:spPr>
            <a:xfrm>
              <a:off x="1332000" y="2087280"/>
              <a:ext cx="7392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這兩點滿足等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1" name="Object 83"/>
              <p:cNvSpPr txBox="1"/>
              <p:nvPr/>
            </p:nvSpPr>
            <p:spPr>
              <a:xfrm>
                <a:off x="3348000" y="2581200"/>
                <a:ext cx="265284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m</m:t>
                        </m:r>
                      </m:e>
                    </m:acc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Rectangle 19"/>
          <p:cNvSpPr/>
          <p:nvPr/>
        </p:nvSpPr>
        <p:spPr>
          <a:xfrm>
            <a:off x="3081600" y="3070800"/>
            <a:ext cx="459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此一來，這兩點必定相交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84"/>
              <p:cNvSpPr txBox="1"/>
              <p:nvPr/>
            </p:nvSpPr>
            <p:spPr>
              <a:xfrm>
                <a:off x="5121360" y="3075120"/>
                <a:ext cx="717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m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" name="Rectangle 21"/>
          <p:cNvSpPr/>
          <p:nvPr/>
        </p:nvSpPr>
        <p:spPr>
          <a:xfrm>
            <a:off x="6778800" y="3071880"/>
            <a:ext cx="73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參數空間上的一點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4" descr="C5"/>
          <p:cNvPicPr/>
          <p:nvPr/>
        </p:nvPicPr>
        <p:blipFill>
          <a:blip r:embed="rId1"/>
          <a:stretch/>
        </p:blipFill>
        <p:spPr>
          <a:xfrm>
            <a:off x="2857680" y="3500280"/>
            <a:ext cx="3311280" cy="30006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27"/>
          <p:cNvSpPr/>
          <p:nvPr/>
        </p:nvSpPr>
        <p:spPr>
          <a:xfrm>
            <a:off x="633240" y="6215400"/>
            <a:ext cx="104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解答完畢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範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：利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參數空間，可否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的時間內完成直線偵測的工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投影片編號版面配置區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6DD48-0F1C-452F-B8BA-854A9C8D044E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Object 22"/>
          <p:cNvGraphicFramePr/>
          <p:nvPr/>
        </p:nvGraphicFramePr>
        <p:xfrm>
          <a:off x="2143080" y="2143080"/>
          <a:ext cx="4572000" cy="407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3080" y="2143080"/>
                    <a:ext cx="4572000" cy="40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投影片編號版面配置區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1D712-0E66-408E-9357-6615CDC5F2BB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Object 12"/>
          <p:cNvGraphicFramePr/>
          <p:nvPr/>
        </p:nvGraphicFramePr>
        <p:xfrm>
          <a:off x="1071720" y="1278000"/>
          <a:ext cx="6672240" cy="44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1278000"/>
                    <a:ext cx="6672240" cy="44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7T04:48:03Z</dcterms:created>
  <dc:creator>Mirrorchiu</dc:creator>
  <dc:description/>
  <dc:language>en-US</dc:language>
  <cp:lastModifiedBy>Mirrorchiu</cp:lastModifiedBy>
  <dcterms:modified xsi:type="dcterms:W3CDTF">2012-06-14T01:12:51Z</dcterms:modified>
  <cp:revision>205</cp:revision>
  <dc:subject/>
  <dc:title>第五章 直線與道路偵測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