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108.jpeg" ContentType="image/jpeg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114.wmf" ContentType="image/x-wmf"/>
  <Override PartName="/ppt/media/image72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87.wmf" ContentType="image/x-wmf"/>
  <Override PartName="/ppt/media/image88.wmf" ContentType="image/x-wmf"/>
  <Override PartName="/ppt/media/image90.png" ContentType="image/png"/>
  <Override PartName="/ppt/media/image89.wmf" ContentType="image/x-wmf"/>
  <Override PartName="/ppt/media/image7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71.wmf" ContentType="image/x-wmf"/>
  <Override PartName="/ppt/media/image112.jpeg" ContentType="image/jpeg"/>
  <Override PartName="/ppt/media/image97.wmf" ContentType="image/x-wmf"/>
  <Override PartName="/ppt/media/image104.wmf" ContentType="image/x-wmf"/>
  <Override PartName="/ppt/media/image60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3.wmf" ContentType="image/x-wmf"/>
  <Override PartName="/ppt/media/image96.wmf" ContentType="image/x-wmf"/>
  <Override PartName="/ppt/media/image111.jpeg" ContentType="image/jpeg"/>
  <Override PartName="/ppt/media/image67.wmf" ContentType="image/x-wmf"/>
  <Override PartName="/ppt/media/image66.wmf" ContentType="image/x-wmf"/>
  <Override PartName="/ppt/media/image23.wmf" ContentType="image/x-wmf"/>
  <Override PartName="/ppt/media/image22.wmf" ContentType="image/x-wmf"/>
  <Override PartName="/ppt/media/image65.png" ContentType="image/png"/>
  <Override PartName="/ppt/media/image59.wmf" ContentType="image/x-wmf"/>
  <Override PartName="/ppt/media/image110.wmf" ContentType="image/x-wmf"/>
  <Override PartName="/ppt/media/image24.wmf" ContentType="image/x-wmf"/>
  <Override PartName="/ppt/media/image25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2.wmf" ContentType="image/x-wmf"/>
  <Override PartName="/ppt/media/image14.wmf" ContentType="image/x-wmf"/>
  <Override PartName="/ppt/media/image32.wmf" ContentType="image/x-wmf"/>
  <Override PartName="/ppt/media/image101.jpeg" ContentType="image/jpeg"/>
  <Override PartName="/ppt/media/image69.png" ContentType="image/png"/>
  <Override PartName="/ppt/media/image26.wmf" ContentType="image/x-wmf"/>
  <Override PartName="/ppt/media/image91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645-BC5C-4045-9B73-CECF5A129BD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F02F-6AF6-4B94-B28C-CB38C596D4D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6F9D-1854-450A-9C61-0A2D3BC1B01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484-C656-459C-BE67-068A5F28C4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2662-B47A-43B0-A98C-6E64C51F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07AC5-3C2F-46E1-9E98-B1CF4D26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C23C-EDCB-4803-93F7-651B772F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EBBE-08C8-4EAE-AEDB-7799D75B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2CEB-94D9-4A77-8AF4-A545030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71D8-A2E9-4235-BE56-E5D60FE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E7E8-D21F-446D-A213-5BC99B4A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D4DE-71C2-40A4-A1D4-6247AD0A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BFE1-ADE7-4F3A-A035-D4548483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5FA-4757-4F39-9599-F0DDA133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45E9-9687-490E-9E6D-14709258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8821-1FA5-43B3-8CC0-9063B310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637-67FB-4299-8FBB-284A6860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6840-18AA-4CE6-9464-7DD3D01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215E-32B2-4EDC-95CA-BA46AE00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F632-C78B-4A99-B94F-14F3FB5F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951C-EF28-43DD-A20F-E9CC8CF9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94DF-16E8-49C8-96E1-B10ED37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154D-8038-4A97-8BF1-789A16E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6507-3A34-4385-862D-EC53C160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7B7E-4B87-425C-9ADC-65FAD89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015B-A6BE-4BBD-90FB-274D20B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5716-1900-4899-A9A7-6DB21D9E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61D4-CA65-4F75-9DF4-193EE4D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00F4-60A1-4EB1-ADED-A983C0DB7BA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EBFF-F1CE-46CD-82DD-AC6EAA51A71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1.wmf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1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4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8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0.wmf"/><Relationship Id="rId21" Type="http://schemas.openxmlformats.org/officeDocument/2006/relationships/image" Target="../media/image101.jpe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7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0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0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04.wmf"/><Relationship Id="rId3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7.wmf"/><Relationship Id="rId7" Type="http://schemas.openxmlformats.org/officeDocument/2006/relationships/image" Target="../media/image108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0.wmf"/><Relationship Id="rId20" Type="http://schemas.openxmlformats.org/officeDocument/2006/relationships/image" Target="../media/image111.jpe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97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02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03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4.wmf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8.wmf"/><Relationship Id="rId3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4DB-2683-4E84-BD3B-B65BE7DEDEE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第十一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Arial"/>
              </a:rPr>
              <a:t>影像與視訊壓縮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4A4B-E5CA-424B-AE72-10469524A4A8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31"/>
          <p:cNvGraphicFramePr/>
          <p:nvPr/>
        </p:nvGraphicFramePr>
        <p:xfrm>
          <a:off x="2124000" y="2276640"/>
          <a:ext cx="4013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76640"/>
                    <a:ext cx="4013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85016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解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lt;40,50,60,80,95,102,155&gt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，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lt;1,1,2,2,3,3,4&gt;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，霍夫曼樹如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684360" y="5157720"/>
            <a:ext cx="7848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灰階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霍夫曼碼長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4360" y="5805360"/>
            <a:ext cx="7848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答完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6A38-1614-4DCC-B180-C20E6C8275E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9"/>
          <p:cNvGraphicFramePr/>
          <p:nvPr/>
        </p:nvGraphicFramePr>
        <p:xfrm>
          <a:off x="4572000" y="2166840"/>
          <a:ext cx="4495680" cy="40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66840"/>
                    <a:ext cx="449568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11"/>
          <p:cNvSpPr/>
          <p:nvPr/>
        </p:nvSpPr>
        <p:spPr>
          <a:xfrm>
            <a:off x="7067520" y="53737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.2 </a:t>
            </a:r>
            <a:br>
              <a:rPr sz="1600"/>
            </a:b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單邊成長霍夫曼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311040" y="457200"/>
            <a:ext cx="8367840" cy="6153120"/>
            <a:chOff x="311040" y="457200"/>
            <a:chExt cx="8367840" cy="6153120"/>
          </a:xfrm>
        </p:grpSpPr>
        <p:sp>
          <p:nvSpPr>
            <p:cNvPr id="253" name="Rectangle 2"/>
            <p:cNvSpPr/>
            <p:nvPr/>
          </p:nvSpPr>
          <p:spPr>
            <a:xfrm>
              <a:off x="311040" y="4572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單邊成長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ingle-side Growing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霍夫曼樹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"/>
            <p:cNvSpPr/>
            <p:nvPr/>
          </p:nvSpPr>
          <p:spPr>
            <a:xfrm>
              <a:off x="311040" y="838080"/>
              <a:ext cx="836784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Arial"/>
                </a:rPr>
                <a:t>首先令　　　　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且　　　。　　　　　　　　　　　。單邊成長霍夫曼樹往左成長，所以　　　　　　　　 。可建出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2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的單邊成長霍夫曼樹且 　　　　　　　　　　　　　　　　　　　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Object 7"/>
                <p:cNvSpPr txBox="1"/>
                <p:nvPr/>
              </p:nvSpPr>
              <p:spPr>
                <a:xfrm>
                  <a:off x="1247760" y="905040"/>
                  <a:ext cx="113364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6"/>
                <p:cNvSpPr txBox="1"/>
                <p:nvPr/>
              </p:nvSpPr>
              <p:spPr>
                <a:xfrm>
                  <a:off x="2629080" y="905040"/>
                  <a:ext cx="8236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|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5"/>
                <p:cNvSpPr txBox="1"/>
                <p:nvPr/>
              </p:nvSpPr>
              <p:spPr>
                <a:xfrm>
                  <a:off x="3821040" y="893880"/>
                  <a:ext cx="297828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×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4"/>
                <p:cNvSpPr txBox="1"/>
                <p:nvPr/>
              </p:nvSpPr>
              <p:spPr>
                <a:xfrm>
                  <a:off x="3203640" y="1268280"/>
                  <a:ext cx="220824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×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3"/>
                <p:cNvSpPr txBox="1"/>
                <p:nvPr/>
              </p:nvSpPr>
              <p:spPr>
                <a:xfrm>
                  <a:off x="2616120" y="1662120"/>
                  <a:ext cx="571680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,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Sup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0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0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Rectangle 20"/>
            <p:cNvSpPr/>
            <p:nvPr/>
          </p:nvSpPr>
          <p:spPr>
            <a:xfrm>
              <a:off x="311040" y="2081160"/>
              <a:ext cx="41148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令    代表第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層的葉子樹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令    代表第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層的內部節點數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19"/>
                <p:cNvSpPr txBox="1"/>
                <p:nvPr/>
              </p:nvSpPr>
              <p:spPr>
                <a:xfrm>
                  <a:off x="708120" y="2106720"/>
                  <a:ext cx="249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2" name="Object 18"/>
            <p:cNvGraphicFramePr/>
            <p:nvPr/>
          </p:nvGraphicFramePr>
          <p:xfrm>
            <a:off x="361800" y="2997360"/>
            <a:ext cx="3117960" cy="42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1800" y="2997360"/>
                      <a:ext cx="3117960" cy="4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Object 17"/>
                <p:cNvSpPr txBox="1"/>
                <p:nvPr/>
              </p:nvSpPr>
              <p:spPr>
                <a:xfrm>
                  <a:off x="701640" y="2576520"/>
                  <a:ext cx="2332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5" name="Object 16"/>
            <p:cNvGraphicFramePr/>
            <p:nvPr/>
          </p:nvGraphicFramePr>
          <p:xfrm>
            <a:off x="334800" y="3471840"/>
            <a:ext cx="2921040" cy="42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4800" y="3471840"/>
                      <a:ext cx="2921040" cy="4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7" name="Object 24"/>
                <p:cNvSpPr txBox="1"/>
                <p:nvPr/>
              </p:nvSpPr>
              <p:spPr>
                <a:xfrm>
                  <a:off x="360360" y="4005360"/>
                  <a:ext cx="392256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6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</m:sSub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26"/>
                <p:cNvSpPr txBox="1"/>
                <p:nvPr/>
              </p:nvSpPr>
              <p:spPr>
                <a:xfrm>
                  <a:off x="768240" y="4616280"/>
                  <a:ext cx="10112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0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Text Box 27"/>
            <p:cNvSpPr/>
            <p:nvPr/>
          </p:nvSpPr>
          <p:spPr>
            <a:xfrm>
              <a:off x="482400" y="4560840"/>
              <a:ext cx="367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給　　　  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，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30"/>
                <p:cNvSpPr txBox="1"/>
                <p:nvPr/>
              </p:nvSpPr>
              <p:spPr>
                <a:xfrm>
                  <a:off x="2095560" y="4616280"/>
                  <a:ext cx="102240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Object 31"/>
                <p:cNvSpPr txBox="1"/>
                <p:nvPr/>
              </p:nvSpPr>
              <p:spPr>
                <a:xfrm>
                  <a:off x="3282840" y="4583160"/>
                  <a:ext cx="76212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Rectangle 32"/>
            <p:cNvSpPr/>
            <p:nvPr/>
          </p:nvSpPr>
          <p:spPr>
            <a:xfrm>
              <a:off x="386640" y="4978440"/>
              <a:ext cx="223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3"/>
                <p:cNvSpPr txBox="1"/>
                <p:nvPr/>
              </p:nvSpPr>
              <p:spPr>
                <a:xfrm>
                  <a:off x="781200" y="5025960"/>
                  <a:ext cx="14713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34"/>
                <p:cNvSpPr txBox="1"/>
                <p:nvPr/>
              </p:nvSpPr>
              <p:spPr>
                <a:xfrm>
                  <a:off x="2444760" y="5002200"/>
                  <a:ext cx="77940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Rectangle 35"/>
            <p:cNvSpPr/>
            <p:nvPr/>
          </p:nvSpPr>
          <p:spPr>
            <a:xfrm>
              <a:off x="1245240" y="5334120"/>
              <a:ext cx="2599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需跳過　　　 中的兩個樹葉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Object 36"/>
                <p:cNvSpPr txBox="1"/>
                <p:nvPr/>
              </p:nvSpPr>
              <p:spPr>
                <a:xfrm>
                  <a:off x="1654200" y="5410080"/>
                  <a:ext cx="8524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7" name="Object 37"/>
                <p:cNvSpPr txBox="1"/>
                <p:nvPr/>
              </p:nvSpPr>
              <p:spPr>
                <a:xfrm>
                  <a:off x="792000" y="5842080"/>
                  <a:ext cx="157644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00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Object 38"/>
                <p:cNvSpPr txBox="1"/>
                <p:nvPr/>
              </p:nvSpPr>
              <p:spPr>
                <a:xfrm>
                  <a:off x="2521080" y="5791320"/>
                  <a:ext cx="761760" cy="42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39"/>
                <p:cNvSpPr txBox="1"/>
                <p:nvPr/>
              </p:nvSpPr>
              <p:spPr>
                <a:xfrm>
                  <a:off x="3664080" y="5803920"/>
                  <a:ext cx="1116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[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Rectangle 40"/>
            <p:cNvSpPr/>
            <p:nvPr/>
          </p:nvSpPr>
          <p:spPr>
            <a:xfrm>
              <a:off x="376560" y="5791320"/>
              <a:ext cx="33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2796120" y="6170760"/>
              <a:ext cx="266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解碼只需          的時間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指的是單邊成長霍夫曼樹的深度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42"/>
                <p:cNvSpPr txBox="1"/>
                <p:nvPr/>
              </p:nvSpPr>
              <p:spPr>
                <a:xfrm>
                  <a:off x="1606680" y="6240600"/>
                  <a:ext cx="65376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/>
                        <m:sub>
                          <m:r>
                            <m:t xml:space="preserve">q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99C2-21C5-4EE0-88C8-76719FEA23F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群組 38"/>
          <p:cNvGrpSpPr/>
          <p:nvPr/>
        </p:nvGrpSpPr>
        <p:grpSpPr>
          <a:xfrm>
            <a:off x="304920" y="457200"/>
            <a:ext cx="8458200" cy="6250680"/>
            <a:chOff x="304920" y="457200"/>
            <a:chExt cx="8458200" cy="6250680"/>
          </a:xfrm>
        </p:grpSpPr>
        <p:sp>
          <p:nvSpPr>
            <p:cNvPr id="285" name="Rectangle 13"/>
            <p:cNvSpPr/>
            <p:nvPr/>
          </p:nvSpPr>
          <p:spPr>
            <a:xfrm>
              <a:off x="380880" y="4572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速度最快的霍夫曼解碼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6" name="Object 14"/>
            <p:cNvGraphicFramePr/>
            <p:nvPr/>
          </p:nvGraphicFramePr>
          <p:xfrm>
            <a:off x="4405320" y="2853000"/>
            <a:ext cx="4343400" cy="350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05320" y="2853000"/>
                      <a:ext cx="4343400" cy="350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Rectangle 16"/>
            <p:cNvSpPr/>
            <p:nvPr/>
          </p:nvSpPr>
          <p:spPr>
            <a:xfrm>
              <a:off x="6417000" y="6237720"/>
              <a:ext cx="15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1.3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霍夫曼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21"/>
            <p:cNvSpPr/>
            <p:nvPr/>
          </p:nvSpPr>
          <p:spPr>
            <a:xfrm>
              <a:off x="304920" y="838080"/>
              <a:ext cx="845820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在霍夫曼樹上進行廣先搜尋，在內部節點旁存上　　　　的值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位於同一層但在該內部節點左邊的內部節點數；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代表在同一層上，內部節點右邊的節點數。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第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層到第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層形成了一個完全子樹，可利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0" name="Object 17"/>
            <p:cNvGraphicFramePr/>
            <p:nvPr/>
          </p:nvGraphicFramePr>
          <p:xfrm>
            <a:off x="6334200" y="939600"/>
            <a:ext cx="969840" cy="31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1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4200" y="939600"/>
                      <a:ext cx="96984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Rectangle 23"/>
            <p:cNvSpPr/>
            <p:nvPr/>
          </p:nvSpPr>
          <p:spPr>
            <a:xfrm>
              <a:off x="304920" y="1981080"/>
              <a:ext cx="47242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　　   　變數記錄這特性。儲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Object 22"/>
                <p:cNvSpPr txBox="1"/>
                <p:nvPr/>
              </p:nvSpPr>
              <p:spPr>
                <a:xfrm>
                  <a:off x="677160" y="2024640"/>
                  <a:ext cx="761760" cy="3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4" name="Object 24"/>
            <p:cNvGraphicFramePr/>
            <p:nvPr/>
          </p:nvGraphicFramePr>
          <p:xfrm>
            <a:off x="554040" y="2438280"/>
            <a:ext cx="5746680" cy="395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5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4040" y="2438280"/>
                      <a:ext cx="57466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6" name="Rectangle 26"/>
            <p:cNvSpPr/>
            <p:nvPr/>
          </p:nvSpPr>
          <p:spPr>
            <a:xfrm>
              <a:off x="549000" y="3200400"/>
              <a:ext cx="3434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令輸入 　　　　　　　　　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7" name="Object 27"/>
            <p:cNvGraphicFramePr/>
            <p:nvPr/>
          </p:nvGraphicFramePr>
          <p:xfrm>
            <a:off x="1240560" y="3268080"/>
            <a:ext cx="2611440" cy="334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8" name="Object 2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0560" y="3268080"/>
                      <a:ext cx="2611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Rectangle 28"/>
            <p:cNvSpPr/>
            <p:nvPr/>
          </p:nvSpPr>
          <p:spPr>
            <a:xfrm>
              <a:off x="394200" y="3659400"/>
              <a:ext cx="3071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　　　　　　　  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9"/>
                <p:cNvSpPr txBox="1"/>
                <p:nvPr/>
              </p:nvSpPr>
              <p:spPr>
                <a:xfrm>
                  <a:off x="4284000" y="3213000"/>
                  <a:ext cx="68580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01" name="Object 30"/>
            <p:cNvGraphicFramePr/>
            <p:nvPr/>
          </p:nvGraphicFramePr>
          <p:xfrm>
            <a:off x="858960" y="3702240"/>
            <a:ext cx="2147760" cy="336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2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8960" y="3702240"/>
                      <a:ext cx="214776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3" name="Object 31"/>
            <p:cNvGraphicFramePr/>
            <p:nvPr/>
          </p:nvGraphicFramePr>
          <p:xfrm>
            <a:off x="3484800" y="3695760"/>
            <a:ext cx="1439640" cy="333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04" name="Object 3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484800" y="3695760"/>
                      <a:ext cx="143964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Rectangle 32"/>
            <p:cNvSpPr/>
            <p:nvPr/>
          </p:nvSpPr>
          <p:spPr>
            <a:xfrm>
              <a:off x="2760840" y="4041720"/>
              <a:ext cx="34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6" name="Object 33"/>
            <p:cNvGraphicFramePr/>
            <p:nvPr/>
          </p:nvGraphicFramePr>
          <p:xfrm>
            <a:off x="988920" y="4467240"/>
            <a:ext cx="1827000" cy="333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7" name="Object 3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988920" y="4467240"/>
                      <a:ext cx="182700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34"/>
            <p:cNvGraphicFramePr/>
            <p:nvPr/>
          </p:nvGraphicFramePr>
          <p:xfrm>
            <a:off x="3129120" y="4083120"/>
            <a:ext cx="1379520" cy="336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9" name="Object 3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9120" y="4083120"/>
                      <a:ext cx="137952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Object 35"/>
            <p:cNvGraphicFramePr/>
            <p:nvPr/>
          </p:nvGraphicFramePr>
          <p:xfrm>
            <a:off x="1001520" y="4083120"/>
            <a:ext cx="1760400" cy="3362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11" name="Object 35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001520" y="4083120"/>
                      <a:ext cx="176040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2" name="Rectangle 36"/>
            <p:cNvSpPr/>
            <p:nvPr/>
          </p:nvSpPr>
          <p:spPr>
            <a:xfrm>
              <a:off x="3113280" y="4800600"/>
              <a:ext cx="34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3" name="Object 37"/>
            <p:cNvGraphicFramePr/>
            <p:nvPr/>
          </p:nvGraphicFramePr>
          <p:xfrm>
            <a:off x="993600" y="4845240"/>
            <a:ext cx="2062080" cy="336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314" name="Object 3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93600" y="4845240"/>
                      <a:ext cx="206208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Object 38"/>
            <p:cNvGraphicFramePr/>
            <p:nvPr/>
          </p:nvGraphicFramePr>
          <p:xfrm>
            <a:off x="993600" y="5150160"/>
            <a:ext cx="2176200" cy="336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316" name="Object 3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93600" y="5150160"/>
                      <a:ext cx="217620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7" name="Object 39"/>
            <p:cNvGraphicFramePr/>
            <p:nvPr/>
          </p:nvGraphicFramePr>
          <p:xfrm>
            <a:off x="3498840" y="4845240"/>
            <a:ext cx="1766880" cy="3362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18" name="Object 3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498840" y="4845240"/>
                      <a:ext cx="176688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Object 40"/>
            <p:cNvGraphicFramePr/>
            <p:nvPr/>
          </p:nvGraphicFramePr>
          <p:xfrm>
            <a:off x="3554640" y="5150160"/>
            <a:ext cx="1792080" cy="336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320" name="Object 40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554640" y="5150160"/>
                      <a:ext cx="1792080" cy="33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Rectangle 41"/>
            <p:cNvSpPr/>
            <p:nvPr/>
          </p:nvSpPr>
          <p:spPr>
            <a:xfrm>
              <a:off x="3176640" y="5073840"/>
              <a:ext cx="34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42"/>
            <p:cNvSpPr/>
            <p:nvPr/>
          </p:nvSpPr>
          <p:spPr>
            <a:xfrm>
              <a:off x="372960" y="5745240"/>
              <a:ext cx="52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3" name="Object 43"/>
            <p:cNvGraphicFramePr/>
            <p:nvPr/>
          </p:nvGraphicFramePr>
          <p:xfrm>
            <a:off x="998640" y="5608800"/>
            <a:ext cx="2508120" cy="3348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324" name="Object 43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998640" y="5608800"/>
                      <a:ext cx="250812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5" name="Object 44"/>
            <p:cNvGraphicFramePr/>
            <p:nvPr/>
          </p:nvGraphicFramePr>
          <p:xfrm>
            <a:off x="1049400" y="5942160"/>
            <a:ext cx="2360520" cy="38232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326" name="Object 44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049400" y="5942160"/>
                      <a:ext cx="2360520" cy="38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7" name="Rectangle 45"/>
            <p:cNvSpPr/>
            <p:nvPr/>
          </p:nvSpPr>
          <p:spPr>
            <a:xfrm>
              <a:off x="1163880" y="6278760"/>
              <a:ext cx="362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霍夫曼解碼可在               的時間內完成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8" name="Object 46"/>
                <p:cNvSpPr txBox="1"/>
                <p:nvPr/>
              </p:nvSpPr>
              <p:spPr>
                <a:xfrm>
                  <a:off x="2438280" y="6323400"/>
                  <a:ext cx="1047600" cy="38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O</m:t>
                      </m:r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d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Rectangle 47"/>
            <p:cNvSpPr/>
            <p:nvPr/>
          </p:nvSpPr>
          <p:spPr>
            <a:xfrm>
              <a:off x="366840" y="42213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48"/>
            <p:cNvSpPr/>
            <p:nvPr/>
          </p:nvSpPr>
          <p:spPr>
            <a:xfrm>
              <a:off x="366840" y="498348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AutoShape 49"/>
            <p:cNvSpPr/>
            <p:nvPr/>
          </p:nvSpPr>
          <p:spPr>
            <a:xfrm>
              <a:off x="762120" y="411480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AutoShape 50"/>
            <p:cNvSpPr/>
            <p:nvPr/>
          </p:nvSpPr>
          <p:spPr>
            <a:xfrm>
              <a:off x="762120" y="48913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AutoShape 52"/>
            <p:cNvSpPr/>
            <p:nvPr/>
          </p:nvSpPr>
          <p:spPr>
            <a:xfrm>
              <a:off x="762120" y="563904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A24-452B-4A53-B59B-9F9D5F30882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11.3.2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算術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群組 24"/>
          <p:cNvGrpSpPr/>
          <p:nvPr/>
        </p:nvGrpSpPr>
        <p:grpSpPr>
          <a:xfrm>
            <a:off x="-457200" y="1490760"/>
            <a:ext cx="9829800" cy="5062320"/>
            <a:chOff x="-457200" y="1490760"/>
            <a:chExt cx="9829800" cy="5062320"/>
          </a:xfrm>
        </p:grpSpPr>
        <p:graphicFrame>
          <p:nvGraphicFramePr>
            <p:cNvPr id="337" name="Object 4"/>
            <p:cNvGraphicFramePr/>
            <p:nvPr/>
          </p:nvGraphicFramePr>
          <p:xfrm>
            <a:off x="-457200" y="2362320"/>
            <a:ext cx="3124080" cy="25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457200" y="2362320"/>
                      <a:ext cx="3124080" cy="25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6"/>
            <p:cNvGraphicFramePr/>
            <p:nvPr/>
          </p:nvGraphicFramePr>
          <p:xfrm>
            <a:off x="1676160" y="2362320"/>
            <a:ext cx="3124080" cy="255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160" y="2362320"/>
                      <a:ext cx="3124080" cy="25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1" name="Object 8"/>
            <p:cNvGraphicFramePr/>
            <p:nvPr/>
          </p:nvGraphicFramePr>
          <p:xfrm>
            <a:off x="4114800" y="2368440"/>
            <a:ext cx="3124080" cy="2508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2368440"/>
                      <a:ext cx="3124080" cy="250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3" name="Object 10"/>
            <p:cNvGraphicFramePr/>
            <p:nvPr/>
          </p:nvGraphicFramePr>
          <p:xfrm>
            <a:off x="6477120" y="2362320"/>
            <a:ext cx="2895480" cy="252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7120" y="2362320"/>
                      <a:ext cx="2895480" cy="25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Rectangle 18"/>
            <p:cNvSpPr/>
            <p:nvPr/>
          </p:nvSpPr>
          <p:spPr>
            <a:xfrm>
              <a:off x="533160" y="149076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字母集　　　　　 且字母的機率為                  、                  、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和                  。我們要編碼的訊息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17"/>
                <p:cNvSpPr txBox="1"/>
                <p:nvPr/>
              </p:nvSpPr>
              <p:spPr>
                <a:xfrm>
                  <a:off x="1447560" y="1517760"/>
                  <a:ext cx="151740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16"/>
                <p:cNvSpPr txBox="1"/>
                <p:nvPr/>
              </p:nvSpPr>
              <p:spPr>
                <a:xfrm>
                  <a:off x="4857840" y="1514520"/>
                  <a:ext cx="12938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5"/>
                <p:cNvSpPr txBox="1"/>
                <p:nvPr/>
              </p:nvSpPr>
              <p:spPr>
                <a:xfrm>
                  <a:off x="6443640" y="1514520"/>
                  <a:ext cx="130968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14"/>
                <p:cNvSpPr txBox="1"/>
                <p:nvPr/>
              </p:nvSpPr>
              <p:spPr>
                <a:xfrm>
                  <a:off x="609480" y="1852560"/>
                  <a:ext cx="129384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Object 13"/>
                <p:cNvSpPr txBox="1"/>
                <p:nvPr/>
              </p:nvSpPr>
              <p:spPr>
                <a:xfrm>
                  <a:off x="2252520" y="1860480"/>
                  <a:ext cx="1328760" cy="3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1" name="Object 12"/>
                <p:cNvSpPr txBox="1"/>
                <p:nvPr/>
              </p:nvSpPr>
              <p:spPr>
                <a:xfrm>
                  <a:off x="6324840" y="1871640"/>
                  <a:ext cx="91440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Rectangle 19"/>
            <p:cNvSpPr/>
            <p:nvPr/>
          </p:nvSpPr>
          <p:spPr>
            <a:xfrm>
              <a:off x="533160" y="4952880"/>
              <a:ext cx="815364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我們可用標簽的中間值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.2844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表示原始之訊息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收方收到的值是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.2844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該如何解碼呢？因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 　　　 ，可知第一個字母為     ；從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0.2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　　　  可知第二個字母亦為    。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最終可推得原訊息為　　　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23"/>
                <p:cNvSpPr txBox="1"/>
                <p:nvPr/>
              </p:nvSpPr>
              <p:spPr>
                <a:xfrm>
                  <a:off x="6248520" y="5410080"/>
                  <a:ext cx="12189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4" name="Object 22"/>
                <p:cNvSpPr txBox="1"/>
                <p:nvPr/>
              </p:nvSpPr>
              <p:spPr>
                <a:xfrm>
                  <a:off x="3441600" y="5789520"/>
                  <a:ext cx="120636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  <m:r>
                        <m:t xml:space="preserve">[</m:t>
                      </m:r>
                      <m:r>
                        <m:t xml:space="preserve">0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Object 21"/>
                <p:cNvSpPr txBox="1"/>
                <p:nvPr/>
              </p:nvSpPr>
              <p:spPr>
                <a:xfrm>
                  <a:off x="2057400" y="5791320"/>
                  <a:ext cx="264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26"/>
                <p:cNvSpPr txBox="1"/>
                <p:nvPr/>
              </p:nvSpPr>
              <p:spPr>
                <a:xfrm>
                  <a:off x="7174080" y="5791320"/>
                  <a:ext cx="264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Object 27"/>
                <p:cNvSpPr txBox="1"/>
                <p:nvPr/>
              </p:nvSpPr>
              <p:spPr>
                <a:xfrm>
                  <a:off x="2286000" y="6139080"/>
                  <a:ext cx="91440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665-90DA-4842-96E7-B87521A5379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11.4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向量量化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5"/>
          <p:cNvGraphicFramePr/>
          <p:nvPr/>
        </p:nvGraphicFramePr>
        <p:xfrm>
          <a:off x="1676520" y="3048120"/>
          <a:ext cx="617220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617220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2" name="群組 11"/>
          <p:cNvGrpSpPr/>
          <p:nvPr/>
        </p:nvGrpSpPr>
        <p:grpSpPr>
          <a:xfrm>
            <a:off x="457200" y="1523880"/>
            <a:ext cx="8305920" cy="1506600"/>
            <a:chOff x="457200" y="1523880"/>
            <a:chExt cx="8305920" cy="1506600"/>
          </a:xfrm>
        </p:grpSpPr>
        <p:sp>
          <p:nvSpPr>
            <p:cNvPr id="363" name="Rectangle 12"/>
            <p:cNvSpPr/>
            <p:nvPr/>
          </p:nvSpPr>
          <p:spPr>
            <a:xfrm>
              <a:off x="457200" y="1523880"/>
              <a:ext cx="83059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令碼表中的碼為                          而待搜尋的區塊向量為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找到      使得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11"/>
                <p:cNvSpPr txBox="1"/>
                <p:nvPr/>
              </p:nvSpPr>
              <p:spPr>
                <a:xfrm>
                  <a:off x="2535120" y="1639800"/>
                  <a:ext cx="173988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i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25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9"/>
                <p:cNvSpPr txBox="1"/>
                <p:nvPr/>
              </p:nvSpPr>
              <p:spPr>
                <a:xfrm>
                  <a:off x="8206200" y="1628640"/>
                  <a:ext cx="3078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66" name="Object 8"/>
            <p:cNvGraphicFramePr/>
            <p:nvPr/>
          </p:nvGraphicFramePr>
          <p:xfrm>
            <a:off x="1116000" y="1963440"/>
            <a:ext cx="3252960" cy="7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000" y="1963440"/>
                      <a:ext cx="3252960" cy="7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8" name="Rectangle 13"/>
            <p:cNvSpPr/>
            <p:nvPr/>
          </p:nvSpPr>
          <p:spPr>
            <a:xfrm>
              <a:off x="789120" y="2565360"/>
              <a:ext cx="5333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這裏                              ，                             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9" name="Object 12"/>
            <p:cNvGraphicFramePr/>
            <p:nvPr/>
          </p:nvGraphicFramePr>
          <p:xfrm>
            <a:off x="1116000" y="2637000"/>
            <a:ext cx="2205000" cy="38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16000" y="2637000"/>
                      <a:ext cx="2205000" cy="38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Object 13"/>
            <p:cNvGraphicFramePr/>
            <p:nvPr/>
          </p:nvGraphicFramePr>
          <p:xfrm>
            <a:off x="3564000" y="2625840"/>
            <a:ext cx="2397240" cy="40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64000" y="2625840"/>
                      <a:ext cx="2397240" cy="4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CAA9-9FF5-4152-AC15-9D4A52A663F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群組 21"/>
          <p:cNvGrpSpPr/>
          <p:nvPr/>
        </p:nvGrpSpPr>
        <p:grpSpPr>
          <a:xfrm>
            <a:off x="380880" y="765000"/>
            <a:ext cx="8229600" cy="5351760"/>
            <a:chOff x="380880" y="765000"/>
            <a:chExt cx="8229600" cy="5351760"/>
          </a:xfrm>
        </p:grpSpPr>
        <p:sp>
          <p:nvSpPr>
            <p:cNvPr id="375" name="Rectangle 19"/>
            <p:cNvSpPr/>
            <p:nvPr/>
          </p:nvSpPr>
          <p:spPr>
            <a:xfrm>
              <a:off x="780840" y="386928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再令                             ，             ，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"/>
            <p:cNvSpPr/>
            <p:nvPr/>
          </p:nvSpPr>
          <p:spPr>
            <a:xfrm>
              <a:off x="380880" y="7650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金字塔式向量搜尋法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761760" y="1266120"/>
              <a:ext cx="6782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給二非負整數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7"/>
                <p:cNvSpPr txBox="1"/>
                <p:nvPr/>
              </p:nvSpPr>
              <p:spPr>
                <a:xfrm>
                  <a:off x="1338120" y="1722960"/>
                  <a:ext cx="208584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9" name="Object 6"/>
                <p:cNvSpPr txBox="1"/>
                <p:nvPr/>
              </p:nvSpPr>
              <p:spPr>
                <a:xfrm>
                  <a:off x="3536640" y="1722960"/>
                  <a:ext cx="1606320" cy="38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5"/>
                <p:cNvSpPr txBox="1"/>
                <p:nvPr/>
              </p:nvSpPr>
              <p:spPr>
                <a:xfrm>
                  <a:off x="5202000" y="1722960"/>
                  <a:ext cx="1031760" cy="40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1" name="Object 4"/>
                <p:cNvSpPr txBox="1"/>
                <p:nvPr/>
              </p:nvSpPr>
              <p:spPr>
                <a:xfrm>
                  <a:off x="6248520" y="1799280"/>
                  <a:ext cx="45720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3"/>
                <p:cNvSpPr txBox="1"/>
                <p:nvPr/>
              </p:nvSpPr>
              <p:spPr>
                <a:xfrm>
                  <a:off x="1338120" y="2121480"/>
                  <a:ext cx="2046240" cy="66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9"/>
            <p:cNvSpPr/>
            <p:nvPr/>
          </p:nvSpPr>
          <p:spPr>
            <a:xfrm>
              <a:off x="849240" y="17229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0"/>
            <p:cNvSpPr/>
            <p:nvPr/>
          </p:nvSpPr>
          <p:spPr>
            <a:xfrm>
              <a:off x="849240" y="221040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7"/>
            <p:cNvSpPr/>
            <p:nvPr/>
          </p:nvSpPr>
          <p:spPr>
            <a:xfrm>
              <a:off x="761760" y="2713680"/>
              <a:ext cx="7315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對任意向量　　　　　　  </a:t>
              </a: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令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Object 16"/>
                <p:cNvSpPr txBox="1"/>
                <p:nvPr/>
              </p:nvSpPr>
              <p:spPr>
                <a:xfrm>
                  <a:off x="2306520" y="2777040"/>
                  <a:ext cx="174780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7" name="Object 15"/>
                <p:cNvSpPr txBox="1"/>
                <p:nvPr/>
              </p:nvSpPr>
              <p:spPr>
                <a:xfrm>
                  <a:off x="1433160" y="3170880"/>
                  <a:ext cx="434340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14"/>
                <p:cNvSpPr txBox="1"/>
                <p:nvPr/>
              </p:nvSpPr>
              <p:spPr>
                <a:xfrm>
                  <a:off x="6487920" y="3323160"/>
                  <a:ext cx="17762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|</m:t>
                      </m:r>
                      <m:sSubSup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≤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sSubSup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9" name="Object 13"/>
                <p:cNvSpPr txBox="1"/>
                <p:nvPr/>
              </p:nvSpPr>
              <p:spPr>
                <a:xfrm>
                  <a:off x="1498320" y="3907440"/>
                  <a:ext cx="194940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390" name="Object 12"/>
            <p:cNvGraphicFramePr/>
            <p:nvPr/>
          </p:nvGraphicFramePr>
          <p:xfrm>
            <a:off x="3666960" y="3932640"/>
            <a:ext cx="100800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66960" y="3932640"/>
                      <a:ext cx="100800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2" name="Object 11"/>
                <p:cNvSpPr txBox="1"/>
                <p:nvPr/>
              </p:nvSpPr>
              <p:spPr>
                <a:xfrm>
                  <a:off x="3230280" y="4486680"/>
                  <a:ext cx="3120840" cy="16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e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  <m:mr>
                          <m:e/>
                          <m:e>
                            <m:r>
                              <m:t xml:space="preserve">⋮</m:t>
                            </m:r>
                          </m:e>
                          <m:e/>
                        </m:mr>
                        <m:mr>
                          <m:e/>
                          <m:e/>
                          <m:e>
                            <m:r>
                              <m:t xml:space="preserve">2</m:t>
                            </m:r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  <m:mr>
                          <m:e/>
                          <m:e/>
                          <m:e>
                            <m:sSub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Rectangle 18"/>
            <p:cNvSpPr/>
            <p:nvPr/>
          </p:nvSpPr>
          <p:spPr>
            <a:xfrm>
              <a:off x="5954760" y="33231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0"/>
            <p:cNvSpPr/>
            <p:nvPr/>
          </p:nvSpPr>
          <p:spPr>
            <a:xfrm>
              <a:off x="2666880" y="4542120"/>
              <a:ext cx="482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561E-8F41-4E41-906B-5D06DB96C7C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群組 18"/>
          <p:cNvGrpSpPr/>
          <p:nvPr/>
        </p:nvGrpSpPr>
        <p:grpSpPr>
          <a:xfrm>
            <a:off x="304920" y="685800"/>
            <a:ext cx="8534160" cy="2422440"/>
            <a:chOff x="304920" y="685800"/>
            <a:chExt cx="8534160" cy="2422440"/>
          </a:xfrm>
        </p:grpSpPr>
        <p:sp>
          <p:nvSpPr>
            <p:cNvPr id="397" name="Rectangle 10"/>
            <p:cNvSpPr/>
            <p:nvPr/>
          </p:nvSpPr>
          <p:spPr>
            <a:xfrm>
              <a:off x="304920" y="685800"/>
              <a:ext cx="8534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回到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VQ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方法上，令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9"/>
                <p:cNvSpPr txBox="1"/>
                <p:nvPr/>
              </p:nvSpPr>
              <p:spPr>
                <a:xfrm>
                  <a:off x="3067200" y="761760"/>
                  <a:ext cx="10396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9" name="Object 8"/>
                <p:cNvSpPr txBox="1"/>
                <p:nvPr/>
              </p:nvSpPr>
              <p:spPr>
                <a:xfrm>
                  <a:off x="826920" y="1066680"/>
                  <a:ext cx="3450960" cy="20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p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m>
                            <m:mr>
                              <m:e/>
                              <m:e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mr>
                            <m:mr>
                              <m:e/>
                              <m:e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/>
                              <m:e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0" name="Object 7"/>
                <p:cNvSpPr txBox="1"/>
                <p:nvPr/>
              </p:nvSpPr>
              <p:spPr>
                <a:xfrm>
                  <a:off x="5402160" y="1143000"/>
                  <a:ext cx="3228840" cy="19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q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m>
                            <m:mr>
                              <m:e/>
                              <m:e/>
                              <m:e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/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mr>
                            <m:mr>
                              <m:e/>
                              <m:e/>
                              <m:e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/>
                              <m:e/>
                              <m:e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Rectangle 11"/>
            <p:cNvSpPr/>
            <p:nvPr/>
          </p:nvSpPr>
          <p:spPr>
            <a:xfrm>
              <a:off x="316080" y="106668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2"/>
            <p:cNvSpPr/>
            <p:nvPr/>
          </p:nvSpPr>
          <p:spPr>
            <a:xfrm>
              <a:off x="6555240" y="71568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若每四個元素縮成一個平均值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3"/>
            <p:cNvSpPr/>
            <p:nvPr/>
          </p:nvSpPr>
          <p:spPr>
            <a:xfrm>
              <a:off x="4894200" y="109692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群組 19"/>
          <p:cNvGrpSpPr/>
          <p:nvPr/>
        </p:nvGrpSpPr>
        <p:grpSpPr>
          <a:xfrm>
            <a:off x="250920" y="3284640"/>
            <a:ext cx="8381880" cy="2369160"/>
            <a:chOff x="250920" y="3284640"/>
            <a:chExt cx="8381880" cy="2369160"/>
          </a:xfrm>
        </p:grpSpPr>
        <p:sp>
          <p:nvSpPr>
            <p:cNvPr id="405" name="Rectangle 14"/>
            <p:cNvSpPr/>
            <p:nvPr/>
          </p:nvSpPr>
          <p:spPr>
            <a:xfrm>
              <a:off x="250920" y="3284640"/>
              <a:ext cx="8381880" cy="17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示金字塔的高度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不等式中，        為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縮小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/4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後的上一層之向量，而　      為     的上一層之向量，這裡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皆為最底層的向量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每一個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皆事先建好自己的金字塔。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也建出屬於自己的金字塔。計算兩金字塔的頂端的相關值，即                            。若計算得到的值比目前暫時的最小值都來的大時，則     就不必再往金字塔的下層考慮了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6" name="Object 16"/>
            <p:cNvGraphicFramePr/>
            <p:nvPr/>
          </p:nvGraphicFramePr>
          <p:xfrm>
            <a:off x="4572000" y="4869360"/>
            <a:ext cx="2100240" cy="42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869360"/>
                      <a:ext cx="210024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Object 6"/>
            <p:cNvGraphicFramePr/>
            <p:nvPr/>
          </p:nvGraphicFramePr>
          <p:xfrm>
            <a:off x="1666080" y="3694320"/>
            <a:ext cx="646560" cy="418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66080" y="3694320"/>
                      <a:ext cx="646560" cy="41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Object 4"/>
            <p:cNvGraphicFramePr/>
            <p:nvPr/>
          </p:nvGraphicFramePr>
          <p:xfrm>
            <a:off x="6776640" y="3733920"/>
            <a:ext cx="647640" cy="35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1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76640" y="3733920"/>
                      <a:ext cx="6476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Object 3"/>
            <p:cNvGraphicFramePr/>
            <p:nvPr/>
          </p:nvGraphicFramePr>
          <p:xfrm>
            <a:off x="7748280" y="3733920"/>
            <a:ext cx="279360" cy="35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8280" y="3733920"/>
                      <a:ext cx="27936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4" name="Object 18"/>
            <p:cNvGraphicFramePr/>
            <p:nvPr/>
          </p:nvGraphicFramePr>
          <p:xfrm>
            <a:off x="5148000" y="5301360"/>
            <a:ext cx="279360" cy="352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5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5301360"/>
                      <a:ext cx="27936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8636-B987-40F3-8693-B3A4A57D7BD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11.5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靜態影像壓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群組 15"/>
          <p:cNvGrpSpPr/>
          <p:nvPr/>
        </p:nvGrpSpPr>
        <p:grpSpPr>
          <a:xfrm>
            <a:off x="456840" y="1523880"/>
            <a:ext cx="8306280" cy="5209920"/>
            <a:chOff x="456840" y="1523880"/>
            <a:chExt cx="8306280" cy="5209920"/>
          </a:xfrm>
        </p:grpSpPr>
        <p:sp>
          <p:nvSpPr>
            <p:cNvPr id="419" name="Rectangle 1029"/>
            <p:cNvSpPr/>
            <p:nvPr/>
          </p:nvSpPr>
          <p:spPr>
            <a:xfrm>
              <a:off x="456840" y="1523880"/>
              <a:ext cx="81540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JPEG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一直是彩色影像和高灰階影像的壓縮標準。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JPEG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首先將輸入的影像切割成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子影像集。將輸入全彩影像中每一像素的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值轉換為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值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032"/>
            <p:cNvSpPr/>
            <p:nvPr/>
          </p:nvSpPr>
          <p:spPr>
            <a:xfrm>
              <a:off x="532800" y="2590560"/>
              <a:ext cx="8230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1)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將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C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作用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子影像上：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每一像素皆先減去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2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以下列的計算完成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C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群組 14"/>
            <p:cNvGrpSpPr/>
            <p:nvPr/>
          </p:nvGrpSpPr>
          <p:grpSpPr>
            <a:xfrm>
              <a:off x="631440" y="4076640"/>
              <a:ext cx="7757280" cy="2657160"/>
              <a:chOff x="631440" y="4076640"/>
              <a:chExt cx="7757280" cy="2657160"/>
            </a:xfrm>
          </p:grpSpPr>
          <p:graphicFrame>
            <p:nvGraphicFramePr>
              <p:cNvPr id="422" name="Object 1034"/>
              <p:cNvGraphicFramePr/>
              <p:nvPr/>
            </p:nvGraphicFramePr>
            <p:xfrm>
              <a:off x="2483640" y="4076640"/>
              <a:ext cx="2735280" cy="2286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23" name="Object 103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83640" y="4076640"/>
                        <a:ext cx="2735280" cy="228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4" name="Object 1036"/>
              <p:cNvGraphicFramePr/>
              <p:nvPr/>
            </p:nvGraphicFramePr>
            <p:xfrm>
              <a:off x="5364360" y="4076640"/>
              <a:ext cx="3024360" cy="2266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25" name="Object 10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364360" y="4076640"/>
                        <a:ext cx="3024360" cy="2266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6" name="Rectangle 1038"/>
              <p:cNvSpPr/>
              <p:nvPr/>
            </p:nvSpPr>
            <p:spPr>
              <a:xfrm>
                <a:off x="631440" y="5805000"/>
                <a:ext cx="1640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11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.1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新細明體"/>
                  </a:rPr>
                  <a:t>經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T 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新細明體"/>
                  </a:rPr>
                  <a:t>作用後的結果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1039"/>
              <p:cNvSpPr/>
              <p:nvPr/>
            </p:nvSpPr>
            <p:spPr>
              <a:xfrm>
                <a:off x="3206520" y="6396480"/>
                <a:ext cx="143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)  8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子影像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1041"/>
              <p:cNvSpPr/>
              <p:nvPr/>
            </p:nvSpPr>
            <p:spPr>
              <a:xfrm>
                <a:off x="6333120" y="6396480"/>
                <a:ext cx="152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) 8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係數矩陣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9" name="Object 1043"/>
            <p:cNvGraphicFramePr/>
            <p:nvPr/>
          </p:nvGraphicFramePr>
          <p:xfrm>
            <a:off x="1041120" y="3420720"/>
            <a:ext cx="6988680" cy="66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0" name="Object 104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41120" y="3420720"/>
                      <a:ext cx="6988680" cy="66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289-0681-4333-8CD1-962D526D2AE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群組 17"/>
          <p:cNvGrpSpPr/>
          <p:nvPr/>
        </p:nvGrpSpPr>
        <p:grpSpPr>
          <a:xfrm>
            <a:off x="108000" y="609480"/>
            <a:ext cx="8856720" cy="5787360"/>
            <a:chOff x="108000" y="609480"/>
            <a:chExt cx="8856720" cy="5787360"/>
          </a:xfrm>
        </p:grpSpPr>
        <p:sp>
          <p:nvSpPr>
            <p:cNvPr id="433" name="Rectangle 4"/>
            <p:cNvSpPr/>
            <p:nvPr/>
          </p:nvSpPr>
          <p:spPr>
            <a:xfrm>
              <a:off x="108000" y="609480"/>
              <a:ext cx="8763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將第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所得的頻率域值除以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量化表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Quantization Table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"/>
            <p:cNvSpPr/>
            <p:nvPr/>
          </p:nvSpPr>
          <p:spPr>
            <a:xfrm>
              <a:off x="684720" y="249264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.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新細明體"/>
                </a:rPr>
                <a:t>量化表與量化後的結果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群組 16"/>
            <p:cNvGrpSpPr/>
            <p:nvPr/>
          </p:nvGrpSpPr>
          <p:grpSpPr>
            <a:xfrm>
              <a:off x="2483640" y="1124640"/>
              <a:ext cx="3033720" cy="2353680"/>
              <a:chOff x="2483640" y="1124640"/>
              <a:chExt cx="3033720" cy="2353680"/>
            </a:xfrm>
          </p:grpSpPr>
          <p:graphicFrame>
            <p:nvGraphicFramePr>
              <p:cNvPr id="436" name="Object 6"/>
              <p:cNvGraphicFramePr/>
              <p:nvPr/>
            </p:nvGraphicFramePr>
            <p:xfrm>
              <a:off x="2483640" y="1124640"/>
              <a:ext cx="3033720" cy="1972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483640" y="1124640"/>
                        <a:ext cx="3033720" cy="197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8" name="Rectangle 11"/>
              <p:cNvSpPr/>
              <p:nvPr/>
            </p:nvSpPr>
            <p:spPr>
              <a:xfrm>
                <a:off x="3278160" y="3141000"/>
                <a:ext cx="138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) 8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量化表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群組 15"/>
            <p:cNvGrpSpPr/>
            <p:nvPr/>
          </p:nvGrpSpPr>
          <p:grpSpPr>
            <a:xfrm>
              <a:off x="5724000" y="1124640"/>
              <a:ext cx="2592360" cy="2353680"/>
              <a:chOff x="5724000" y="1124640"/>
              <a:chExt cx="2592360" cy="2353680"/>
            </a:xfrm>
          </p:grpSpPr>
          <p:graphicFrame>
            <p:nvGraphicFramePr>
              <p:cNvPr id="440" name="Object 8"/>
              <p:cNvGraphicFramePr/>
              <p:nvPr/>
            </p:nvGraphicFramePr>
            <p:xfrm>
              <a:off x="5724000" y="1124640"/>
              <a:ext cx="2592360" cy="1973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41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724000" y="1124640"/>
                        <a:ext cx="2592360" cy="197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42" name="Rectangle 13"/>
              <p:cNvSpPr/>
              <p:nvPr/>
            </p:nvSpPr>
            <p:spPr>
              <a:xfrm>
                <a:off x="5816520" y="3141000"/>
                <a:ext cx="239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) 8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量化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CT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係數矩陣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Rectangle 15"/>
            <p:cNvSpPr/>
            <p:nvPr/>
          </p:nvSpPr>
          <p:spPr>
            <a:xfrm>
              <a:off x="108000" y="3429000"/>
              <a:ext cx="8458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將第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步驟所得的結果四捨五入以取整數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395280" y="3962520"/>
              <a:ext cx="632484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.2(b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C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係數矩陣經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IDCT(Inverse DCT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作用後，可得解壓後的影像，如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.3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所示。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5" name="Object 16"/>
            <p:cNvGraphicFramePr/>
            <p:nvPr/>
          </p:nvGraphicFramePr>
          <p:xfrm>
            <a:off x="395280" y="4581360"/>
            <a:ext cx="6147000" cy="63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6" name="Object 1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5280" y="4581360"/>
                      <a:ext cx="61470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47" name="群組 14"/>
            <p:cNvGrpSpPr/>
            <p:nvPr/>
          </p:nvGrpSpPr>
          <p:grpSpPr>
            <a:xfrm>
              <a:off x="6588000" y="3716280"/>
              <a:ext cx="2376720" cy="2680560"/>
              <a:chOff x="6588000" y="3716280"/>
              <a:chExt cx="2376720" cy="2680560"/>
            </a:xfrm>
          </p:grpSpPr>
          <p:graphicFrame>
            <p:nvGraphicFramePr>
              <p:cNvPr id="448" name="Object 18"/>
              <p:cNvGraphicFramePr/>
              <p:nvPr/>
            </p:nvGraphicFramePr>
            <p:xfrm>
              <a:off x="6588000" y="3716280"/>
              <a:ext cx="2376720" cy="22957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49" name="Object 1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588000" y="3716280"/>
                        <a:ext cx="2376720" cy="2295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0" name="Rectangle 20"/>
              <p:cNvSpPr/>
              <p:nvPr/>
            </p:nvSpPr>
            <p:spPr>
              <a:xfrm>
                <a:off x="6647400" y="6059520"/>
                <a:ext cx="208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11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.3 8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8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解壓後影像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B093-98A8-49AD-B707-B0656087925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群組 32"/>
          <p:cNvGrpSpPr/>
          <p:nvPr/>
        </p:nvGrpSpPr>
        <p:grpSpPr>
          <a:xfrm>
            <a:off x="380880" y="533520"/>
            <a:ext cx="8548920" cy="6172200"/>
            <a:chOff x="380880" y="533520"/>
            <a:chExt cx="8548920" cy="6172200"/>
          </a:xfrm>
        </p:grpSpPr>
        <p:sp>
          <p:nvSpPr>
            <p:cNvPr id="453" name="Rectangle 2"/>
            <p:cNvSpPr/>
            <p:nvPr/>
          </p:nvSpPr>
          <p:spPr>
            <a:xfrm>
              <a:off x="380880" y="533520"/>
              <a:ext cx="579132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4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依據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Zig-Zag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的掃描次序，將第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步驟所得的結果依低頻為先的原則，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5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2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的向量型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39,-3,2,1,-1,1,0,0,0,0,0,-1,0,0,0, … ,0,0,0)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。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群組 31"/>
            <p:cNvGrpSpPr/>
            <p:nvPr/>
          </p:nvGrpSpPr>
          <p:grpSpPr>
            <a:xfrm>
              <a:off x="6324840" y="533520"/>
              <a:ext cx="2274120" cy="2585520"/>
              <a:chOff x="6324840" y="533520"/>
              <a:chExt cx="2274120" cy="2585520"/>
            </a:xfrm>
          </p:grpSpPr>
          <p:graphicFrame>
            <p:nvGraphicFramePr>
              <p:cNvPr id="455" name="Object 3"/>
              <p:cNvGraphicFramePr/>
              <p:nvPr/>
            </p:nvGraphicFramePr>
            <p:xfrm>
              <a:off x="6324840" y="533520"/>
              <a:ext cx="2209680" cy="22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6" name="Object 3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324840" y="533520"/>
                        <a:ext cx="2209680" cy="22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57" name="Rectangle 5"/>
              <p:cNvSpPr/>
              <p:nvPr/>
            </p:nvSpPr>
            <p:spPr>
              <a:xfrm>
                <a:off x="6383880" y="2781720"/>
                <a:ext cx="221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11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.4  Zig-Zag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掃描次序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Rectangle 7"/>
            <p:cNvSpPr/>
            <p:nvPr/>
          </p:nvSpPr>
          <p:spPr>
            <a:xfrm>
              <a:off x="380880" y="2590920"/>
              <a:ext cx="5943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針對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進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un-Length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編碼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9"/>
            <p:cNvSpPr/>
            <p:nvPr/>
          </p:nvSpPr>
          <p:spPr>
            <a:xfrm>
              <a:off x="380880" y="5867640"/>
              <a:ext cx="83822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6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進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PCM(Differential Pulse Code Modulation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霍夫曼編碼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Huffman Encoding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685440" y="2971800"/>
              <a:ext cx="62485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可編碼為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0,-3)(0,2)(0,1) (0,-1)(0,1)(5,-1)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OB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1"/>
            <p:cNvSpPr/>
            <p:nvPr/>
          </p:nvSpPr>
          <p:spPr>
            <a:xfrm>
              <a:off x="685440" y="3353040"/>
              <a:ext cx="4800600" cy="16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un-Length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編碼的格式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通常採用固定長度編碼，而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依照事先建好的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5.5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表進行變動長度編碼。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上述的向量型式進一步編成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0,2)(00)(0,2)(10)(0,1)(1)(0,1)(0)(0,1)(1)(5,1)(0)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群組 30"/>
            <p:cNvGrpSpPr/>
            <p:nvPr/>
          </p:nvGrpSpPr>
          <p:grpSpPr>
            <a:xfrm>
              <a:off x="5940360" y="3429000"/>
              <a:ext cx="2989440" cy="2515680"/>
              <a:chOff x="5940360" y="3429000"/>
              <a:chExt cx="2989440" cy="2515680"/>
            </a:xfrm>
          </p:grpSpPr>
          <p:grpSp>
            <p:nvGrpSpPr>
              <p:cNvPr id="463" name="Group 32"/>
              <p:cNvGrpSpPr/>
              <p:nvPr/>
            </p:nvGrpSpPr>
            <p:grpSpPr>
              <a:xfrm>
                <a:off x="5940360" y="3429000"/>
                <a:ext cx="2989440" cy="2133720"/>
                <a:chOff x="5940360" y="3429000"/>
                <a:chExt cx="2989440" cy="2133720"/>
              </a:xfrm>
            </p:grpSpPr>
            <p:sp>
              <p:nvSpPr>
                <p:cNvPr id="464" name="Rectangle 14"/>
                <p:cNvSpPr/>
                <p:nvPr/>
              </p:nvSpPr>
              <p:spPr>
                <a:xfrm>
                  <a:off x="5958000" y="3695760"/>
                  <a:ext cx="914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Rectangle 15"/>
                <p:cNvSpPr/>
                <p:nvPr/>
              </p:nvSpPr>
              <p:spPr>
                <a:xfrm>
                  <a:off x="6872400" y="369576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16"/>
                <p:cNvSpPr/>
                <p:nvPr/>
              </p:nvSpPr>
              <p:spPr>
                <a:xfrm>
                  <a:off x="5958000" y="3962520"/>
                  <a:ext cx="914400" cy="26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17"/>
                <p:cNvSpPr/>
                <p:nvPr/>
              </p:nvSpPr>
              <p:spPr>
                <a:xfrm>
                  <a:off x="6872400" y="3962520"/>
                  <a:ext cx="2057400" cy="26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-1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Rectangle 18"/>
                <p:cNvSpPr/>
                <p:nvPr/>
              </p:nvSpPr>
              <p:spPr>
                <a:xfrm>
                  <a:off x="5958000" y="4228920"/>
                  <a:ext cx="914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19"/>
                <p:cNvSpPr/>
                <p:nvPr/>
              </p:nvSpPr>
              <p:spPr>
                <a:xfrm>
                  <a:off x="6872400" y="422892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-3,-2,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Rectangle 20"/>
                <p:cNvSpPr/>
                <p:nvPr/>
              </p:nvSpPr>
              <p:spPr>
                <a:xfrm>
                  <a:off x="5958000" y="4495680"/>
                  <a:ext cx="914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Rectangle 21"/>
                <p:cNvSpPr/>
                <p:nvPr/>
              </p:nvSpPr>
              <p:spPr>
                <a:xfrm>
                  <a:off x="6872400" y="449568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-7,…,-4,4,…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Rectangle 22"/>
                <p:cNvSpPr/>
                <p:nvPr/>
              </p:nvSpPr>
              <p:spPr>
                <a:xfrm>
                  <a:off x="5958000" y="4762440"/>
                  <a:ext cx="914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Rectangle 23"/>
                <p:cNvSpPr/>
                <p:nvPr/>
              </p:nvSpPr>
              <p:spPr>
                <a:xfrm>
                  <a:off x="6872400" y="476244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-15,…,-8,8,…,1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Rectangle 24"/>
                <p:cNvSpPr/>
                <p:nvPr/>
              </p:nvSpPr>
              <p:spPr>
                <a:xfrm>
                  <a:off x="5958000" y="5029200"/>
                  <a:ext cx="914400" cy="26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Rectangle 25"/>
                <p:cNvSpPr/>
                <p:nvPr/>
              </p:nvSpPr>
              <p:spPr>
                <a:xfrm>
                  <a:off x="6872400" y="5029200"/>
                  <a:ext cx="2057400" cy="26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Rectangle 26"/>
                <p:cNvSpPr/>
                <p:nvPr/>
              </p:nvSpPr>
              <p:spPr>
                <a:xfrm>
                  <a:off x="5958000" y="5295960"/>
                  <a:ext cx="914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Rectangle 27"/>
                <p:cNvSpPr/>
                <p:nvPr/>
              </p:nvSpPr>
              <p:spPr>
                <a:xfrm>
                  <a:off x="6872400" y="529596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Group 29"/>
                <p:cNvGrpSpPr/>
                <p:nvPr/>
              </p:nvGrpSpPr>
              <p:grpSpPr>
                <a:xfrm>
                  <a:off x="5940360" y="3429000"/>
                  <a:ext cx="932040" cy="266760"/>
                  <a:chOff x="5940360" y="3429000"/>
                  <a:chExt cx="932040" cy="266760"/>
                </a:xfrm>
              </p:grpSpPr>
              <p:sp>
                <p:nvSpPr>
                  <p:cNvPr id="479" name="Rectangle 12"/>
                  <p:cNvSpPr/>
                  <p:nvPr/>
                </p:nvSpPr>
                <p:spPr>
                  <a:xfrm>
                    <a:off x="5958000" y="3429000"/>
                    <a:ext cx="914400" cy="266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TW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位元數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Rectangle 28"/>
                  <p:cNvSpPr/>
                  <p:nvPr/>
                </p:nvSpPr>
                <p:spPr>
                  <a:xfrm>
                    <a:off x="5940360" y="3429000"/>
                    <a:ext cx="932040" cy="266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1" name="Rectangle 13"/>
                <p:cNvSpPr/>
                <p:nvPr/>
              </p:nvSpPr>
              <p:spPr>
                <a:xfrm>
                  <a:off x="6872400" y="3429000"/>
                  <a:ext cx="2057400" cy="266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y </a:t>
                  </a:r>
                  <a:r>
                    <a:rPr b="1" lang="zh-TW" sz="1600" spc="-1" strike="noStrike">
                      <a:solidFill>
                        <a:srgbClr val="000000"/>
                      </a:solidFill>
                      <a:latin typeface="Times New Roman"/>
                    </a:rPr>
                    <a:t>的範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Rectangle 33"/>
              <p:cNvSpPr/>
              <p:nvPr/>
            </p:nvSpPr>
            <p:spPr>
              <a:xfrm>
                <a:off x="6567480" y="5607360"/>
                <a:ext cx="18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11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5.5 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zh-TW" sz="1600" spc="-1" strike="noStrike">
                    <a:solidFill>
                      <a:srgbClr val="000000"/>
                    </a:solidFill>
                    <a:latin typeface="Times New Roman"/>
                  </a:rPr>
                  <a:t>的編碼對照表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238-D4AF-4243-A02B-B647E8ECBB4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900000" y="1557360"/>
            <a:ext cx="7772400" cy="4114800"/>
            <a:chOff x="900000" y="1557360"/>
            <a:chExt cx="7772400" cy="4114800"/>
          </a:xfrm>
        </p:grpSpPr>
        <p:sp>
          <p:nvSpPr>
            <p:cNvPr id="117" name="Rectangle 4"/>
            <p:cNvSpPr/>
            <p:nvPr/>
          </p:nvSpPr>
          <p:spPr>
            <a:xfrm>
              <a:off x="900000" y="155736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.1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前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11.2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消息理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11.3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不失真壓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11.4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向量量化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11.5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靜態影像壓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11.6 </a:t>
              </a:r>
              <a:r>
                <a:rPr b="0" lang="zh-TW" sz="3200" spc="-1" strike="noStrike">
                  <a:solidFill>
                    <a:srgbClr val="000000"/>
                  </a:solidFill>
                  <a:latin typeface="Times New Roman"/>
                </a:rPr>
                <a:t>動態影像壓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1476360" y="3429000"/>
              <a:ext cx="3047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3.1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霍夫曼編碼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9"/>
            <p:cNvSpPr/>
            <p:nvPr/>
          </p:nvSpPr>
          <p:spPr>
            <a:xfrm>
              <a:off x="4356000" y="3429000"/>
              <a:ext cx="304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3.2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算術碼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F47-8B8C-4DA5-89A8-6F4D60FA7DA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11.6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動態影像壓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9"/>
          <p:cNvSpPr/>
          <p:nvPr/>
        </p:nvSpPr>
        <p:spPr>
          <a:xfrm>
            <a:off x="468360" y="1557360"/>
            <a:ext cx="78580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視訊壓縮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Video Compression)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，例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PEG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.264/AV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我們先將視訊影像分成三類，分別為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影像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影像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a Mode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壓縮即可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影像可利用前面的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影像，透過區塊匹配 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lock Matching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和補償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ensat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來壓縮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" indent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夾在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之間的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影像之區塊就由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和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所匹配到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　  的區塊內插而成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群組 21"/>
          <p:cNvGrpSpPr/>
          <p:nvPr/>
        </p:nvGrpSpPr>
        <p:grpSpPr>
          <a:xfrm>
            <a:off x="2916360" y="4221000"/>
            <a:ext cx="3743280" cy="2232360"/>
            <a:chOff x="2916360" y="4221000"/>
            <a:chExt cx="3743280" cy="2232360"/>
          </a:xfrm>
        </p:grpSpPr>
        <p:pic>
          <p:nvPicPr>
            <p:cNvPr id="487" name="矩形 10" descr=""/>
            <p:cNvPicPr/>
            <p:nvPr/>
          </p:nvPicPr>
          <p:blipFill>
            <a:blip r:embed="rId1"/>
            <a:stretch/>
          </p:blipFill>
          <p:spPr>
            <a:xfrm>
              <a:off x="2916360" y="4221000"/>
              <a:ext cx="8931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矩形 11" descr=""/>
            <p:cNvPicPr/>
            <p:nvPr/>
          </p:nvPicPr>
          <p:blipFill>
            <a:blip r:embed="rId2"/>
            <a:stretch/>
          </p:blipFill>
          <p:spPr>
            <a:xfrm>
              <a:off x="3639960" y="4237920"/>
              <a:ext cx="86724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矩形 12" descr=""/>
            <p:cNvPicPr/>
            <p:nvPr/>
          </p:nvPicPr>
          <p:blipFill>
            <a:blip r:embed="rId3"/>
            <a:stretch/>
          </p:blipFill>
          <p:spPr>
            <a:xfrm>
              <a:off x="4350960" y="4237920"/>
              <a:ext cx="87372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矩形 13" descr=""/>
            <p:cNvPicPr/>
            <p:nvPr/>
          </p:nvPicPr>
          <p:blipFill>
            <a:blip r:embed="rId4"/>
            <a:stretch/>
          </p:blipFill>
          <p:spPr>
            <a:xfrm>
              <a:off x="5068440" y="4237920"/>
              <a:ext cx="867240" cy="219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矩形 14" descr=""/>
            <p:cNvPicPr/>
            <p:nvPr/>
          </p:nvPicPr>
          <p:blipFill>
            <a:blip r:embed="rId5"/>
            <a:stretch/>
          </p:blipFill>
          <p:spPr>
            <a:xfrm>
              <a:off x="5766480" y="4221000"/>
              <a:ext cx="893160" cy="22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文字方塊 15"/>
            <p:cNvSpPr/>
            <p:nvPr/>
          </p:nvSpPr>
          <p:spPr>
            <a:xfrm>
              <a:off x="3019320" y="5170320"/>
              <a:ext cx="53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文字方塊 17"/>
            <p:cNvSpPr/>
            <p:nvPr/>
          </p:nvSpPr>
          <p:spPr>
            <a:xfrm>
              <a:off x="5946120" y="5170320"/>
              <a:ext cx="53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文字方塊 18"/>
            <p:cNvSpPr/>
            <p:nvPr/>
          </p:nvSpPr>
          <p:spPr>
            <a:xfrm>
              <a:off x="5175720" y="5170320"/>
              <a:ext cx="53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文字方塊 19"/>
            <p:cNvSpPr/>
            <p:nvPr/>
          </p:nvSpPr>
          <p:spPr>
            <a:xfrm>
              <a:off x="4482720" y="5170320"/>
              <a:ext cx="53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文字方塊 20"/>
            <p:cNvSpPr/>
            <p:nvPr/>
          </p:nvSpPr>
          <p:spPr>
            <a:xfrm>
              <a:off x="3712320" y="5170320"/>
              <a:ext cx="538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區塊匹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8235-2025-474D-A48C-B7978557AF8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2"/>
          <p:cNvSpPr/>
          <p:nvPr/>
        </p:nvSpPr>
        <p:spPr>
          <a:xfrm>
            <a:off x="611280" y="1773360"/>
            <a:ext cx="792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ts val="2999"/>
              </a:lnSpc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264/AV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中，區塊匹配是核心的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ts val="2999"/>
              </a:lnSpc>
              <a:buClr>
                <a:srgbClr val="0000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區塊匹配是在前一張參考影像中找到某一區塊，使得找到的區塊和目前區塊最匹配。通常是採用在前張影像中先訂出一個搜尋視窗，在這搜尋視窗內包含許多與目前區塊相同大小的正方形區塊。因此進行區塊匹配前得先決定搜尋的範圍和區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54900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ng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等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22]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假設目前區塊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西邊鄰近區塊、西北邊鄰近區塊和北邊鄰近區塊會用來產生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zh-TW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初始移動向量。接著，利用初始移動向量所得的區塊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計算兩者的絕對</a:t>
            </a:r>
            <a:r>
              <a:rPr b="0" lang="zh-TW" sz="2200" spc="-1" strike="noStrike">
                <a:solidFill>
                  <a:srgbClr val="000000"/>
                </a:solidFill>
                <a:latin typeface="新細明體"/>
              </a:rPr>
              <a:t>差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平均值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 Absolute Difference, MA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若得到的值很大，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屬於高移動區塊，搜尋視窗為原始搜尋範圍。若是中等的值，則屬於中移動區塊，搜尋範圍為原始搜尋範圍的一半。否則屬於低移動區塊，搜尋範圍則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/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原始搜尋範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應用到全搜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Full Search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演算法後，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以上的時間改良率。估計精確度和全搜尋演算法則是差不多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CE75-3F70-46B8-8D7D-66C023A4CA8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Object 9"/>
          <p:cNvGraphicFramePr/>
          <p:nvPr/>
        </p:nvGraphicFramePr>
        <p:xfrm>
          <a:off x="1979640" y="2421000"/>
          <a:ext cx="50799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21000"/>
                    <a:ext cx="50799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2C24-624E-4530-81CC-72204873327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Object 14"/>
          <p:cNvGraphicFramePr/>
          <p:nvPr/>
        </p:nvGraphicFramePr>
        <p:xfrm>
          <a:off x="1979640" y="2711520"/>
          <a:ext cx="5256360" cy="78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11520"/>
                    <a:ext cx="525636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群組 4"/>
          <p:cNvGrpSpPr/>
          <p:nvPr/>
        </p:nvGrpSpPr>
        <p:grpSpPr>
          <a:xfrm>
            <a:off x="826920" y="3789360"/>
            <a:ext cx="7777440" cy="892080"/>
            <a:chOff x="826920" y="3789360"/>
            <a:chExt cx="7777440" cy="892080"/>
          </a:xfrm>
        </p:grpSpPr>
        <p:sp>
          <p:nvSpPr>
            <p:cNvPr id="508" name="Rectangle 8"/>
            <p:cNvSpPr/>
            <p:nvPr/>
          </p:nvSpPr>
          <p:spPr>
            <a:xfrm>
              <a:off x="826920" y="3789360"/>
              <a:ext cx="777744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由式子可知，對每個目前區塊算出參考影像中最匹配的區塊，然後紀錄                                 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9" name="Object 9"/>
            <p:cNvGraphicFramePr/>
            <p:nvPr/>
          </p:nvGraphicFramePr>
          <p:xfrm>
            <a:off x="2051640" y="4221000"/>
            <a:ext cx="230436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0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51640" y="4221000"/>
                      <a:ext cx="230436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1" name="Rectangle 3"/>
          <p:cNvSpPr/>
          <p:nvPr/>
        </p:nvSpPr>
        <p:spPr>
          <a:xfrm>
            <a:off x="468360" y="836640"/>
            <a:ext cx="8136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24]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實際分析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所示的五種視訊檔中的機率，給出類型配對和搜尋範圍間更合理的建議。而為了節省乘法和除法的計算，以累計絕對差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umulated Absolute Difference, AAD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當作區塊間的相似量度。定義如下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523-C062-4103-9B93-B7CEAD348F1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群組 17"/>
          <p:cNvGrpSpPr/>
          <p:nvPr/>
        </p:nvGrpSpPr>
        <p:grpSpPr>
          <a:xfrm>
            <a:off x="1280520" y="2482920"/>
            <a:ext cx="6194880" cy="3824280"/>
            <a:chOff x="1280520" y="2482920"/>
            <a:chExt cx="6194880" cy="3824280"/>
          </a:xfrm>
        </p:grpSpPr>
        <p:grpSp>
          <p:nvGrpSpPr>
            <p:cNvPr id="514" name="群組 17"/>
            <p:cNvGrpSpPr/>
            <p:nvPr/>
          </p:nvGrpSpPr>
          <p:grpSpPr>
            <a:xfrm>
              <a:off x="1945800" y="2482920"/>
              <a:ext cx="5529600" cy="3295800"/>
              <a:chOff x="1945800" y="2482920"/>
              <a:chExt cx="5529600" cy="3295800"/>
            </a:xfrm>
          </p:grpSpPr>
          <p:pic>
            <p:nvPicPr>
              <p:cNvPr id="515" name="Picture 9" descr="fig11"/>
              <p:cNvPicPr/>
              <p:nvPr/>
            </p:nvPicPr>
            <p:blipFill>
              <a:blip r:embed="rId1"/>
              <a:stretch/>
            </p:blipFill>
            <p:spPr>
              <a:xfrm>
                <a:off x="1945800" y="2482920"/>
                <a:ext cx="5529600" cy="32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文字方塊 12"/>
              <p:cNvSpPr/>
              <p:nvPr/>
            </p:nvSpPr>
            <p:spPr>
              <a:xfrm>
                <a:off x="5834520" y="2770920"/>
                <a:ext cx="1224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</a:rPr>
                  <a:t>銷售員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文字方塊 13"/>
              <p:cNvSpPr/>
              <p:nvPr/>
            </p:nvSpPr>
            <p:spPr>
              <a:xfrm>
                <a:off x="5855760" y="3130920"/>
                <a:ext cx="1224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</a:rPr>
                  <a:t>花園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文字方塊 14"/>
              <p:cNvSpPr/>
              <p:nvPr/>
            </p:nvSpPr>
            <p:spPr>
              <a:xfrm>
                <a:off x="5847120" y="3461040"/>
                <a:ext cx="1224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</a:rPr>
                  <a:t>月曆車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文字方塊 15"/>
              <p:cNvSpPr/>
              <p:nvPr/>
            </p:nvSpPr>
            <p:spPr>
              <a:xfrm>
                <a:off x="5855760" y="3783240"/>
                <a:ext cx="1224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</a:rPr>
                  <a:t>蘇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文字方塊 16"/>
              <p:cNvSpPr/>
              <p:nvPr/>
            </p:nvSpPr>
            <p:spPr>
              <a:xfrm>
                <a:off x="5851440" y="4118040"/>
                <a:ext cx="122400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1400" spc="-1" strike="noStrike">
                    <a:solidFill>
                      <a:srgbClr val="000000"/>
                    </a:solidFill>
                    <a:latin typeface="Times New Roman"/>
                  </a:rPr>
                  <a:t>足球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文字方塊 14"/>
            <p:cNvSpPr/>
            <p:nvPr/>
          </p:nvSpPr>
          <p:spPr>
            <a:xfrm>
              <a:off x="2881080" y="5938920"/>
              <a:ext cx="41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.6.2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五種視訊檔的不同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分佈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文字方塊 16"/>
            <p:cNvSpPr/>
            <p:nvPr/>
          </p:nvSpPr>
          <p:spPr>
            <a:xfrm>
              <a:off x="1682280" y="3635280"/>
              <a:ext cx="46188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文字方塊 15"/>
            <p:cNvSpPr/>
            <p:nvPr/>
          </p:nvSpPr>
          <p:spPr>
            <a:xfrm>
              <a:off x="1280520" y="3564000"/>
              <a:ext cx="72900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Times New Roman"/>
                </a:rPr>
                <a:t>百分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文字方塊 13"/>
          <p:cNvSpPr/>
          <p:nvPr/>
        </p:nvSpPr>
        <p:spPr>
          <a:xfrm>
            <a:off x="900000" y="981000"/>
            <a:ext cx="7417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根據實驗，發現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時，幾乎涵蓋大多數的最大絕對值位移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五種視訊檔的不同絕對位移分佈圖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E91-F516-46AD-BC8C-323951597D8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群組 2"/>
          <p:cNvGrpSpPr/>
          <p:nvPr/>
        </p:nvGrpSpPr>
        <p:grpSpPr>
          <a:xfrm>
            <a:off x="539640" y="870120"/>
            <a:ext cx="8153640" cy="502560"/>
            <a:chOff x="539640" y="870120"/>
            <a:chExt cx="8153640" cy="502560"/>
          </a:xfrm>
        </p:grpSpPr>
        <p:sp>
          <p:nvSpPr>
            <p:cNvPr id="527" name="Rectangle 8"/>
            <p:cNvSpPr/>
            <p:nvPr/>
          </p:nvSpPr>
          <p:spPr>
            <a:xfrm>
              <a:off x="539640" y="870120"/>
              <a:ext cx="81536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令                   代表在視訊檔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中的第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張影像中隨機變數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機率值。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平均機率可表示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8" name="Object 9"/>
            <p:cNvGraphicFramePr/>
            <p:nvPr/>
          </p:nvGraphicFramePr>
          <p:xfrm>
            <a:off x="916560" y="912240"/>
            <a:ext cx="1344600" cy="4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6560" y="912240"/>
                      <a:ext cx="1344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0" name="Rectangle 8"/>
          <p:cNvSpPr/>
          <p:nvPr/>
        </p:nvSpPr>
        <p:spPr>
          <a:xfrm>
            <a:off x="539640" y="2997360"/>
            <a:ext cx="81536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針對五種視訊檔，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別列出它們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之平均機率。當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把五種視訊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之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平均機率疊加起來，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4"/>
          <p:cNvGraphicFramePr/>
          <p:nvPr/>
        </p:nvGraphicFramePr>
        <p:xfrm>
          <a:off x="3132000" y="1773360"/>
          <a:ext cx="2160720" cy="94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773360"/>
                    <a:ext cx="216072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5"/>
          <p:cNvGraphicFramePr/>
          <p:nvPr/>
        </p:nvGraphicFramePr>
        <p:xfrm>
          <a:off x="633240" y="3510000"/>
          <a:ext cx="107964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240" y="3510000"/>
                    <a:ext cx="107964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6"/>
          <p:cNvGraphicFramePr/>
          <p:nvPr/>
        </p:nvGraphicFramePr>
        <p:xfrm>
          <a:off x="2124000" y="4076640"/>
          <a:ext cx="4556160" cy="94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076640"/>
                    <a:ext cx="45561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Rectangle 8"/>
          <p:cNvSpPr/>
          <p:nvPr/>
        </p:nvSpPr>
        <p:spPr>
          <a:xfrm>
            <a:off x="539640" y="5229360"/>
            <a:ext cx="81536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由上式可知當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小於等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時，平均的疊加機率高達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1.17%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令          ，這個值在決定最低搜尋範圍時會用到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7"/>
          <p:cNvGraphicFramePr/>
          <p:nvPr/>
        </p:nvGraphicFramePr>
        <p:xfrm>
          <a:off x="900000" y="5661000"/>
          <a:ext cx="7700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5661000"/>
                    <a:ext cx="7700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A80D-5663-44FE-A57B-B3C544A1A34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矩形 2"/>
          <p:cNvSpPr/>
          <p:nvPr/>
        </p:nvSpPr>
        <p:spPr>
          <a:xfrm>
            <a:off x="466560" y="3186000"/>
            <a:ext cx="799308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假設在視訊檔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的第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張影像已被分割成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×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個區塊，見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4(a)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圖中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代表該區域的移動向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otion Vector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值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4(b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這四個鄰近區塊的移動向量之平均值可用來預測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初始移動後的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30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文字方塊 5"/>
          <p:cNvSpPr/>
          <p:nvPr/>
        </p:nvSpPr>
        <p:spPr>
          <a:xfrm>
            <a:off x="3300480" y="2824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參考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文字方塊 6"/>
          <p:cNvSpPr/>
          <p:nvPr/>
        </p:nvSpPr>
        <p:spPr>
          <a:xfrm>
            <a:off x="5964120" y="28242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目前影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文字方塊 7"/>
          <p:cNvSpPr/>
          <p:nvPr/>
        </p:nvSpPr>
        <p:spPr>
          <a:xfrm>
            <a:off x="466560" y="5922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6.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一個例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矩形 2"/>
          <p:cNvSpPr/>
          <p:nvPr/>
        </p:nvSpPr>
        <p:spPr>
          <a:xfrm>
            <a:off x="455760" y="45514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由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6.4(a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算得                  ，                 ，                 ，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                  ，                 ，                 。利用式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得到                              。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Object 9"/>
          <p:cNvGraphicFramePr/>
          <p:nvPr/>
        </p:nvGraphicFramePr>
        <p:xfrm>
          <a:off x="2952720" y="4573440"/>
          <a:ext cx="1360440" cy="4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720" y="4573440"/>
                    <a:ext cx="1360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13"/>
          <p:cNvGraphicFramePr/>
          <p:nvPr/>
        </p:nvGraphicFramePr>
        <p:xfrm>
          <a:off x="5913360" y="4573440"/>
          <a:ext cx="136044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3360" y="4573440"/>
                    <a:ext cx="1360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14"/>
          <p:cNvGraphicFramePr/>
          <p:nvPr/>
        </p:nvGraphicFramePr>
        <p:xfrm>
          <a:off x="4465800" y="4573440"/>
          <a:ext cx="1314360" cy="4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5800" y="4573440"/>
                    <a:ext cx="13143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5"/>
          <p:cNvGraphicFramePr/>
          <p:nvPr/>
        </p:nvGraphicFramePr>
        <p:xfrm>
          <a:off x="560520" y="4925880"/>
          <a:ext cx="133812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0520" y="4925880"/>
                    <a:ext cx="13381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6"/>
          <p:cNvGraphicFramePr/>
          <p:nvPr/>
        </p:nvGraphicFramePr>
        <p:xfrm>
          <a:off x="2122560" y="4925880"/>
          <a:ext cx="1360440" cy="44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5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2560" y="4925880"/>
                    <a:ext cx="1360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7"/>
          <p:cNvGraphicFramePr/>
          <p:nvPr/>
        </p:nvGraphicFramePr>
        <p:xfrm>
          <a:off x="3635280" y="4916520"/>
          <a:ext cx="133668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7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4916520"/>
                    <a:ext cx="13366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8"/>
          <p:cNvGraphicFramePr/>
          <p:nvPr/>
        </p:nvGraphicFramePr>
        <p:xfrm>
          <a:off x="5075280" y="4916520"/>
          <a:ext cx="1359000" cy="442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9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5280" y="4916520"/>
                    <a:ext cx="135900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0"/>
          <p:cNvGraphicFramePr/>
          <p:nvPr/>
        </p:nvGraphicFramePr>
        <p:xfrm>
          <a:off x="1512720" y="5372280"/>
          <a:ext cx="5696280" cy="88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61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12720" y="5372280"/>
                    <a:ext cx="569628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20"/>
          <p:cNvGraphicFramePr/>
          <p:nvPr/>
        </p:nvGraphicFramePr>
        <p:xfrm>
          <a:off x="1500120" y="6245280"/>
          <a:ext cx="2079720" cy="45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63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00120" y="6245280"/>
                    <a:ext cx="2079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2698920" y="512640"/>
          <a:ext cx="2592360" cy="2232000"/>
        </p:xfrm>
        <a:graphic>
          <a:graphicData uri="http://schemas.openxmlformats.org/drawingml/2006/table">
            <a:tbl>
              <a:tblPr/>
              <a:tblGrid>
                <a:gridCol w="519120"/>
                <a:gridCol w="518760"/>
                <a:gridCol w="517680"/>
                <a:gridCol w="519120"/>
                <a:gridCol w="51768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矩形 21"/>
          <p:cNvSpPr/>
          <p:nvPr/>
        </p:nvSpPr>
        <p:spPr>
          <a:xfrm>
            <a:off x="5506920" y="520560"/>
            <a:ext cx="2664000" cy="223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群組 45"/>
          <p:cNvGrpSpPr/>
          <p:nvPr/>
        </p:nvGrpSpPr>
        <p:grpSpPr>
          <a:xfrm>
            <a:off x="6066000" y="960480"/>
            <a:ext cx="1655280" cy="1054080"/>
            <a:chOff x="6066000" y="960480"/>
            <a:chExt cx="1655280" cy="1054080"/>
          </a:xfrm>
        </p:grpSpPr>
        <p:sp>
          <p:nvSpPr>
            <p:cNvPr id="567" name="矩形 25"/>
            <p:cNvSpPr/>
            <p:nvPr/>
          </p:nvSpPr>
          <p:spPr>
            <a:xfrm>
              <a:off x="6129360" y="1490760"/>
              <a:ext cx="503280" cy="503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群組 44"/>
            <p:cNvGrpSpPr/>
            <p:nvPr/>
          </p:nvGrpSpPr>
          <p:grpSpPr>
            <a:xfrm>
              <a:off x="6066000" y="960480"/>
              <a:ext cx="1655280" cy="1054080"/>
              <a:chOff x="6066000" y="960480"/>
              <a:chExt cx="1655280" cy="1054080"/>
            </a:xfrm>
          </p:grpSpPr>
          <p:sp>
            <p:nvSpPr>
              <p:cNvPr id="569" name="矩形 22"/>
              <p:cNvSpPr/>
              <p:nvPr/>
            </p:nvSpPr>
            <p:spPr>
              <a:xfrm>
                <a:off x="6129360" y="985680"/>
                <a:ext cx="503280" cy="50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群組 43"/>
              <p:cNvGrpSpPr/>
              <p:nvPr/>
            </p:nvGrpSpPr>
            <p:grpSpPr>
              <a:xfrm>
                <a:off x="6066000" y="960480"/>
                <a:ext cx="1655280" cy="1054080"/>
                <a:chOff x="6066000" y="960480"/>
                <a:chExt cx="1655280" cy="1054080"/>
              </a:xfrm>
            </p:grpSpPr>
            <p:sp>
              <p:nvSpPr>
                <p:cNvPr id="571" name="矩形 23"/>
                <p:cNvSpPr/>
                <p:nvPr/>
              </p:nvSpPr>
              <p:spPr>
                <a:xfrm>
                  <a:off x="6632640" y="985680"/>
                  <a:ext cx="504720" cy="504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矩形 24"/>
                <p:cNvSpPr/>
                <p:nvPr/>
              </p:nvSpPr>
              <p:spPr>
                <a:xfrm>
                  <a:off x="7137360" y="985680"/>
                  <a:ext cx="503280" cy="504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群組 42"/>
                <p:cNvGrpSpPr/>
                <p:nvPr/>
              </p:nvGrpSpPr>
              <p:grpSpPr>
                <a:xfrm>
                  <a:off x="6066000" y="960480"/>
                  <a:ext cx="1655280" cy="1054080"/>
                  <a:chOff x="6066000" y="960480"/>
                  <a:chExt cx="1655280" cy="1054080"/>
                </a:xfrm>
              </p:grpSpPr>
              <p:sp>
                <p:nvSpPr>
                  <p:cNvPr id="574" name="矩形 26"/>
                  <p:cNvSpPr/>
                  <p:nvPr/>
                </p:nvSpPr>
                <p:spPr>
                  <a:xfrm>
                    <a:off x="6632640" y="1490760"/>
                    <a:ext cx="504720" cy="5032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5" name="群組 29"/>
                  <p:cNvGrpSpPr/>
                  <p:nvPr/>
                </p:nvGrpSpPr>
                <p:grpSpPr>
                  <a:xfrm>
                    <a:off x="6066000" y="968760"/>
                    <a:ext cx="647640" cy="554760"/>
                    <a:chOff x="6066000" y="968760"/>
                    <a:chExt cx="647640" cy="554760"/>
                  </a:xfrm>
                </p:grpSpPr>
                <p:sp>
                  <p:nvSpPr>
                    <p:cNvPr id="576" name="文字方塊 27"/>
                    <p:cNvSpPr/>
                    <p:nvPr/>
                  </p:nvSpPr>
                  <p:spPr>
                    <a:xfrm>
                      <a:off x="6066000" y="968760"/>
                      <a:ext cx="647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aphicFrame>
                  <p:nvGraphicFramePr>
                    <p:cNvPr id="577" name="Object 21"/>
                    <p:cNvGraphicFramePr/>
                    <p:nvPr/>
                  </p:nvGraphicFramePr>
                  <p:xfrm>
                    <a:off x="6396120" y="1206720"/>
                    <a:ext cx="228600" cy="316800"/>
                  </p:xfrm>
                  <a:graphic>
                    <a:graphicData uri="http://schemas.openxmlformats.org/presentationml/2006/ole">
                      <p:oleObj r:id="rId19" spid="">
                        <p:embed/>
                        <p:pic>
                          <p:nvPicPr>
                            <p:cNvPr id="578" name="Object 21" descr=""/>
                            <p:cNvPicPr/>
                            <p:nvPr/>
                          </p:nvPicPr>
                          <p:blipFill>
                            <a:blip r:embed="rId20"/>
                            <a:stretch/>
                          </p:blipFill>
                          <p:spPr>
                            <a:xfrm>
                              <a:off x="6396120" y="1206720"/>
                              <a:ext cx="228600" cy="316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pSp>
                <p:nvGrpSpPr>
                  <p:cNvPr id="579" name="群組 30"/>
                  <p:cNvGrpSpPr/>
                  <p:nvPr/>
                </p:nvGrpSpPr>
                <p:grpSpPr>
                  <a:xfrm>
                    <a:off x="6582600" y="960480"/>
                    <a:ext cx="647640" cy="555480"/>
                    <a:chOff x="6582600" y="960480"/>
                    <a:chExt cx="647640" cy="555480"/>
                  </a:xfrm>
                </p:grpSpPr>
                <p:sp>
                  <p:nvSpPr>
                    <p:cNvPr id="580" name="文字方塊 31"/>
                    <p:cNvSpPr/>
                    <p:nvPr/>
                  </p:nvSpPr>
                  <p:spPr>
                    <a:xfrm>
                      <a:off x="6582600" y="960480"/>
                      <a:ext cx="647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aphicFrame>
                  <p:nvGraphicFramePr>
                    <p:cNvPr id="581" name="Object 22"/>
                    <p:cNvGraphicFramePr/>
                    <p:nvPr/>
                  </p:nvGraphicFramePr>
                  <p:xfrm>
                    <a:off x="6895440" y="1198440"/>
                    <a:ext cx="263160" cy="317520"/>
                  </p:xfrm>
                  <a:graphic>
                    <a:graphicData uri="http://schemas.openxmlformats.org/presentationml/2006/ole">
                      <p:oleObj r:id="rId21" spid="">
                        <p:embed/>
                        <p:pic>
                          <p:nvPicPr>
                            <p:cNvPr id="582" name="Object 22" descr=""/>
                            <p:cNvPicPr/>
                            <p:nvPr/>
                          </p:nvPicPr>
                          <p:blipFill>
                            <a:blip r:embed="rId22"/>
                            <a:stretch/>
                          </p:blipFill>
                          <p:spPr>
                            <a:xfrm>
                              <a:off x="6895440" y="1198440"/>
                              <a:ext cx="263160" cy="3175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pSp>
                <p:nvGrpSpPr>
                  <p:cNvPr id="583" name="群組 33"/>
                  <p:cNvGrpSpPr/>
                  <p:nvPr/>
                </p:nvGrpSpPr>
                <p:grpSpPr>
                  <a:xfrm>
                    <a:off x="7073640" y="960480"/>
                    <a:ext cx="647640" cy="555480"/>
                    <a:chOff x="7073640" y="960480"/>
                    <a:chExt cx="647640" cy="555480"/>
                  </a:xfrm>
                </p:grpSpPr>
                <p:sp>
                  <p:nvSpPr>
                    <p:cNvPr id="584" name="文字方塊 34"/>
                    <p:cNvSpPr/>
                    <p:nvPr/>
                  </p:nvSpPr>
                  <p:spPr>
                    <a:xfrm>
                      <a:off x="7073640" y="960480"/>
                      <a:ext cx="647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aphicFrame>
                  <p:nvGraphicFramePr>
                    <p:cNvPr id="585" name="Object 23"/>
                    <p:cNvGraphicFramePr/>
                    <p:nvPr/>
                  </p:nvGraphicFramePr>
                  <p:xfrm>
                    <a:off x="7395840" y="1198440"/>
                    <a:ext cx="245880" cy="317520"/>
                  </p:xfrm>
                  <a:graphic>
                    <a:graphicData uri="http://schemas.openxmlformats.org/presentationml/2006/ole">
                      <p:oleObj r:id="rId23" spid="">
                        <p:embed/>
                        <p:pic>
                          <p:nvPicPr>
                            <p:cNvPr id="586" name="Object 23" descr=""/>
                            <p:cNvPicPr/>
                            <p:nvPr/>
                          </p:nvPicPr>
                          <p:blipFill>
                            <a:blip r:embed="rId24"/>
                            <a:stretch/>
                          </p:blipFill>
                          <p:spPr>
                            <a:xfrm>
                              <a:off x="7395840" y="1198440"/>
                              <a:ext cx="245880" cy="3175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pSp>
                <p:nvGrpSpPr>
                  <p:cNvPr id="587" name="群組 36"/>
                  <p:cNvGrpSpPr/>
                  <p:nvPr/>
                </p:nvGrpSpPr>
                <p:grpSpPr>
                  <a:xfrm>
                    <a:off x="6078600" y="1460160"/>
                    <a:ext cx="647640" cy="554400"/>
                    <a:chOff x="6078600" y="1460160"/>
                    <a:chExt cx="647640" cy="554400"/>
                  </a:xfrm>
                </p:grpSpPr>
                <p:sp>
                  <p:nvSpPr>
                    <p:cNvPr id="588" name="文字方塊 37"/>
                    <p:cNvSpPr/>
                    <p:nvPr/>
                  </p:nvSpPr>
                  <p:spPr>
                    <a:xfrm>
                      <a:off x="6078600" y="1460160"/>
                      <a:ext cx="647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aphicFrame>
                  <p:nvGraphicFramePr>
                    <p:cNvPr id="589" name="Object 24"/>
                    <p:cNvGraphicFramePr/>
                    <p:nvPr/>
                  </p:nvGraphicFramePr>
                  <p:xfrm>
                    <a:off x="6391440" y="1698480"/>
                    <a:ext cx="263160" cy="316080"/>
                  </p:xfrm>
                  <a:graphic>
                    <a:graphicData uri="http://schemas.openxmlformats.org/presentationml/2006/ole">
                      <p:oleObj r:id="rId25" spid="">
                        <p:embed/>
                        <p:pic>
                          <p:nvPicPr>
                            <p:cNvPr id="590" name="Object 24" descr=""/>
                            <p:cNvPicPr/>
                            <p:nvPr/>
                          </p:nvPicPr>
                          <p:blipFill>
                            <a:blip r:embed="rId26"/>
                            <a:stretch/>
                          </p:blipFill>
                          <p:spPr>
                            <a:xfrm>
                              <a:off x="6391440" y="1698480"/>
                              <a:ext cx="263160" cy="31608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</p:grpSp>
              <p:graphicFrame>
                <p:nvGraphicFramePr>
                  <p:cNvPr id="591" name="Object 25"/>
                  <p:cNvGraphicFramePr/>
                  <p:nvPr/>
                </p:nvGraphicFramePr>
                <p:xfrm>
                  <a:off x="6751800" y="1604160"/>
                  <a:ext cx="245880" cy="317520"/>
                </p:xfrm>
                <a:graphic>
                  <a:graphicData uri="http://schemas.openxmlformats.org/presentationml/2006/ole">
                    <p:oleObj r:id="rId27" spid="">
                      <p:embed/>
                      <p:pic>
                        <p:nvPicPr>
                          <p:cNvPr id="592" name="Object 25" descr=""/>
                          <p:cNvPicPr/>
                          <p:nvPr/>
                        </p:nvPicPr>
                        <p:blipFill>
                          <a:blip r:embed="rId28"/>
                          <a:stretch/>
                        </p:blipFill>
                        <p:spPr>
                          <a:xfrm>
                            <a:off x="6751800" y="1604160"/>
                            <a:ext cx="245880" cy="3175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679-E2D0-4E4C-A3E7-7603A1515E1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群組 12"/>
          <p:cNvGrpSpPr/>
          <p:nvPr/>
        </p:nvGrpSpPr>
        <p:grpSpPr>
          <a:xfrm>
            <a:off x="457200" y="907920"/>
            <a:ext cx="8381880" cy="1723680"/>
            <a:chOff x="457200" y="907920"/>
            <a:chExt cx="8381880" cy="1723680"/>
          </a:xfrm>
        </p:grpSpPr>
        <p:grpSp>
          <p:nvGrpSpPr>
            <p:cNvPr id="595" name="群組 8"/>
            <p:cNvGrpSpPr/>
            <p:nvPr/>
          </p:nvGrpSpPr>
          <p:grpSpPr>
            <a:xfrm>
              <a:off x="457200" y="907920"/>
              <a:ext cx="8381880" cy="1723680"/>
              <a:chOff x="457200" y="907920"/>
              <a:chExt cx="8381880" cy="1723680"/>
            </a:xfrm>
          </p:grpSpPr>
          <p:sp>
            <p:nvSpPr>
              <p:cNvPr id="596" name="Rectangle 3"/>
              <p:cNvSpPr/>
              <p:nvPr/>
            </p:nvSpPr>
            <p:spPr>
              <a:xfrm>
                <a:off x="457200" y="907920"/>
                <a:ext cx="838188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15000"/>
                  </a:lnSpc>
                  <a:spcBef>
                    <a:spcPts val="550"/>
                  </a:spcBef>
                  <a:buClr>
                    <a:srgbClr val="00007d"/>
                  </a:buClr>
                  <a:buSzPct val="7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完全搜尋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ull Search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15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矩形 2"/>
              <p:cNvSpPr/>
              <p:nvPr/>
            </p:nvSpPr>
            <p:spPr>
              <a:xfrm>
                <a:off x="754920" y="1412640"/>
                <a:ext cx="7993080" cy="12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我們假定在搜尋範圍中的某一搜尋正方形，如圖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1.6.5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所示的中間較小框框    。若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200" spc="-1" strike="noStrike" baseline="-30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在    內找到最匹配的區塊，則完成匹配。否則在    的邊緣上找一暫時最匹配的區塊所在處定一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×3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的視窗如圖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1.6.5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中以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點為中心的視窗。接著在這小視窗中找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200" spc="-1" strike="noStrike" baseline="-30000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的最佳匹配區塊。直到找到最佳的匹配區塊為止。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98" name="Object 2"/>
            <p:cNvGraphicFramePr/>
            <p:nvPr/>
          </p:nvGraphicFramePr>
          <p:xfrm>
            <a:off x="2259000" y="1743480"/>
            <a:ext cx="285480" cy="41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59000" y="1743480"/>
                      <a:ext cx="285480" cy="41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0" name="Object 3"/>
            <p:cNvGraphicFramePr/>
            <p:nvPr/>
          </p:nvGraphicFramePr>
          <p:xfrm>
            <a:off x="3565800" y="1747440"/>
            <a:ext cx="285480" cy="41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1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5800" y="1747440"/>
                      <a:ext cx="285480" cy="41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Object 4"/>
            <p:cNvGraphicFramePr/>
            <p:nvPr/>
          </p:nvGraphicFramePr>
          <p:xfrm>
            <a:off x="1373760" y="2078280"/>
            <a:ext cx="285480" cy="454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3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73760" y="2078280"/>
                      <a:ext cx="285480" cy="4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04" name="Object 5"/>
          <p:cNvGraphicFramePr/>
          <p:nvPr/>
        </p:nvGraphicFramePr>
        <p:xfrm>
          <a:off x="2627280" y="3357720"/>
          <a:ext cx="3024360" cy="30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3357720"/>
                    <a:ext cx="3024360" cy="30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文字方塊 12"/>
          <p:cNvSpPr/>
          <p:nvPr/>
        </p:nvSpPr>
        <p:spPr>
          <a:xfrm>
            <a:off x="5794200" y="5734080"/>
            <a:ext cx="25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6.5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區塊匹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80C-620E-42F4-AD13-0309D971BBE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68360" y="949320"/>
            <a:ext cx="83818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贏家修正策略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ner-update Starateg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矩形 2"/>
          <p:cNvSpPr/>
          <p:nvPr/>
        </p:nvSpPr>
        <p:spPr>
          <a:xfrm>
            <a:off x="736560" y="1413000"/>
            <a:ext cx="77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沿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.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節中的符號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   ，                ，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目前影像中的待匹配區塊，而      為前一張參考影像中在搜尋範圍內的所有區塊，這裡假設十六維的向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為方便說明，假設            ，且各個向量只有三維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首先，我們檢查   、  、   和    的第一個元素，假如四個元素如下所示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Object 2"/>
          <p:cNvGraphicFramePr/>
          <p:nvPr/>
        </p:nvGraphicFramePr>
        <p:xfrm>
          <a:off x="3821040" y="1473120"/>
          <a:ext cx="2761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1040" y="1473120"/>
                    <a:ext cx="276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3"/>
          <p:cNvGraphicFramePr/>
          <p:nvPr/>
        </p:nvGraphicFramePr>
        <p:xfrm>
          <a:off x="4257720" y="1465200"/>
          <a:ext cx="1182600" cy="3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57720" y="1465200"/>
                    <a:ext cx="11826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5"/>
          <p:cNvGraphicFramePr/>
          <p:nvPr/>
        </p:nvGraphicFramePr>
        <p:xfrm>
          <a:off x="2749680" y="1808280"/>
          <a:ext cx="4539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9680" y="1808280"/>
                    <a:ext cx="453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6"/>
          <p:cNvGraphicFramePr/>
          <p:nvPr/>
        </p:nvGraphicFramePr>
        <p:xfrm>
          <a:off x="4506840" y="2160720"/>
          <a:ext cx="36720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6840" y="2160720"/>
                    <a:ext cx="3672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8"/>
          <p:cNvGraphicFramePr/>
          <p:nvPr/>
        </p:nvGraphicFramePr>
        <p:xfrm>
          <a:off x="882720" y="2492280"/>
          <a:ext cx="3093840" cy="36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2720" y="2492280"/>
                    <a:ext cx="3093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10"/>
          <p:cNvGraphicFramePr/>
          <p:nvPr/>
        </p:nvGraphicFramePr>
        <p:xfrm>
          <a:off x="6543720" y="2492280"/>
          <a:ext cx="83808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43720" y="2492280"/>
                    <a:ext cx="83808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11"/>
          <p:cNvGraphicFramePr/>
          <p:nvPr/>
        </p:nvGraphicFramePr>
        <p:xfrm>
          <a:off x="2836800" y="3500280"/>
          <a:ext cx="223920" cy="33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36800" y="3500280"/>
                    <a:ext cx="223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12"/>
          <p:cNvGraphicFramePr/>
          <p:nvPr/>
        </p:nvGraphicFramePr>
        <p:xfrm>
          <a:off x="3254400" y="3500280"/>
          <a:ext cx="243000" cy="339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25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54400" y="3500280"/>
                    <a:ext cx="243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13"/>
          <p:cNvGraphicFramePr/>
          <p:nvPr/>
        </p:nvGraphicFramePr>
        <p:xfrm>
          <a:off x="3670200" y="3508200"/>
          <a:ext cx="243000" cy="33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27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70200" y="3508200"/>
                    <a:ext cx="243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14"/>
          <p:cNvGraphicFramePr/>
          <p:nvPr/>
        </p:nvGraphicFramePr>
        <p:xfrm>
          <a:off x="4221000" y="3508200"/>
          <a:ext cx="24300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29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21000" y="3508200"/>
                    <a:ext cx="243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0" name="群組 24"/>
          <p:cNvGrpSpPr/>
          <p:nvPr/>
        </p:nvGrpSpPr>
        <p:grpSpPr>
          <a:xfrm>
            <a:off x="2484360" y="4653000"/>
            <a:ext cx="3600360" cy="1195200"/>
            <a:chOff x="2484360" y="4653000"/>
            <a:chExt cx="3600360" cy="1195200"/>
          </a:xfrm>
        </p:grpSpPr>
        <p:pic>
          <p:nvPicPr>
            <p:cNvPr id="631" name="Picture 15" descr="WinnerUpdate-1"/>
            <p:cNvPicPr/>
            <p:nvPr/>
          </p:nvPicPr>
          <p:blipFill>
            <a:blip r:embed="rId21"/>
            <a:stretch/>
          </p:blipFill>
          <p:spPr>
            <a:xfrm>
              <a:off x="2484360" y="4653000"/>
              <a:ext cx="3600360" cy="117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2" name="Object 16"/>
            <p:cNvGraphicFramePr/>
            <p:nvPr/>
          </p:nvGraphicFramePr>
          <p:xfrm>
            <a:off x="2772360" y="5500080"/>
            <a:ext cx="223560" cy="3394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633" name="Object 16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2772360" y="5500080"/>
                      <a:ext cx="22356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4" name="Object 17"/>
            <p:cNvGraphicFramePr/>
            <p:nvPr/>
          </p:nvGraphicFramePr>
          <p:xfrm>
            <a:off x="3683160" y="5500080"/>
            <a:ext cx="242640" cy="33948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635" name="Object 1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683160" y="5500080"/>
                      <a:ext cx="24264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6" name="Object 18"/>
            <p:cNvGraphicFramePr/>
            <p:nvPr/>
          </p:nvGraphicFramePr>
          <p:xfrm>
            <a:off x="4593960" y="5508720"/>
            <a:ext cx="241200" cy="33948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637" name="Object 1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4593960" y="5508720"/>
                      <a:ext cx="24120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Object 19"/>
            <p:cNvGraphicFramePr/>
            <p:nvPr/>
          </p:nvGraphicFramePr>
          <p:xfrm>
            <a:off x="5500440" y="5508720"/>
            <a:ext cx="241200" cy="3394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639" name="Object 19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500440" y="5508720"/>
                      <a:ext cx="24120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2936-ED9B-4D42-BBEE-5F201C1A631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群組 23"/>
          <p:cNvGrpSpPr/>
          <p:nvPr/>
        </p:nvGrpSpPr>
        <p:grpSpPr>
          <a:xfrm>
            <a:off x="468360" y="836640"/>
            <a:ext cx="7993080" cy="764280"/>
            <a:chOff x="468360" y="836640"/>
            <a:chExt cx="7993080" cy="764280"/>
          </a:xfrm>
        </p:grpSpPr>
        <p:sp>
          <p:nvSpPr>
            <p:cNvPr id="642" name="矩形 2"/>
            <p:cNvSpPr/>
            <p:nvPr/>
          </p:nvSpPr>
          <p:spPr>
            <a:xfrm>
              <a:off x="468360" y="836640"/>
              <a:ext cx="799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因為            為最小者，就繼續看        並且計算出               ，假定目前的前置和如下所示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3" name="Object 2"/>
            <p:cNvGraphicFramePr/>
            <p:nvPr/>
          </p:nvGraphicFramePr>
          <p:xfrm>
            <a:off x="1116000" y="907920"/>
            <a:ext cx="82044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907920"/>
                      <a:ext cx="82044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5" name="Object 3"/>
            <p:cNvGraphicFramePr/>
            <p:nvPr/>
          </p:nvGraphicFramePr>
          <p:xfrm>
            <a:off x="4478400" y="900000"/>
            <a:ext cx="522000" cy="360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6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78400" y="900000"/>
                      <a:ext cx="5220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Object 4"/>
            <p:cNvGraphicFramePr/>
            <p:nvPr/>
          </p:nvGraphicFramePr>
          <p:xfrm>
            <a:off x="6415200" y="907920"/>
            <a:ext cx="1137960" cy="33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15200" y="907920"/>
                      <a:ext cx="11379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9" name="群組 11"/>
          <p:cNvGrpSpPr/>
          <p:nvPr/>
        </p:nvGrpSpPr>
        <p:grpSpPr>
          <a:xfrm>
            <a:off x="2484360" y="1628640"/>
            <a:ext cx="3527640" cy="1871640"/>
            <a:chOff x="2484360" y="1628640"/>
            <a:chExt cx="3527640" cy="1871640"/>
          </a:xfrm>
        </p:grpSpPr>
        <p:pic>
          <p:nvPicPr>
            <p:cNvPr id="650" name="Picture 5" descr="WinnerUpdate-2"/>
            <p:cNvPicPr/>
            <p:nvPr/>
          </p:nvPicPr>
          <p:blipFill>
            <a:blip r:embed="rId7"/>
            <a:stretch/>
          </p:blipFill>
          <p:spPr>
            <a:xfrm>
              <a:off x="2484360" y="1628640"/>
              <a:ext cx="3527640" cy="18313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51" name="Object 6"/>
            <p:cNvGraphicFramePr/>
            <p:nvPr/>
          </p:nvGraphicFramePr>
          <p:xfrm>
            <a:off x="2752920" y="3128040"/>
            <a:ext cx="249120" cy="3722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52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52920" y="3128040"/>
                      <a:ext cx="24912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3" name="Object 7"/>
            <p:cNvGraphicFramePr/>
            <p:nvPr/>
          </p:nvGraphicFramePr>
          <p:xfrm>
            <a:off x="3644280" y="3109680"/>
            <a:ext cx="270360" cy="372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54" name="Object 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644280" y="3109680"/>
                      <a:ext cx="2703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5" name="Object 8"/>
            <p:cNvGraphicFramePr/>
            <p:nvPr/>
          </p:nvGraphicFramePr>
          <p:xfrm>
            <a:off x="4554720" y="3118680"/>
            <a:ext cx="268560" cy="372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56" name="Object 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54720" y="3118680"/>
                      <a:ext cx="2685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7" name="Object 9"/>
            <p:cNvGraphicFramePr/>
            <p:nvPr/>
          </p:nvGraphicFramePr>
          <p:xfrm>
            <a:off x="5451120" y="3128040"/>
            <a:ext cx="268560" cy="3722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58" name="Object 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51120" y="3128040"/>
                      <a:ext cx="268560" cy="37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9" name="群組 22"/>
          <p:cNvGrpSpPr/>
          <p:nvPr/>
        </p:nvGrpSpPr>
        <p:grpSpPr>
          <a:xfrm>
            <a:off x="539640" y="3645000"/>
            <a:ext cx="7993080" cy="764280"/>
            <a:chOff x="539640" y="3645000"/>
            <a:chExt cx="7993080" cy="764280"/>
          </a:xfrm>
        </p:grpSpPr>
        <p:sp>
          <p:nvSpPr>
            <p:cNvPr id="660" name="矩形 12"/>
            <p:cNvSpPr/>
            <p:nvPr/>
          </p:nvSpPr>
          <p:spPr>
            <a:xfrm>
              <a:off x="539640" y="3645000"/>
              <a:ext cx="799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時因為            為前置和中最小值，所以計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3+6+9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目前的前置和如下所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1" name="Object 10"/>
            <p:cNvGraphicFramePr/>
            <p:nvPr/>
          </p:nvGraphicFramePr>
          <p:xfrm>
            <a:off x="1758600" y="3717720"/>
            <a:ext cx="801720" cy="339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62" name="Object 10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758600" y="3717720"/>
                      <a:ext cx="80172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Object 11"/>
            <p:cNvGraphicFramePr/>
            <p:nvPr/>
          </p:nvGraphicFramePr>
          <p:xfrm>
            <a:off x="6213600" y="3717720"/>
            <a:ext cx="1790640" cy="339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664" name="Object 1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213600" y="3717720"/>
                      <a:ext cx="1790640" cy="33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5" name="群組 21"/>
          <p:cNvGrpSpPr/>
          <p:nvPr/>
        </p:nvGrpSpPr>
        <p:grpSpPr>
          <a:xfrm>
            <a:off x="2484360" y="4581360"/>
            <a:ext cx="3416400" cy="1860840"/>
            <a:chOff x="2484360" y="4581360"/>
            <a:chExt cx="3416400" cy="1860840"/>
          </a:xfrm>
        </p:grpSpPr>
        <p:pic>
          <p:nvPicPr>
            <p:cNvPr id="666" name="Picture 12" descr="WinnerUpdate-3"/>
            <p:cNvPicPr/>
            <p:nvPr/>
          </p:nvPicPr>
          <p:blipFill>
            <a:blip r:embed="rId20"/>
            <a:stretch/>
          </p:blipFill>
          <p:spPr>
            <a:xfrm>
              <a:off x="2484360" y="4581360"/>
              <a:ext cx="3416400" cy="180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7" name="群組 20"/>
            <p:cNvGrpSpPr/>
            <p:nvPr/>
          </p:nvGrpSpPr>
          <p:grpSpPr>
            <a:xfrm>
              <a:off x="2738160" y="6077160"/>
              <a:ext cx="2849760" cy="365040"/>
              <a:chOff x="2738160" y="6077160"/>
              <a:chExt cx="2849760" cy="365040"/>
            </a:xfrm>
          </p:grpSpPr>
          <p:graphicFrame>
            <p:nvGraphicFramePr>
              <p:cNvPr id="668" name="Object 13"/>
              <p:cNvGraphicFramePr/>
              <p:nvPr/>
            </p:nvGraphicFramePr>
            <p:xfrm>
              <a:off x="2738160" y="6102360"/>
              <a:ext cx="223560" cy="33984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669" name="Object 13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738160" y="6102360"/>
                        <a:ext cx="22356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0" name="Object 14"/>
              <p:cNvGraphicFramePr/>
              <p:nvPr/>
            </p:nvGraphicFramePr>
            <p:xfrm>
              <a:off x="3614760" y="6085440"/>
              <a:ext cx="242640" cy="3398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671" name="Object 14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3614760" y="6085440"/>
                        <a:ext cx="24264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2" name="Object 15"/>
              <p:cNvGraphicFramePr/>
              <p:nvPr/>
            </p:nvGraphicFramePr>
            <p:xfrm>
              <a:off x="4465800" y="6085440"/>
              <a:ext cx="241200" cy="33984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673" name="Object 15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4465800" y="6085440"/>
                        <a:ext cx="24120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74" name="Object 16"/>
              <p:cNvGraphicFramePr/>
              <p:nvPr/>
            </p:nvGraphicFramePr>
            <p:xfrm>
              <a:off x="5346720" y="6077160"/>
              <a:ext cx="241200" cy="339840"/>
            </p:xfrm>
            <a:graphic>
              <a:graphicData uri="http://schemas.openxmlformats.org/presentationml/2006/ole">
                <p:oleObj r:id="rId27" spid="">
                  <p:embed/>
                  <p:pic>
                    <p:nvPicPr>
                      <p:cNvPr id="675" name="Object 16" descr=""/>
                      <p:cNvPicPr/>
                      <p:nvPr/>
                    </p:nvPicPr>
                    <p:blipFill>
                      <a:blip r:embed="rId28"/>
                      <a:stretch/>
                    </p:blipFill>
                    <p:spPr>
                      <a:xfrm>
                        <a:off x="5346720" y="6077160"/>
                        <a:ext cx="241200" cy="33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8725-49A0-47B7-8034-7B074F9EAD7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11.2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消息理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群組 17"/>
          <p:cNvGrpSpPr/>
          <p:nvPr/>
        </p:nvGrpSpPr>
        <p:grpSpPr>
          <a:xfrm>
            <a:off x="457200" y="1600200"/>
            <a:ext cx="8305920" cy="4800600"/>
            <a:chOff x="457200" y="1600200"/>
            <a:chExt cx="8305920" cy="4800600"/>
          </a:xfrm>
        </p:grpSpPr>
        <p:grpSp>
          <p:nvGrpSpPr>
            <p:cNvPr id="124" name="Group 1059"/>
            <p:cNvGrpSpPr/>
            <p:nvPr/>
          </p:nvGrpSpPr>
          <p:grpSpPr>
            <a:xfrm>
              <a:off x="457200" y="1600200"/>
              <a:ext cx="8305920" cy="512640"/>
              <a:chOff x="457200" y="1600200"/>
              <a:chExt cx="8305920" cy="512640"/>
            </a:xfrm>
          </p:grpSpPr>
          <p:sp>
            <p:nvSpPr>
              <p:cNvPr id="125" name="Rectangle 1038"/>
              <p:cNvSpPr/>
              <p:nvPr/>
            </p:nvSpPr>
            <p:spPr>
              <a:xfrm>
                <a:off x="457200" y="1600200"/>
                <a:ext cx="8305920" cy="51264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定理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.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.1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　給任意 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個事件，其熵　　　   。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6" name="Object 1042"/>
                  <p:cNvSpPr txBox="1"/>
                  <p:nvPr/>
                </p:nvSpPr>
                <p:spPr>
                  <a:xfrm>
                    <a:off x="4902120" y="1716120"/>
                    <a:ext cx="1109880" cy="360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7" name="Text Box 1045"/>
            <p:cNvSpPr/>
            <p:nvPr/>
          </p:nvSpPr>
          <p:spPr>
            <a:xfrm>
              <a:off x="626400" y="2133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證明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51"/>
            <p:cNvSpPr/>
            <p:nvPr/>
          </p:nvSpPr>
          <p:spPr>
            <a:xfrm>
              <a:off x="468000" y="2438280"/>
              <a:ext cx="822996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事件且機率分別為　、　、…和　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1050"/>
                <p:cNvSpPr txBox="1"/>
                <p:nvPr/>
              </p:nvSpPr>
              <p:spPr>
                <a:xfrm>
                  <a:off x="3276000" y="2492640"/>
                  <a:ext cx="3110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1049"/>
                <p:cNvSpPr txBox="1"/>
                <p:nvPr/>
              </p:nvSpPr>
              <p:spPr>
                <a:xfrm>
                  <a:off x="3780000" y="2492640"/>
                  <a:ext cx="33012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Object 1048"/>
                <p:cNvSpPr txBox="1"/>
                <p:nvPr/>
              </p:nvSpPr>
              <p:spPr>
                <a:xfrm>
                  <a:off x="5004000" y="2492640"/>
                  <a:ext cx="32544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1046"/>
                <p:cNvSpPr txBox="1"/>
                <p:nvPr/>
              </p:nvSpPr>
              <p:spPr>
                <a:xfrm>
                  <a:off x="2660760" y="2809800"/>
                  <a:ext cx="19112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33" name="Object 1052"/>
            <p:cNvGraphicFramePr/>
            <p:nvPr/>
          </p:nvGraphicFramePr>
          <p:xfrm>
            <a:off x="1380960" y="3505320"/>
            <a:ext cx="6228000" cy="228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Object 105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0960" y="3505320"/>
                      <a:ext cx="6228000" cy="228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5" name="Group 1057"/>
            <p:cNvGrpSpPr/>
            <p:nvPr/>
          </p:nvGrpSpPr>
          <p:grpSpPr>
            <a:xfrm>
              <a:off x="609480" y="5962680"/>
              <a:ext cx="7925040" cy="438120"/>
              <a:chOff x="609480" y="5962680"/>
              <a:chExt cx="7925040" cy="438120"/>
            </a:xfrm>
          </p:grpSpPr>
          <p:sp>
            <p:nvSpPr>
              <p:cNvPr id="136" name="Text Box 1054"/>
              <p:cNvSpPr/>
              <p:nvPr/>
            </p:nvSpPr>
            <p:spPr>
              <a:xfrm>
                <a:off x="609480" y="5962680"/>
                <a:ext cx="792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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" name="Object 1055"/>
                  <p:cNvSpPr txBox="1"/>
                  <p:nvPr/>
                </p:nvSpPr>
                <p:spPr>
                  <a:xfrm>
                    <a:off x="1003320" y="6008760"/>
                    <a:ext cx="1650960" cy="39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投影片編號版面配置區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3F5E-8147-4D62-9E8C-025C782B9CC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矩形 2"/>
          <p:cNvSpPr/>
          <p:nvPr/>
        </p:nvSpPr>
        <p:spPr>
          <a:xfrm>
            <a:off x="611280" y="98100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重複同樣的方式，假設最終的前置和如下所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群組 8"/>
          <p:cNvGrpSpPr/>
          <p:nvPr/>
        </p:nvGrpSpPr>
        <p:grpSpPr>
          <a:xfrm>
            <a:off x="2484360" y="1635120"/>
            <a:ext cx="3959280" cy="2946240"/>
            <a:chOff x="2484360" y="1635120"/>
            <a:chExt cx="3959280" cy="2946240"/>
          </a:xfrm>
        </p:grpSpPr>
        <p:pic>
          <p:nvPicPr>
            <p:cNvPr id="679" name="Picture 2" descr="WinnerUpdate-4"/>
            <p:cNvPicPr/>
            <p:nvPr/>
          </p:nvPicPr>
          <p:blipFill>
            <a:blip r:embed="rId1"/>
            <a:stretch/>
          </p:blipFill>
          <p:spPr>
            <a:xfrm>
              <a:off x="2484360" y="1635120"/>
              <a:ext cx="3959280" cy="2903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80" name="Object 3"/>
            <p:cNvGraphicFramePr/>
            <p:nvPr/>
          </p:nvGraphicFramePr>
          <p:xfrm>
            <a:off x="2820600" y="4166280"/>
            <a:ext cx="273240" cy="415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820600" y="4166280"/>
                      <a:ext cx="273240" cy="4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Object 4"/>
            <p:cNvGraphicFramePr/>
            <p:nvPr/>
          </p:nvGraphicFramePr>
          <p:xfrm>
            <a:off x="3819600" y="4155840"/>
            <a:ext cx="296640" cy="415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3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19600" y="4155840"/>
                      <a:ext cx="296640" cy="4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Object 5"/>
            <p:cNvGraphicFramePr/>
            <p:nvPr/>
          </p:nvGraphicFramePr>
          <p:xfrm>
            <a:off x="4829040" y="4166280"/>
            <a:ext cx="294840" cy="415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5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829040" y="4166280"/>
                      <a:ext cx="294840" cy="4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Object 6"/>
            <p:cNvGraphicFramePr/>
            <p:nvPr/>
          </p:nvGraphicFramePr>
          <p:xfrm>
            <a:off x="5843520" y="4155840"/>
            <a:ext cx="294840" cy="415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87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843520" y="4155840"/>
                      <a:ext cx="294840" cy="4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8" name="群組 13"/>
          <p:cNvGrpSpPr/>
          <p:nvPr/>
        </p:nvGrpSpPr>
        <p:grpSpPr>
          <a:xfrm>
            <a:off x="755640" y="4869000"/>
            <a:ext cx="7993080" cy="429120"/>
            <a:chOff x="755640" y="4869000"/>
            <a:chExt cx="7993080" cy="429120"/>
          </a:xfrm>
        </p:grpSpPr>
        <p:sp>
          <p:nvSpPr>
            <p:cNvPr id="689" name="矩形 9"/>
            <p:cNvSpPr/>
            <p:nvPr/>
          </p:nvSpPr>
          <p:spPr>
            <a:xfrm>
              <a:off x="755640" y="4869000"/>
              <a:ext cx="799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由    可知   和    最匹配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0" name="Object 7"/>
            <p:cNvGraphicFramePr/>
            <p:nvPr/>
          </p:nvGraphicFramePr>
          <p:xfrm>
            <a:off x="1476360" y="4940280"/>
            <a:ext cx="241200" cy="339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91" name="Object 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76360" y="4940280"/>
                      <a:ext cx="241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Object 8"/>
            <p:cNvGraphicFramePr/>
            <p:nvPr/>
          </p:nvGraphicFramePr>
          <p:xfrm>
            <a:off x="2230200" y="4965480"/>
            <a:ext cx="237960" cy="2664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93" name="Object 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30200" y="4965480"/>
                      <a:ext cx="23796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Object 9"/>
            <p:cNvGraphicFramePr/>
            <p:nvPr/>
          </p:nvGraphicFramePr>
          <p:xfrm>
            <a:off x="2744640" y="4919760"/>
            <a:ext cx="295200" cy="360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95" name="Object 9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744640" y="4919760"/>
                      <a:ext cx="2952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2507-BC51-4207-8412-0219AA34DE6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40000" y="5660640"/>
            <a:ext cx="446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.1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的示意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120760" y="1100160"/>
          <a:ext cx="461196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1100160"/>
                    <a:ext cx="46119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3635280" y="5918040"/>
                <a:ext cx="15843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1AF0-D94F-41D4-A8D2-E8BB02253AD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群組 26"/>
          <p:cNvGrpSpPr/>
          <p:nvPr/>
        </p:nvGrpSpPr>
        <p:grpSpPr>
          <a:xfrm>
            <a:off x="457200" y="685800"/>
            <a:ext cx="8229600" cy="5458320"/>
            <a:chOff x="457200" y="685800"/>
            <a:chExt cx="8229600" cy="5458320"/>
          </a:xfrm>
        </p:grpSpPr>
        <p:sp>
          <p:nvSpPr>
            <p:cNvPr id="145" name="Rectangle 2"/>
            <p:cNvSpPr/>
            <p:nvPr/>
          </p:nvSpPr>
          <p:spPr>
            <a:xfrm>
              <a:off x="457200" y="68580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raf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不等式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Object 12"/>
            <p:cNvGraphicFramePr/>
            <p:nvPr/>
          </p:nvGraphicFramePr>
          <p:xfrm>
            <a:off x="4888080" y="2735280"/>
            <a:ext cx="650880" cy="39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8080" y="2735280"/>
                      <a:ext cx="6508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Object 11"/>
            <p:cNvGraphicFramePr/>
            <p:nvPr/>
          </p:nvGraphicFramePr>
          <p:xfrm>
            <a:off x="2220840" y="2732040"/>
            <a:ext cx="650880" cy="399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20840" y="2732040"/>
                      <a:ext cx="65088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Object 10"/>
            <p:cNvGraphicFramePr/>
            <p:nvPr/>
          </p:nvGraphicFramePr>
          <p:xfrm>
            <a:off x="5878440" y="2732040"/>
            <a:ext cx="684000" cy="39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78440" y="2732040"/>
                      <a:ext cx="6840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Object 9"/>
            <p:cNvGraphicFramePr/>
            <p:nvPr/>
          </p:nvGraphicFramePr>
          <p:xfrm>
            <a:off x="4681440" y="3135240"/>
            <a:ext cx="1539720" cy="33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81440" y="3135240"/>
                      <a:ext cx="15397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Object 8"/>
            <p:cNvGraphicFramePr/>
            <p:nvPr/>
          </p:nvGraphicFramePr>
          <p:xfrm>
            <a:off x="7174080" y="3135240"/>
            <a:ext cx="62208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74080" y="3135240"/>
                      <a:ext cx="62208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Object 7"/>
            <p:cNvGraphicFramePr/>
            <p:nvPr/>
          </p:nvGraphicFramePr>
          <p:xfrm>
            <a:off x="2525760" y="4038480"/>
            <a:ext cx="688680" cy="396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25760" y="4038480"/>
                      <a:ext cx="6886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6"/>
            <p:cNvGraphicFramePr/>
            <p:nvPr/>
          </p:nvGraphicFramePr>
          <p:xfrm>
            <a:off x="4691160" y="4041720"/>
            <a:ext cx="235116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9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91160" y="4041720"/>
                      <a:ext cx="2351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0" name="Object 5"/>
            <p:cNvGraphicFramePr/>
            <p:nvPr/>
          </p:nvGraphicFramePr>
          <p:xfrm>
            <a:off x="2297160" y="4430880"/>
            <a:ext cx="374400" cy="328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97160" y="4430880"/>
                      <a:ext cx="37440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Object 4"/>
            <p:cNvGraphicFramePr/>
            <p:nvPr/>
          </p:nvGraphicFramePr>
          <p:xfrm>
            <a:off x="3473280" y="4430880"/>
            <a:ext cx="2112840" cy="330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63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3280" y="4430880"/>
                      <a:ext cx="21128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Object 3"/>
            <p:cNvGraphicFramePr/>
            <p:nvPr/>
          </p:nvGraphicFramePr>
          <p:xfrm>
            <a:off x="2859120" y="5192640"/>
            <a:ext cx="2868480" cy="3934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65" name="Object 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859120" y="5192640"/>
                      <a:ext cx="28684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Rectangle 20"/>
            <p:cNvSpPr/>
            <p:nvPr/>
          </p:nvSpPr>
          <p:spPr>
            <a:xfrm>
              <a:off x="761760" y="1249200"/>
              <a:ext cx="2370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群組 24"/>
            <p:cNvGrpSpPr/>
            <p:nvPr/>
          </p:nvGrpSpPr>
          <p:grpSpPr>
            <a:xfrm>
              <a:off x="900000" y="1699920"/>
              <a:ext cx="5562720" cy="434880"/>
              <a:chOff x="900000" y="1699920"/>
              <a:chExt cx="5562720" cy="434880"/>
            </a:xfrm>
          </p:grpSpPr>
          <p:graphicFrame>
            <p:nvGraphicFramePr>
              <p:cNvPr id="168" name="Object 16"/>
              <p:cNvGraphicFramePr/>
              <p:nvPr/>
            </p:nvGraphicFramePr>
            <p:xfrm>
              <a:off x="1969920" y="1737720"/>
              <a:ext cx="258480" cy="397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69" name="Object 16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1969920" y="1737720"/>
                        <a:ext cx="258480" cy="39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0" name="Object 15"/>
              <p:cNvGraphicFramePr/>
              <p:nvPr/>
            </p:nvGraphicFramePr>
            <p:xfrm>
              <a:off x="2546280" y="1737720"/>
              <a:ext cx="1739880" cy="39708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71" name="Object 15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1737720"/>
                        <a:ext cx="1739880" cy="39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2" name="Object 14"/>
              <p:cNvGraphicFramePr/>
              <p:nvPr/>
            </p:nvGraphicFramePr>
            <p:xfrm>
              <a:off x="900000" y="1736280"/>
              <a:ext cx="264960" cy="39708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73" name="Object 14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900000" y="1736280"/>
                        <a:ext cx="264960" cy="39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4" name="Rectangle 21"/>
              <p:cNvSpPr/>
              <p:nvPr/>
            </p:nvSpPr>
            <p:spPr>
              <a:xfrm>
                <a:off x="1052280" y="1699920"/>
                <a:ext cx="5410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長度為　 ， 　　　　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24"/>
            <p:cNvSpPr/>
            <p:nvPr/>
          </p:nvSpPr>
          <p:spPr>
            <a:xfrm>
              <a:off x="747720" y="2624040"/>
              <a:ext cx="7848720" cy="18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設完成了          後，為避免發生          為           的前置碼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refix Code)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必須滿足條件                        ，這裡          為不合法的碼數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同理，考慮時　　  ，則需滿足                                    。不等式兩邊同除以     ，可得                               。依此類推，可得下列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raf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不等式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25"/>
            <p:cNvSpPr/>
            <p:nvPr/>
          </p:nvSpPr>
          <p:spPr>
            <a:xfrm>
              <a:off x="761760" y="5715000"/>
              <a:ext cx="7239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raft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不等式將幫助證明熵可視為平均碼長的下限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8"/>
            <p:cNvGraphicFramePr/>
            <p:nvPr/>
          </p:nvGraphicFramePr>
          <p:xfrm>
            <a:off x="826920" y="1268280"/>
            <a:ext cx="1846080" cy="3967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78" name="Object 18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826920" y="1268280"/>
                      <a:ext cx="184608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9" name="群組 25"/>
            <p:cNvGrpSpPr/>
            <p:nvPr/>
          </p:nvGrpSpPr>
          <p:grpSpPr>
            <a:xfrm>
              <a:off x="755640" y="2205000"/>
              <a:ext cx="2160360" cy="446040"/>
              <a:chOff x="755640" y="2205000"/>
              <a:chExt cx="2160360" cy="446040"/>
            </a:xfrm>
          </p:grpSpPr>
          <p:sp>
            <p:nvSpPr>
              <p:cNvPr id="180" name="Rectangle 22"/>
              <p:cNvSpPr/>
              <p:nvPr/>
            </p:nvSpPr>
            <p:spPr>
              <a:xfrm>
                <a:off x="755640" y="2205000"/>
                <a:ext cx="2160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編碼    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　　 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1" name="Object 17"/>
              <p:cNvGraphicFramePr/>
              <p:nvPr/>
            </p:nvGraphicFramePr>
            <p:xfrm>
              <a:off x="1403280" y="2226960"/>
              <a:ext cx="264960" cy="39672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82" name="Object 17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1403280" y="2226960"/>
                        <a:ext cx="264960" cy="39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3" name="Object 13"/>
              <p:cNvGraphicFramePr/>
              <p:nvPr/>
            </p:nvGraphicFramePr>
            <p:xfrm>
              <a:off x="1921320" y="2254320"/>
              <a:ext cx="657360" cy="39672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84" name="Object 13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921320" y="2254320"/>
                        <a:ext cx="657360" cy="396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C840-2F64-43C6-B6D7-D8E3476D9A3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群組 20"/>
          <p:cNvGrpSpPr/>
          <p:nvPr/>
        </p:nvGrpSpPr>
        <p:grpSpPr>
          <a:xfrm>
            <a:off x="609480" y="563400"/>
            <a:ext cx="7696440" cy="5915880"/>
            <a:chOff x="609480" y="563400"/>
            <a:chExt cx="7696440" cy="5915880"/>
          </a:xfrm>
        </p:grpSpPr>
        <p:grpSp>
          <p:nvGrpSpPr>
            <p:cNvPr id="187" name="Group 29"/>
            <p:cNvGrpSpPr/>
            <p:nvPr/>
          </p:nvGrpSpPr>
          <p:grpSpPr>
            <a:xfrm>
              <a:off x="609480" y="563400"/>
              <a:ext cx="7696440" cy="931320"/>
              <a:chOff x="609480" y="563400"/>
              <a:chExt cx="7696440" cy="931320"/>
            </a:xfrm>
          </p:grpSpPr>
          <p:sp>
            <p:nvSpPr>
              <p:cNvPr id="188" name="Rectangle 3"/>
              <p:cNvSpPr/>
              <p:nvPr/>
            </p:nvSpPr>
            <p:spPr>
              <a:xfrm>
                <a:off x="609480" y="563400"/>
                <a:ext cx="7696440" cy="931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定理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1.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2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　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令                         且    已被編成長度為    的碼，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	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	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	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則熵              ，這裡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新細明體"/>
                  </a:rPr>
                  <a:t>代表平均碼長。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9" name="Object 8"/>
                  <p:cNvSpPr txBox="1"/>
                  <p:nvPr/>
                </p:nvSpPr>
                <p:spPr>
                  <a:xfrm>
                    <a:off x="2516040" y="657000"/>
                    <a:ext cx="1806840" cy="38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Object 7"/>
                  <p:cNvSpPr txBox="1"/>
                  <p:nvPr/>
                </p:nvSpPr>
                <p:spPr>
                  <a:xfrm>
                    <a:off x="4630680" y="667800"/>
                    <a:ext cx="260280" cy="39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Object 6"/>
                  <p:cNvSpPr txBox="1"/>
                  <p:nvPr/>
                </p:nvSpPr>
                <p:spPr>
                  <a:xfrm>
                    <a:off x="6877080" y="657000"/>
                    <a:ext cx="277920" cy="38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2" name="Object 5"/>
                  <p:cNvSpPr txBox="1"/>
                  <p:nvPr/>
                </p:nvSpPr>
                <p:spPr>
                  <a:xfrm>
                    <a:off x="3090960" y="1101240"/>
                    <a:ext cx="1052280" cy="340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93" name="Object 12"/>
                <p:cNvSpPr txBox="1"/>
                <p:nvPr/>
              </p:nvSpPr>
              <p:spPr>
                <a:xfrm>
                  <a:off x="1338120" y="1858680"/>
                  <a:ext cx="128592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94" name="Object 11"/>
            <p:cNvGraphicFramePr/>
            <p:nvPr/>
          </p:nvGraphicFramePr>
          <p:xfrm>
            <a:off x="1169640" y="2544480"/>
            <a:ext cx="6590160" cy="164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9640" y="2544480"/>
                      <a:ext cx="6590160" cy="164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Rectangle 15"/>
            <p:cNvSpPr/>
            <p:nvPr/>
          </p:nvSpPr>
          <p:spPr>
            <a:xfrm>
              <a:off x="722880" y="1965240"/>
              <a:ext cx="515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已知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6"/>
            <p:cNvSpPr/>
            <p:nvPr/>
          </p:nvSpPr>
          <p:spPr>
            <a:xfrm>
              <a:off x="778680" y="150804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證明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7"/>
            <p:cNvSpPr/>
            <p:nvPr/>
          </p:nvSpPr>
          <p:spPr>
            <a:xfrm>
              <a:off x="620640" y="269064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Object 24"/>
                <p:cNvSpPr txBox="1"/>
                <p:nvPr/>
              </p:nvSpPr>
              <p:spPr>
                <a:xfrm>
                  <a:off x="2412720" y="4267080"/>
                  <a:ext cx="437832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&lt;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Object 23"/>
                <p:cNvSpPr txBox="1"/>
                <p:nvPr/>
              </p:nvSpPr>
              <p:spPr>
                <a:xfrm>
                  <a:off x="3308400" y="5232600"/>
                  <a:ext cx="136980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21"/>
                <p:cNvSpPr txBox="1"/>
                <p:nvPr/>
              </p:nvSpPr>
              <p:spPr>
                <a:xfrm>
                  <a:off x="1131480" y="6135840"/>
                  <a:ext cx="22096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L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Rectangle 26"/>
            <p:cNvSpPr/>
            <p:nvPr/>
          </p:nvSpPr>
          <p:spPr>
            <a:xfrm>
              <a:off x="742680" y="4373640"/>
              <a:ext cx="348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又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8"/>
            <p:cNvSpPr/>
            <p:nvPr/>
          </p:nvSpPr>
          <p:spPr>
            <a:xfrm>
              <a:off x="620640" y="60501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12A7-B5C7-429A-A991-A6B0D84A2E4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群組 24"/>
          <p:cNvGrpSpPr/>
          <p:nvPr/>
        </p:nvGrpSpPr>
        <p:grpSpPr>
          <a:xfrm>
            <a:off x="228240" y="457200"/>
            <a:ext cx="8534880" cy="6019920"/>
            <a:chOff x="228240" y="457200"/>
            <a:chExt cx="8534880" cy="6019920"/>
          </a:xfrm>
        </p:grpSpPr>
        <p:sp>
          <p:nvSpPr>
            <p:cNvPr id="206" name="Rectangle 2"/>
            <p:cNvSpPr/>
            <p:nvPr/>
          </p:nvSpPr>
          <p:spPr>
            <a:xfrm>
              <a:off x="456840" y="457200"/>
              <a:ext cx="8229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巨集符號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acro Symbol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集的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平均碼長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"/>
            <p:cNvSpPr/>
            <p:nvPr/>
          </p:nvSpPr>
          <p:spPr>
            <a:xfrm>
              <a:off x="228240" y="914400"/>
              <a:ext cx="82299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符號形成一個巨集符號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acro Symbol)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Object 4"/>
                <p:cNvSpPr txBox="1"/>
                <p:nvPr/>
              </p:nvSpPr>
              <p:spPr>
                <a:xfrm>
                  <a:off x="1187280" y="1340640"/>
                  <a:ext cx="29322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limUpp>
                            <m:e>
                              <m:groupChr>
                                <m:groupChrPr>
                                  <m:chr m:val="⏞"/>
                                  <m:pos m:val="top"/>
                                  <m:vertJc m:val="bot"/>
                                </m:groupChrP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groupChr>
                            </m:e>
                            <m:lim>
                              <m:r>
                                <m:t xml:space="preserve">n</m:t>
                              </m:r>
                            </m:lim>
                          </m:limUp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,</m:t>
                          </m:r>
                          <m:limUpp>
                            <m:e>
                              <m:groupChr>
                                <m:groupChrPr>
                                  <m:chr m:val="⏞"/>
                                  <m:pos m:val="top"/>
                                  <m:vertJc m:val="bot"/>
                                </m:groupChrP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|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|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|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|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|</m:t>
                                      </m:r>
                                      <m:r>
                                        <m:t xml:space="preserve">S</m:t>
                                      </m:r>
                                      <m:r>
                                        <m:t xml:space="preserve">|</m:t>
                                      </m:r>
                                    </m:sub>
                                  </m:sSub>
                                </m:e>
                              </m:groupChr>
                            </m:e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9" name="Rectangle 10"/>
            <p:cNvSpPr/>
            <p:nvPr/>
          </p:nvSpPr>
          <p:spPr>
            <a:xfrm>
              <a:off x="348480" y="148464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字母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>
              <a:off x="239400" y="241632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2"/>
            <p:cNvSpPr/>
            <p:nvPr/>
          </p:nvSpPr>
          <p:spPr>
            <a:xfrm>
              <a:off x="228240" y="1928880"/>
              <a:ext cx="5258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假設兩兩符號為彼此獨立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2" name="Object 13"/>
            <p:cNvGraphicFramePr/>
            <p:nvPr/>
          </p:nvGraphicFramePr>
          <p:xfrm>
            <a:off x="766440" y="2309760"/>
            <a:ext cx="7690320" cy="218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3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6440" y="2309760"/>
                      <a:ext cx="7690320" cy="21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4" name="Rectangle 20"/>
            <p:cNvSpPr/>
            <p:nvPr/>
          </p:nvSpPr>
          <p:spPr>
            <a:xfrm>
              <a:off x="228240" y="4927680"/>
              <a:ext cx="853488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　   表一個巨集符號所需的位元長度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19"/>
                <p:cNvSpPr txBox="1"/>
                <p:nvPr/>
              </p:nvSpPr>
              <p:spPr>
                <a:xfrm>
                  <a:off x="899280" y="4581360"/>
                  <a:ext cx="27558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≤</m:t>
                      </m:r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18"/>
                <p:cNvSpPr txBox="1"/>
                <p:nvPr/>
              </p:nvSpPr>
              <p:spPr>
                <a:xfrm>
                  <a:off x="304560" y="4994280"/>
                  <a:ext cx="45720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17"/>
                <p:cNvSpPr txBox="1"/>
                <p:nvPr/>
              </p:nvSpPr>
              <p:spPr>
                <a:xfrm>
                  <a:off x="1136160" y="5521680"/>
                  <a:ext cx="237492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nL</m:t>
                          </m:r>
                          <m:r>
                            <m:t xml:space="preserve">&lt;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n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L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Rectangle 21"/>
            <p:cNvSpPr/>
            <p:nvPr/>
          </p:nvSpPr>
          <p:spPr>
            <a:xfrm>
              <a:off x="228240" y="4526280"/>
              <a:ext cx="3048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推得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2"/>
            <p:cNvSpPr/>
            <p:nvPr/>
          </p:nvSpPr>
          <p:spPr>
            <a:xfrm>
              <a:off x="4267080" y="5618520"/>
              <a:ext cx="43437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趨近於無窮大，則               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3"/>
            <p:cNvSpPr/>
            <p:nvPr/>
          </p:nvSpPr>
          <p:spPr>
            <a:xfrm>
              <a:off x="315720" y="574524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4"/>
            <p:cNvSpPr/>
            <p:nvPr/>
          </p:nvSpPr>
          <p:spPr>
            <a:xfrm>
              <a:off x="3795480" y="566928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25"/>
            <p:cNvSpPr/>
            <p:nvPr/>
          </p:nvSpPr>
          <p:spPr>
            <a:xfrm>
              <a:off x="837720" y="5486760"/>
              <a:ext cx="228600" cy="9144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3" name="Object 15"/>
            <p:cNvGraphicFramePr/>
            <p:nvPr/>
          </p:nvGraphicFramePr>
          <p:xfrm>
            <a:off x="7042320" y="5713560"/>
            <a:ext cx="1030320" cy="333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42320" y="5713560"/>
                      <a:ext cx="1030320" cy="3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83ED-419E-48A3-A6B8-21E752F7DA6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11.3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不失真壓縮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11.3.1 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霍夫曼編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053"/>
          <p:cNvGraphicFramePr/>
          <p:nvPr/>
        </p:nvGraphicFramePr>
        <p:xfrm>
          <a:off x="4038480" y="1828800"/>
          <a:ext cx="5715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10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828800"/>
                    <a:ext cx="5715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群組 15"/>
          <p:cNvGrpSpPr/>
          <p:nvPr/>
        </p:nvGrpSpPr>
        <p:grpSpPr>
          <a:xfrm>
            <a:off x="457200" y="1752480"/>
            <a:ext cx="8229600" cy="4497120"/>
            <a:chOff x="457200" y="1752480"/>
            <a:chExt cx="8229600" cy="4497120"/>
          </a:xfrm>
        </p:grpSpPr>
        <p:sp>
          <p:nvSpPr>
            <p:cNvPr id="230" name="Rectangle 1049"/>
            <p:cNvSpPr/>
            <p:nvPr/>
          </p:nvSpPr>
          <p:spPr>
            <a:xfrm>
              <a:off x="457200" y="175248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5000"/>
                </a:lnSpc>
                <a:spcBef>
                  <a:spcPts val="55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霍夫曼樹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052"/>
            <p:cNvSpPr/>
            <p:nvPr/>
          </p:nvSpPr>
          <p:spPr>
            <a:xfrm>
              <a:off x="539640" y="2204640"/>
              <a:ext cx="4320360" cy="30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符號集　　　　　　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對應頻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ey: 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將頻率最小的二個符號編碼，可建構出圖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3.1.1</a:t>
              </a: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的霍夫曼樹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碼可編成     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新細明體"/>
                </a:rPr>
                <a:t>碼長度為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Object 1051"/>
                <p:cNvSpPr txBox="1"/>
                <p:nvPr/>
              </p:nvSpPr>
              <p:spPr>
                <a:xfrm>
                  <a:off x="1489320" y="2290320"/>
                  <a:ext cx="18687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3" name="Object 1050"/>
                <p:cNvSpPr txBox="1"/>
                <p:nvPr/>
              </p:nvSpPr>
              <p:spPr>
                <a:xfrm>
                  <a:off x="1791000" y="2708640"/>
                  <a:ext cx="22575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t xml:space="preserve">,</m:t>
                          </m:r>
                          <m:r>
                            <m:t xml:space="preserve">5,3,3,2,1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Rectangle 1058"/>
            <p:cNvSpPr/>
            <p:nvPr/>
          </p:nvSpPr>
          <p:spPr>
            <a:xfrm>
              <a:off x="6550560" y="5912280"/>
              <a:ext cx="159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.1.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</a:rPr>
                <a:t>霍夫曼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1065"/>
                <p:cNvSpPr txBox="1"/>
                <p:nvPr/>
              </p:nvSpPr>
              <p:spPr>
                <a:xfrm>
                  <a:off x="1759680" y="3963960"/>
                  <a:ext cx="1486080" cy="42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064"/>
                <p:cNvSpPr txBox="1"/>
                <p:nvPr/>
              </p:nvSpPr>
              <p:spPr>
                <a:xfrm>
                  <a:off x="845280" y="4378680"/>
                  <a:ext cx="404820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0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110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7" name="Object 1063"/>
                <p:cNvSpPr txBox="1"/>
                <p:nvPr/>
              </p:nvSpPr>
              <p:spPr>
                <a:xfrm>
                  <a:off x="899280" y="5301360"/>
                  <a:ext cx="293832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8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2,2,3,3,3,4,5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F9AD-FF05-4CF7-A4A8-768AB433854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85016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範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給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4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灰階影像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請建出霍夫曼樹並寫出灰階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霍夫曼碼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556000" y="2732040"/>
          <a:ext cx="3600360" cy="3167280"/>
        </p:xfrm>
        <a:graphic>
          <a:graphicData uri="http://schemas.openxmlformats.org/drawingml/2006/table">
            <a:tbl>
              <a:tblPr/>
              <a:tblGrid>
                <a:gridCol w="900000"/>
                <a:gridCol w="900000"/>
                <a:gridCol w="900360"/>
                <a:gridCol w="90000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30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6-03T04:14:44Z</dcterms:modified>
  <cp:revision>492</cp:revision>
  <dc:subject/>
  <dc:title>第十一章 影像與視訊壓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