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6.wmf" ContentType="image/x-wmf"/>
  <Override PartName="/ppt/media/image49.jpeg" ContentType="image/jpeg"/>
  <Override PartName="/ppt/media/image48.wmf" ContentType="image/x-wmf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39.wmf" ContentType="image/x-wmf"/>
  <Override PartName="/ppt/media/image35.png" ContentType="image/png"/>
  <Override PartName="/ppt/media/image34.png" ContentType="image/png"/>
  <Override PartName="/ppt/media/image74.jpeg" ContentType="image/jpeg"/>
  <Override PartName="/ppt/media/image30.png" ContentType="image/png"/>
  <Override PartName="/ppt/media/image50.jpeg" ContentType="image/jpeg"/>
  <Override PartName="/ppt/media/image13.wmf" ContentType="image/x-wmf"/>
  <Override PartName="/ppt/media/image28.png" ContentType="image/png"/>
  <Override PartName="/ppt/media/image42.wmf" ContentType="image/x-wmf"/>
  <Override PartName="/ppt/media/image8.png" ContentType="image/png"/>
  <Override PartName="/ppt/media/image17.wmf" ContentType="image/x-wmf"/>
  <Override PartName="/ppt/media/image5.wmf" ContentType="image/x-wmf"/>
  <Override PartName="/ppt/media/image82.wmf" ContentType="image/x-wmf"/>
  <Override PartName="/ppt/media/image12.wmf" ContentType="image/x-wmf"/>
  <Override PartName="/ppt/media/image27.png" ContentType="image/png"/>
  <Override PartName="/ppt/media/image41.wmf" ContentType="image/x-wmf"/>
  <Override PartName="/ppt/media/image7.png" ContentType="image/png"/>
  <Override PartName="/ppt/media/image38.png" ContentType="image/png"/>
  <Override PartName="/ppt/media/image60.wmf" ContentType="image/x-wmf"/>
  <Override PartName="/ppt/media/image16.wmf" ContentType="image/x-wmf"/>
  <Override PartName="/ppt/media/image4.wmf" ContentType="image/x-wmf"/>
  <Override PartName="/ppt/media/image81.wmf" ContentType="image/x-wmf"/>
  <Override PartName="/ppt/media/image22.wmf" ContentType="image/x-wmf"/>
  <Override PartName="/ppt/media/image59.wmf" ContentType="image/x-wmf"/>
  <Override PartName="/ppt/media/image26.png" ContentType="image/png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25.png" ContentType="image/png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31.png" ContentType="image/png"/>
  <Override PartName="/ppt/media/image93.wmf" ContentType="image/x-wmf"/>
  <Override PartName="/ppt/media/image14.wmf" ContentType="image/x-wmf"/>
  <Override PartName="/ppt/media/image92.wmf" ContentType="image/x-wmf"/>
  <Override PartName="/ppt/media/image91.wmf" ContentType="image/x-wmf"/>
  <Override PartName="/ppt/media/image89.wmf" ContentType="image/x-wmf"/>
  <Override PartName="/ppt/media/image77.wmf" ContentType="image/x-wmf"/>
  <Override PartName="/ppt/media/image37.png" ContentType="image/png"/>
  <Override PartName="/ppt/media/image90.wmf" ContentType="image/x-wmf"/>
  <Override PartName="/ppt/media/image88.wmf" ContentType="image/x-wmf"/>
  <Override PartName="/ppt/media/image29.png" ContentType="image/png"/>
  <Override PartName="/ppt/media/image51.wmf" ContentType="image/x-wmf"/>
  <Override PartName="/ppt/media/image76.wmf" ContentType="image/x-wmf"/>
  <Override PartName="/ppt/media/image36.png" ContentType="image/png"/>
  <Override PartName="/ppt/media/image40.wmf" ContentType="image/x-wmf"/>
  <Override PartName="/ppt/media/image6.png" ContentType="image/png"/>
  <Override PartName="/ppt/media/image87.wmf" ContentType="image/x-wmf"/>
  <Override PartName="/ppt/media/image47.png" ContentType="image/png"/>
  <Override PartName="/ppt/media/image75.wmf" ContentType="image/x-wmf"/>
  <Override PartName="/ppt/media/image23.wmf" ContentType="image/x-wmf"/>
  <Override PartName="/ppt/media/image66.png" ContentType="image/png"/>
  <Override PartName="/ppt/media/image86.wmf" ContentType="image/x-wmf"/>
  <Override PartName="/ppt/media/image73.jpeg" ContentType="image/jpeg"/>
  <Override PartName="/ppt/media/image85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83.wmf" ContentType="image/x-wmf"/>
  <Override PartName="/ppt/media/image18.wmf" ContentType="image/x-wmf"/>
  <Override PartName="/ppt/media/image72.jpeg" ContentType="image/jpeg"/>
  <Override PartName="/ppt/media/image2.png" ContentType="image/png"/>
  <Override PartName="/ppt/media/image32.png" ContentType="image/png"/>
  <Override PartName="/ppt/media/image33.wmf" ContentType="image/x-wmf"/>
  <Override PartName="/ppt/media/image10.png" ContentType="image/png"/>
  <Override PartName="/ppt/media/image78.wmf" ContentType="image/x-wmf"/>
  <Override PartName="/ppt/media/image11.png" ContentType="image/png"/>
  <Override PartName="/ppt/media/image79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523D-5708-49A4-B4DB-DFD427F3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6DDF-143A-4C5D-BA7B-A6F7CE5B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E423-BEE8-4F01-A2ED-956483E6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E06A-94CD-4247-A327-7AA3ACF5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0E18-8A69-456C-8381-74AACC18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F77C-D2AA-4F9D-A416-33C7D5B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DDE-F83C-4597-B831-233FC905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945-26D6-4BD9-8044-2ADB5276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DA93-E230-42B5-8B35-0133A041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D1A-26FC-4D09-9B7D-71289C86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62EA-D6CC-412F-A43B-1D3B0D42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64814-E2A1-4BB2-BA06-05AE1B34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5083-013A-4997-9C15-B0737CF3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01CC-3962-4016-B120-44CFD519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73B0-C0E7-4428-8583-2FF65B14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4978-5892-4FB5-9B9E-AA7DC927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CD05-EFF8-40AB-A1B8-F7E6DB44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2D58-F51E-4EAF-87B7-85322EED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8C7B-711F-4285-9B77-0810982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049B-5DD6-4CE3-83B6-79CD6421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89FC-97FD-46B1-98AD-67CC0C47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04A5-8927-4A52-AE5A-4F53C60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0689-E79D-45B5-9F1D-DA791113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7321-6090-4B6B-902E-07C0EBA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966-BD0F-4BB3-B41C-635E2E613C9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B11-A222-4C03-840F-841BDB9FDD4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9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image" Target="../media/image66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3.wmf"/><Relationship Id="rId2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D4BF-6560-4BC4-A39A-A374CF24B08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第二章 </a:t>
            </a:r>
            <a:br>
              <a:rPr sz="4300"/>
            </a:b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影像品質的改善與回復</a:t>
            </a:r>
            <a:r>
              <a:rPr b="0" lang="zh-TW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270D-4BD1-46E2-A880-E9730CF4D2B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中值法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和其電路設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利用排序後的中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去除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雜訊的干擾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中值法常以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×3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、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5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7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的面罩，以迴積的方式完成。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7004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482760" y="2892600"/>
          <a:ext cx="23968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892600"/>
                    <a:ext cx="2396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3073320" y="2892600"/>
          <a:ext cx="239724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3320" y="2892600"/>
                    <a:ext cx="2397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4"/>
          <p:cNvGraphicFramePr/>
          <p:nvPr/>
        </p:nvGraphicFramePr>
        <p:xfrm>
          <a:off x="6315120" y="2892600"/>
          <a:ext cx="2397240" cy="251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15120" y="2892600"/>
                    <a:ext cx="2397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8"/>
          <p:cNvSpPr/>
          <p:nvPr/>
        </p:nvSpPr>
        <p:spPr>
          <a:xfrm>
            <a:off x="959400" y="5511960"/>
            <a:ext cx="11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3.1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一個平滑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不適合的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335760" y="5505480"/>
            <a:ext cx="186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3.1.1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經平滑法作用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中心點後的子影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6250320" y="5505480"/>
            <a:ext cx="19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3.1.2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經中值法作用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中心點後的子影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3762360" y="40356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4064040" y="3425760"/>
            <a:ext cx="380880" cy="609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4158000" y="306864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</a:rPr>
              <a:t>和周圍鄰居之灰階值相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</a:rPr>
              <a:t>　　　　，仍視為雜訊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6997680" y="4035600"/>
            <a:ext cx="6094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 flipV="1">
            <a:off x="7416720" y="3425760"/>
            <a:ext cx="381240" cy="609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7264440" y="3068640"/>
            <a:ext cx="17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</a:rPr>
              <a:t>中值法有效去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新細明體"/>
              </a:rPr>
              <a:t>　       雜訊干擾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5927-A3E6-466B-A0FE-DAE7993940B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39640" y="69228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給一如下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×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子影像，灰階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5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脈衝雜訊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Impulsive Noi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84360" y="155736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請用平滑法及中值法去除雜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哪個方法較佳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132000" y="2708280"/>
          <a:ext cx="2448000" cy="1873080"/>
        </p:xfrm>
        <a:graphic>
          <a:graphicData uri="http://schemas.openxmlformats.org/drawingml/2006/table">
            <a:tbl>
              <a:tblPr/>
              <a:tblGrid>
                <a:gridCol w="613080"/>
                <a:gridCol w="610920"/>
                <a:gridCol w="612720"/>
                <a:gridCol w="611280"/>
              </a:tblGrid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21F-71CC-4CA6-8110-9DDAE5BAEBF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16000" y="620640"/>
            <a:ext cx="48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平滑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8+12+18+12+225+225+15+225+18)/9=8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2+225+225+15+225+18+18+15+12)/9=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2+18+12+225+225+15+225+18+12)/9=8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25+225+15+225+18+12+15+12+18)/9=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11280" y="2997360"/>
          <a:ext cx="1944720" cy="1726920"/>
        </p:xfrm>
        <a:graphic>
          <a:graphicData uri="http://schemas.openxmlformats.org/drawingml/2006/table">
            <a:tbl>
              <a:tblPr/>
              <a:tblGrid>
                <a:gridCol w="485640"/>
                <a:gridCol w="487440"/>
                <a:gridCol w="485640"/>
                <a:gridCol w="486000"/>
              </a:tblGrid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108"/>
          <p:cNvSpPr/>
          <p:nvPr/>
        </p:nvSpPr>
        <p:spPr>
          <a:xfrm>
            <a:off x="5184720" y="1197000"/>
            <a:ext cx="35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中值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, 12, 15, 18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8, 225, 225,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, 12, 15, 15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8, 225, 225,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, 12, 12, 15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8, 225, 225,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, 12, 15, 15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18, 225, 225, 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29080" y="2995560"/>
          <a:ext cx="2016360" cy="1800360"/>
        </p:xfrm>
        <a:graphic>
          <a:graphicData uri="http://schemas.openxmlformats.org/drawingml/2006/table">
            <a:tbl>
              <a:tblPr/>
              <a:tblGrid>
                <a:gridCol w="505080"/>
                <a:gridCol w="503280"/>
                <a:gridCol w="504720"/>
                <a:gridCol w="503280"/>
              </a:tblGrid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 Box 213"/>
          <p:cNvSpPr/>
          <p:nvPr/>
        </p:nvSpPr>
        <p:spPr>
          <a:xfrm>
            <a:off x="216000" y="4941720"/>
            <a:ext cx="84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中值法結果較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使用平滑法的均化效果有限，灰階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很容易被視為雜訊，但中值法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可以將雜訊去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D654-20FC-414A-8E66-A3BFC5CB6B3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70504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onic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數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1338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3"/>
          <p:cNvGrpSpPr/>
          <p:nvPr/>
        </p:nvGrpSpPr>
        <p:grpSpPr>
          <a:xfrm>
            <a:off x="477720" y="2432160"/>
            <a:ext cx="3364920" cy="429120"/>
            <a:chOff x="477720" y="2432160"/>
            <a:chExt cx="3364920" cy="429120"/>
          </a:xfrm>
        </p:grpSpPr>
        <p:graphicFrame>
          <p:nvGraphicFramePr>
            <p:cNvPr id="224" name="Object 17"/>
            <p:cNvGraphicFramePr/>
            <p:nvPr/>
          </p:nvGraphicFramePr>
          <p:xfrm>
            <a:off x="477720" y="2465280"/>
            <a:ext cx="1468440" cy="37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720" y="2465280"/>
                      <a:ext cx="1468440" cy="37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Text Box 7"/>
            <p:cNvSpPr/>
            <p:nvPr/>
          </p:nvSpPr>
          <p:spPr>
            <a:xfrm>
              <a:off x="2090880" y="2432160"/>
              <a:ext cx="175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為一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itonic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數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Object 13"/>
          <p:cNvGraphicFramePr/>
          <p:nvPr/>
        </p:nvGraphicFramePr>
        <p:xfrm>
          <a:off x="582480" y="3379680"/>
          <a:ext cx="16509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2480" y="3379680"/>
                    <a:ext cx="16509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4"/>
          <p:cNvGraphicFramePr/>
          <p:nvPr/>
        </p:nvGraphicFramePr>
        <p:xfrm>
          <a:off x="623880" y="3836880"/>
          <a:ext cx="263700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3880" y="3836880"/>
                    <a:ext cx="26370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5"/>
          <p:cNvGraphicFramePr/>
          <p:nvPr/>
        </p:nvGraphicFramePr>
        <p:xfrm>
          <a:off x="614520" y="4827600"/>
          <a:ext cx="1657080" cy="35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520" y="4827600"/>
                    <a:ext cx="165708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6"/>
          <p:cNvGraphicFramePr/>
          <p:nvPr/>
        </p:nvGraphicFramePr>
        <p:xfrm>
          <a:off x="2365200" y="4827600"/>
          <a:ext cx="1785960" cy="35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5200" y="4827600"/>
                    <a:ext cx="17859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4"/>
          <p:cNvSpPr/>
          <p:nvPr/>
        </p:nvSpPr>
        <p:spPr>
          <a:xfrm>
            <a:off x="514800" y="291312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5536080" y="579132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3.3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中值濾波器網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304920" y="43434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8" descr="Fig02-10"/>
          <p:cNvPicPr/>
          <p:nvPr/>
        </p:nvPicPr>
        <p:blipFill>
          <a:blip r:embed="rId11"/>
          <a:stretch/>
        </p:blipFill>
        <p:spPr>
          <a:xfrm>
            <a:off x="4267080" y="914400"/>
            <a:ext cx="453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投影片編號版面配置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5171-1D42-424C-9A7F-C8EE6509CD5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群組 35"/>
          <p:cNvGrpSpPr/>
          <p:nvPr/>
        </p:nvGrpSpPr>
        <p:grpSpPr>
          <a:xfrm>
            <a:off x="395280" y="692280"/>
            <a:ext cx="7848720" cy="5473440"/>
            <a:chOff x="395280" y="692280"/>
            <a:chExt cx="7848720" cy="5473440"/>
          </a:xfrm>
        </p:grpSpPr>
        <p:sp>
          <p:nvSpPr>
            <p:cNvPr id="241" name="Text Box 4"/>
            <p:cNvSpPr/>
            <p:nvPr/>
          </p:nvSpPr>
          <p:spPr>
            <a:xfrm>
              <a:off x="395280" y="692280"/>
              <a:ext cx="7848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範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：針對圖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3.3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的中值濾波器網路設計，可否給一個示意圖以便更明白其設計的原理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解答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當完成圖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3.3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中的第一階段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tage 1)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後，編號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~7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的八筆資料會變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5" descr=""/>
            <p:cNvPicPr/>
            <p:nvPr/>
          </p:nvPicPr>
          <p:blipFill>
            <a:blip r:embed="rId1"/>
            <a:stretch/>
          </p:blipFill>
          <p:spPr>
            <a:xfrm>
              <a:off x="2050920" y="2544480"/>
              <a:ext cx="1228680" cy="4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1" descr=""/>
            <p:cNvPicPr/>
            <p:nvPr/>
          </p:nvPicPr>
          <p:blipFill>
            <a:blip r:embed="rId2"/>
            <a:stretch/>
          </p:blipFill>
          <p:spPr>
            <a:xfrm>
              <a:off x="3708360" y="2616120"/>
              <a:ext cx="1228680" cy="4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36" descr=""/>
            <p:cNvPicPr/>
            <p:nvPr/>
          </p:nvPicPr>
          <p:blipFill>
            <a:blip r:embed="rId3"/>
            <a:stretch/>
          </p:blipFill>
          <p:spPr>
            <a:xfrm rot="713400">
              <a:off x="2700000" y="5281560"/>
              <a:ext cx="485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7"/>
            <p:cNvSpPr/>
            <p:nvPr/>
          </p:nvSpPr>
          <p:spPr>
            <a:xfrm>
              <a:off x="2268360" y="232884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8"/>
            <p:cNvSpPr/>
            <p:nvPr/>
          </p:nvSpPr>
          <p:spPr>
            <a:xfrm>
              <a:off x="1834920" y="283212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9"/>
            <p:cNvSpPr/>
            <p:nvPr/>
          </p:nvSpPr>
          <p:spPr>
            <a:xfrm>
              <a:off x="2843280" y="232884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0"/>
            <p:cNvSpPr/>
            <p:nvPr/>
          </p:nvSpPr>
          <p:spPr>
            <a:xfrm>
              <a:off x="3132000" y="290484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3924360" y="240012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5"/>
            <p:cNvSpPr/>
            <p:nvPr/>
          </p:nvSpPr>
          <p:spPr>
            <a:xfrm>
              <a:off x="4500720" y="240012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6"/>
            <p:cNvSpPr/>
            <p:nvPr/>
          </p:nvSpPr>
          <p:spPr>
            <a:xfrm>
              <a:off x="3492360" y="290484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7"/>
            <p:cNvSpPr/>
            <p:nvPr/>
          </p:nvSpPr>
          <p:spPr>
            <a:xfrm>
              <a:off x="4859280" y="2904840"/>
              <a:ext cx="3045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8"/>
            <p:cNvSpPr/>
            <p:nvPr/>
          </p:nvSpPr>
          <p:spPr>
            <a:xfrm>
              <a:off x="683280" y="3192480"/>
              <a:ext cx="73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完成第二階段的第一步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tep 1)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後，根據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tonic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數列的特性，這八筆資料會變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19"/>
            <p:cNvGrpSpPr/>
            <p:nvPr/>
          </p:nvGrpSpPr>
          <p:grpSpPr>
            <a:xfrm>
              <a:off x="2411280" y="3984480"/>
              <a:ext cx="1009440" cy="444240"/>
              <a:chOff x="2411280" y="3984480"/>
              <a:chExt cx="1009440" cy="444240"/>
            </a:xfrm>
          </p:grpSpPr>
          <p:pic>
            <p:nvPicPr>
              <p:cNvPr id="255" name="Picture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2630160" y="3984480"/>
                <a:ext cx="61920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 Box 21"/>
              <p:cNvSpPr/>
              <p:nvPr/>
            </p:nvSpPr>
            <p:spPr>
              <a:xfrm>
                <a:off x="2411280" y="406692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大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22"/>
              <p:cNvSpPr/>
              <p:nvPr/>
            </p:nvSpPr>
            <p:spPr>
              <a:xfrm>
                <a:off x="3116160" y="405720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大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23"/>
            <p:cNvGrpSpPr/>
            <p:nvPr/>
          </p:nvGrpSpPr>
          <p:grpSpPr>
            <a:xfrm>
              <a:off x="3492360" y="3984480"/>
              <a:ext cx="1009440" cy="444240"/>
              <a:chOff x="3492360" y="3984480"/>
              <a:chExt cx="1009440" cy="444240"/>
            </a:xfrm>
          </p:grpSpPr>
          <p:pic>
            <p:nvPicPr>
              <p:cNvPr id="259" name="Picture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3711240" y="3984480"/>
                <a:ext cx="61920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5"/>
              <p:cNvSpPr/>
              <p:nvPr/>
            </p:nvSpPr>
            <p:spPr>
              <a:xfrm>
                <a:off x="3492360" y="406692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大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26"/>
              <p:cNvSpPr/>
              <p:nvPr/>
            </p:nvSpPr>
            <p:spPr>
              <a:xfrm>
                <a:off x="4197240" y="405720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大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27"/>
            <p:cNvGrpSpPr/>
            <p:nvPr/>
          </p:nvGrpSpPr>
          <p:grpSpPr>
            <a:xfrm>
              <a:off x="1908000" y="4344840"/>
              <a:ext cx="990360" cy="482400"/>
              <a:chOff x="1908000" y="4344840"/>
              <a:chExt cx="990360" cy="482400"/>
            </a:xfrm>
          </p:grpSpPr>
          <p:pic>
            <p:nvPicPr>
              <p:cNvPr id="263" name="Picture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136600" y="4344840"/>
                <a:ext cx="61884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29"/>
              <p:cNvSpPr/>
              <p:nvPr/>
            </p:nvSpPr>
            <p:spPr>
              <a:xfrm>
                <a:off x="1908000" y="446544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30"/>
              <p:cNvSpPr/>
              <p:nvPr/>
            </p:nvSpPr>
            <p:spPr>
              <a:xfrm>
                <a:off x="2593800" y="446544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1"/>
            <p:cNvGrpSpPr/>
            <p:nvPr/>
          </p:nvGrpSpPr>
          <p:grpSpPr>
            <a:xfrm>
              <a:off x="3995640" y="4344840"/>
              <a:ext cx="990360" cy="482400"/>
              <a:chOff x="3995640" y="4344840"/>
              <a:chExt cx="990360" cy="482400"/>
            </a:xfrm>
          </p:grpSpPr>
          <p:pic>
            <p:nvPicPr>
              <p:cNvPr id="267" name="Picture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4224240" y="4344840"/>
                <a:ext cx="618840" cy="2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33"/>
              <p:cNvSpPr/>
              <p:nvPr/>
            </p:nvSpPr>
            <p:spPr>
              <a:xfrm>
                <a:off x="3995640" y="446544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34"/>
              <p:cNvSpPr/>
              <p:nvPr/>
            </p:nvSpPr>
            <p:spPr>
              <a:xfrm>
                <a:off x="4681440" y="4465440"/>
                <a:ext cx="30456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755280" y="4862880"/>
              <a:ext cx="52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完成第二階段的第二步後，八筆資料會變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39" descr=""/>
            <p:cNvPicPr/>
            <p:nvPr/>
          </p:nvPicPr>
          <p:blipFill>
            <a:blip r:embed="rId8"/>
            <a:stretch/>
          </p:blipFill>
          <p:spPr>
            <a:xfrm rot="713400">
              <a:off x="2123640" y="5640480"/>
              <a:ext cx="4856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2" descr=""/>
            <p:cNvPicPr/>
            <p:nvPr/>
          </p:nvPicPr>
          <p:blipFill>
            <a:blip r:embed="rId9"/>
            <a:stretch/>
          </p:blipFill>
          <p:spPr>
            <a:xfrm rot="20935200">
              <a:off x="3850920" y="5281560"/>
              <a:ext cx="4572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43" descr=""/>
            <p:cNvPicPr/>
            <p:nvPr/>
          </p:nvPicPr>
          <p:blipFill>
            <a:blip r:embed="rId10"/>
            <a:stretch/>
          </p:blipFill>
          <p:spPr>
            <a:xfrm rot="20935200">
              <a:off x="4427280" y="5640480"/>
              <a:ext cx="457200" cy="48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投影片編號版面配置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17DD-2377-46B4-9D07-A83B6BD1DE5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684360" y="69228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以上資料愈在高處的值越大。完成下一步後，八筆資料會變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618840" cy="266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619200" cy="266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3"/>
          <a:stretch/>
        </p:blipFill>
        <p:spPr>
          <a:xfrm>
            <a:off x="3780000" y="1197000"/>
            <a:ext cx="618840" cy="266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"/>
          <p:cNvPicPr/>
          <p:nvPr/>
        </p:nvPicPr>
        <p:blipFill>
          <a:blip r:embed="rId4"/>
          <a:stretch/>
        </p:blipFill>
        <p:spPr>
          <a:xfrm>
            <a:off x="3419640" y="1484280"/>
            <a:ext cx="618840" cy="2667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7"/>
          <p:cNvSpPr/>
          <p:nvPr/>
        </p:nvSpPr>
        <p:spPr>
          <a:xfrm>
            <a:off x="755640" y="2421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當完成第三階段的最後一步後，八筆資料會變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55640" y="4365720"/>
            <a:ext cx="71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此時，輸入的前八筆資料已排序好。我們留下中間的兩段資料和編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資料再經過二次比較就得到中間的值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9" descr=""/>
          <p:cNvPicPr/>
          <p:nvPr/>
        </p:nvPicPr>
        <p:blipFill>
          <a:blip r:embed="rId5"/>
          <a:stretch/>
        </p:blipFill>
        <p:spPr>
          <a:xfrm rot="682200">
            <a:off x="3058920" y="3429000"/>
            <a:ext cx="48564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0" descr=""/>
          <p:cNvPicPr/>
          <p:nvPr/>
        </p:nvPicPr>
        <p:blipFill>
          <a:blip r:embed="rId6"/>
          <a:stretch/>
        </p:blipFill>
        <p:spPr>
          <a:xfrm rot="682200">
            <a:off x="3995280" y="2781000"/>
            <a:ext cx="486000" cy="457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7"/>
          <a:stretch/>
        </p:blipFill>
        <p:spPr>
          <a:xfrm rot="682200">
            <a:off x="3563640" y="3068640"/>
            <a:ext cx="485640" cy="4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2" descr=""/>
          <p:cNvPicPr/>
          <p:nvPr/>
        </p:nvPicPr>
        <p:blipFill>
          <a:blip r:embed="rId8"/>
          <a:stretch/>
        </p:blipFill>
        <p:spPr>
          <a:xfrm rot="682200">
            <a:off x="2555640" y="3789360"/>
            <a:ext cx="485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8AD7-CB7E-478A-9B97-B392FDCFCC1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228600" y="71280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以本小節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中的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×3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子影像為例，依照列優先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 Major)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的掃瞄次序，我們將得的數列安放在圖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3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中的中值濾波器之輸入端，請列出各步驟執行完後的模擬結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答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：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所得到的反應值為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481680" y="61657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Fig02-09"/>
          <p:cNvPicPr/>
          <p:nvPr/>
        </p:nvPicPr>
        <p:blipFill>
          <a:blip r:embed="rId1"/>
          <a:stretch/>
        </p:blipFill>
        <p:spPr>
          <a:xfrm>
            <a:off x="971640" y="2637000"/>
            <a:ext cx="3848040" cy="36367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4859280" y="3141720"/>
            <a:ext cx="34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上述的中值濾波器兼具平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arallel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和管道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ipelined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C19A-C00B-4514-AEB1-00787AC7AC5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7716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noise"/>
          <p:cNvPicPr/>
          <p:nvPr/>
        </p:nvPicPr>
        <p:blipFill>
          <a:blip r:embed="rId1"/>
          <a:stretch/>
        </p:blipFill>
        <p:spPr>
          <a:xfrm>
            <a:off x="380880" y="1752480"/>
            <a:ext cx="312444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4" name="Rectangle 5"/>
          <p:cNvSpPr/>
          <p:nvPr/>
        </p:nvSpPr>
        <p:spPr>
          <a:xfrm>
            <a:off x="2614680" y="14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smoothing"/>
          <p:cNvPicPr/>
          <p:nvPr/>
        </p:nvPicPr>
        <p:blipFill>
          <a:blip r:embed="rId2"/>
          <a:stretch/>
        </p:blipFill>
        <p:spPr>
          <a:xfrm>
            <a:off x="5292720" y="304920"/>
            <a:ext cx="3200400" cy="3124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29862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median"/>
          <p:cNvPicPr/>
          <p:nvPr/>
        </p:nvPicPr>
        <p:blipFill>
          <a:blip r:embed="rId3"/>
          <a:stretch/>
        </p:blipFill>
        <p:spPr>
          <a:xfrm>
            <a:off x="5321160" y="3505320"/>
            <a:ext cx="3171960" cy="31716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8"/>
          <p:cNvSpPr/>
          <p:nvPr/>
        </p:nvSpPr>
        <p:spPr>
          <a:xfrm>
            <a:off x="1141200" y="498960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1.1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受雜訊干擾的影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 flipV="1">
            <a:off x="3505320" y="220968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>
            <a:off x="3505320" y="335268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29862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3849120" y="167652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2.3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1.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平滑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的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3855600" y="419112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3.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1.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中值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的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8DC-1672-483F-B578-F2A1F34B64C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39640" y="765000"/>
            <a:ext cx="7920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ndyga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快速雜訊去除法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：植基於波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波谷的觀念。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min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故進行下面波谷運算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7"/>
          <p:cNvGraphicFramePr/>
          <p:nvPr/>
        </p:nvGraphicFramePr>
        <p:xfrm>
          <a:off x="3419640" y="5516640"/>
          <a:ext cx="237636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5516640"/>
                    <a:ext cx="23763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群組 29"/>
          <p:cNvGrpSpPr/>
          <p:nvPr/>
        </p:nvGrpSpPr>
        <p:grpSpPr>
          <a:xfrm>
            <a:off x="2554200" y="2205000"/>
            <a:ext cx="4178520" cy="3240000"/>
            <a:chOff x="2554200" y="2205000"/>
            <a:chExt cx="4178520" cy="3240000"/>
          </a:xfrm>
        </p:grpSpPr>
        <p:pic>
          <p:nvPicPr>
            <p:cNvPr id="314" name="Picture 9" descr=""/>
            <p:cNvPicPr/>
            <p:nvPr/>
          </p:nvPicPr>
          <p:blipFill>
            <a:blip r:embed="rId3"/>
            <a:stretch/>
          </p:blipFill>
          <p:spPr>
            <a:xfrm>
              <a:off x="2554200" y="2396520"/>
              <a:ext cx="4178520" cy="24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26"/>
            <p:cNvSpPr/>
            <p:nvPr/>
          </p:nvSpPr>
          <p:spPr>
            <a:xfrm>
              <a:off x="2823840" y="2936160"/>
              <a:ext cx="900360" cy="8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9"/>
            <p:cNvSpPr/>
            <p:nvPr/>
          </p:nvSpPr>
          <p:spPr>
            <a:xfrm>
              <a:off x="3789000" y="3324960"/>
              <a:ext cx="79416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32"/>
            <p:cNvSpPr/>
            <p:nvPr/>
          </p:nvSpPr>
          <p:spPr>
            <a:xfrm>
              <a:off x="4684680" y="2205000"/>
              <a:ext cx="79416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35"/>
            <p:cNvSpPr/>
            <p:nvPr/>
          </p:nvSpPr>
          <p:spPr>
            <a:xfrm>
              <a:off x="5687640" y="2626920"/>
              <a:ext cx="79416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38"/>
            <p:cNvSpPr/>
            <p:nvPr/>
          </p:nvSpPr>
          <p:spPr>
            <a:xfrm>
              <a:off x="2888640" y="4737600"/>
              <a:ext cx="79416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39"/>
            <p:cNvSpPr/>
            <p:nvPr/>
          </p:nvSpPr>
          <p:spPr>
            <a:xfrm>
              <a:off x="3640680" y="4737600"/>
              <a:ext cx="113184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40"/>
            <p:cNvSpPr/>
            <p:nvPr/>
          </p:nvSpPr>
          <p:spPr>
            <a:xfrm>
              <a:off x="4597920" y="4737600"/>
              <a:ext cx="113184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1"/>
            <p:cNvSpPr/>
            <p:nvPr/>
          </p:nvSpPr>
          <p:spPr>
            <a:xfrm>
              <a:off x="5517360" y="4737600"/>
              <a:ext cx="113184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0D9C-73AB-4C97-85F2-68EA94778B4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611280" y="723960"/>
            <a:ext cx="676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接下來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ax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故進行下面波峰運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5"/>
              <p:cNvSpPr txBox="1"/>
              <p:nvPr/>
            </p:nvSpPr>
            <p:spPr>
              <a:xfrm>
                <a:off x="3132000" y="1268280"/>
                <a:ext cx="20145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Rectangle 1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9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3853080" cy="26370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2"/>
          <p:cNvSpPr/>
          <p:nvPr/>
        </p:nvSpPr>
        <p:spPr>
          <a:xfrm>
            <a:off x="2700360" y="4362480"/>
            <a:ext cx="309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.4 Windyg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雜訊去除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3"/>
          <p:cNvSpPr/>
          <p:nvPr/>
        </p:nvSpPr>
        <p:spPr>
          <a:xfrm>
            <a:off x="611280" y="501336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上面所述雖是針對一維的情形，讀者不難將其擴充至二維的影像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參見作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D8B0-9A33-41A6-9577-7908EEB3CD0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內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6172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平滑法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和統計上的意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3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中值法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和其電路設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中央加權中值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柱狀圖等化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模糊中值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頻率域濾波器設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.8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韋納濾波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C0A9-08F3-4387-806C-3C3E08C457D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019920" y="1557360"/>
            <a:ext cx="2771640" cy="29876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6259680" y="4581360"/>
            <a:ext cx="23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yg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法去雜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223920" y="1557360"/>
            <a:ext cx="2781360" cy="2987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2772000" cy="29876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8"/>
          <p:cNvSpPr/>
          <p:nvPr/>
        </p:nvSpPr>
        <p:spPr>
          <a:xfrm>
            <a:off x="689760" y="4580640"/>
            <a:ext cx="16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原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影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3516120" y="458136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加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脈衝雜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2EA0-4313-4A5F-B9FE-87966EDF3D9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4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中央加權中值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去雜訊外，保留細紋理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將中間的值複製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次，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利用新的中值取代中心點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群組 17"/>
          <p:cNvGrpSpPr/>
          <p:nvPr/>
        </p:nvGrpSpPr>
        <p:grpSpPr>
          <a:xfrm>
            <a:off x="816120" y="2924280"/>
            <a:ext cx="7733160" cy="3352680"/>
            <a:chOff x="816120" y="2924280"/>
            <a:chExt cx="7733160" cy="3352680"/>
          </a:xfrm>
        </p:grpSpPr>
        <p:grpSp>
          <p:nvGrpSpPr>
            <p:cNvPr id="343" name="群組 16"/>
            <p:cNvGrpSpPr/>
            <p:nvPr/>
          </p:nvGrpSpPr>
          <p:grpSpPr>
            <a:xfrm>
              <a:off x="816120" y="3610080"/>
              <a:ext cx="1523880" cy="1928160"/>
              <a:chOff x="816120" y="3610080"/>
              <a:chExt cx="1523880" cy="1928160"/>
            </a:xfrm>
          </p:grpSpPr>
          <p:graphicFrame>
            <p:nvGraphicFramePr>
              <p:cNvPr id="344" name="Object 4"/>
              <p:cNvGraphicFramePr/>
              <p:nvPr/>
            </p:nvGraphicFramePr>
            <p:xfrm>
              <a:off x="816120" y="3610080"/>
              <a:ext cx="1523880" cy="1524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45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16120" y="3610080"/>
                        <a:ext cx="1523880" cy="152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6" name="Text Box 5"/>
              <p:cNvSpPr/>
              <p:nvPr/>
            </p:nvSpPr>
            <p:spPr>
              <a:xfrm>
                <a:off x="866520" y="5200920"/>
                <a:ext cx="14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2.4.2  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例子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47" name="Object 6"/>
            <p:cNvGraphicFramePr/>
            <p:nvPr/>
          </p:nvGraphicFramePr>
          <p:xfrm>
            <a:off x="3276720" y="2924280"/>
            <a:ext cx="1523880" cy="15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76720" y="2924280"/>
                      <a:ext cx="152388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Object 7"/>
            <p:cNvGraphicFramePr/>
            <p:nvPr/>
          </p:nvGraphicFramePr>
          <p:xfrm>
            <a:off x="3276720" y="4753080"/>
            <a:ext cx="1523880" cy="1523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753080"/>
                      <a:ext cx="152388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Text Box 8"/>
            <p:cNvSpPr/>
            <p:nvPr/>
          </p:nvSpPr>
          <p:spPr>
            <a:xfrm>
              <a:off x="4951440" y="4854600"/>
              <a:ext cx="359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2,2,2,3,3,</a:t>
              </a:r>
              <a:r>
                <a:rPr b="0" lang="zh-TW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00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100,100,100,100,100,100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9"/>
            <p:cNvSpPr/>
            <p:nvPr/>
          </p:nvSpPr>
          <p:spPr>
            <a:xfrm>
              <a:off x="4955040" y="3039840"/>
              <a:ext cx="251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, 2, 2, </a:t>
              </a:r>
              <a:r>
                <a:rPr b="0" lang="zh-TW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3, 100, 100, 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3737160" y="3381480"/>
              <a:ext cx="60948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 flipV="1">
              <a:off x="4343760" y="3381480"/>
              <a:ext cx="16761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3733920" y="5210280"/>
              <a:ext cx="60948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3"/>
            <p:cNvSpPr/>
            <p:nvPr/>
          </p:nvSpPr>
          <p:spPr>
            <a:xfrm flipV="1">
              <a:off x="4340520" y="5133960"/>
              <a:ext cx="190800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4"/>
            <p:cNvSpPr/>
            <p:nvPr/>
          </p:nvSpPr>
          <p:spPr>
            <a:xfrm>
              <a:off x="5449680" y="3595680"/>
              <a:ext cx="145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2.4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中值法造成線段的中斷</a:t>
              </a:r>
              <a:r>
                <a:rPr b="0" lang="zh-TW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>
              <a:off x="5400000" y="5424480"/>
              <a:ext cx="188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2.4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中央加權中值法，若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5</a:t>
              </a:r>
              <a:r>
                <a:rPr b="0" lang="en-US" sz="1600" spc="-1" strike="noStrike">
                  <a:solidFill>
                    <a:srgbClr val="000000"/>
                  </a:solidFill>
                  <a:latin typeface="新細明體"/>
                </a:rPr>
                <a:t>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線段不會中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CE4E-4FE0-4CB1-AEA2-845887F1A6A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1759320" y="974880"/>
            <a:ext cx="542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給一個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子影像，若利用中央加權中值法去除雜訊，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問子影像中的中央像素需要重覆幾次後，能避免一條斜線被破壞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答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3492360" y="2637000"/>
                <a:ext cx="20574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&gt;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m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Text Box 5"/>
          <p:cNvSpPr/>
          <p:nvPr/>
        </p:nvSpPr>
        <p:spPr>
          <a:xfrm>
            <a:off x="395280" y="3933720"/>
            <a:ext cx="84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得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6</a:t>
            </a:r>
            <a:r>
              <a:rPr b="0" lang="en-US" sz="22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626040" y="47242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0E6C-FFAF-4774-B996-A5575C4E28B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群組 19"/>
          <p:cNvGrpSpPr/>
          <p:nvPr/>
        </p:nvGrpSpPr>
        <p:grpSpPr>
          <a:xfrm>
            <a:off x="539640" y="765000"/>
            <a:ext cx="7488360" cy="1783800"/>
            <a:chOff x="539640" y="765000"/>
            <a:chExt cx="7488360" cy="1783800"/>
          </a:xfrm>
        </p:grpSpPr>
        <p:sp>
          <p:nvSpPr>
            <p:cNvPr id="366" name="Text Box 5"/>
            <p:cNvSpPr/>
            <p:nvPr/>
          </p:nvSpPr>
          <p:spPr>
            <a:xfrm>
              <a:off x="539640" y="765000"/>
              <a:ext cx="748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範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：若將範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中的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×5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改成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7×7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，則中央像素需要重複幾次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解答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67" name="Object 6"/>
            <p:cNvGraphicFramePr/>
            <p:nvPr/>
          </p:nvGraphicFramePr>
          <p:xfrm>
            <a:off x="3348000" y="1311120"/>
            <a:ext cx="1958760" cy="455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1311120"/>
                      <a:ext cx="1958760" cy="4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Text Box 8"/>
            <p:cNvSpPr/>
            <p:nvPr/>
          </p:nvSpPr>
          <p:spPr>
            <a:xfrm>
              <a:off x="1259280" y="1845000"/>
              <a:ext cx="554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可得到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36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，所以中央像素需被重複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次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2843280" y="4581360"/>
          <a:ext cx="3241440" cy="1800360"/>
        </p:xfrm>
        <a:graphic>
          <a:graphicData uri="http://schemas.openxmlformats.org/drawingml/2006/table">
            <a:tbl>
              <a:tblPr/>
              <a:tblGrid>
                <a:gridCol w="568080"/>
                <a:gridCol w="1162080"/>
                <a:gridCol w="1511280"/>
              </a:tblGrid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(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)</a:t>
                      </a:r>
                      <a:r>
                        <a:rPr b="1" lang="en-US" sz="16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1" name="群組 20"/>
          <p:cNvGrpSpPr/>
          <p:nvPr/>
        </p:nvGrpSpPr>
        <p:grpSpPr>
          <a:xfrm>
            <a:off x="539640" y="2708280"/>
            <a:ext cx="7777440" cy="3711960"/>
            <a:chOff x="539640" y="2708280"/>
            <a:chExt cx="7777440" cy="3711960"/>
          </a:xfrm>
        </p:grpSpPr>
        <p:sp>
          <p:nvSpPr>
            <p:cNvPr id="372" name="Text Box 9"/>
            <p:cNvSpPr/>
            <p:nvPr/>
          </p:nvSpPr>
          <p:spPr>
            <a:xfrm>
              <a:off x="539640" y="2708280"/>
              <a:ext cx="777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範例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：給一個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k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的子影像，如何決定中央加權中值法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值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解答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3" name="Object 10"/>
            <p:cNvGraphicFramePr/>
            <p:nvPr/>
          </p:nvGraphicFramePr>
          <p:xfrm>
            <a:off x="3203640" y="3284280"/>
            <a:ext cx="1873440" cy="32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3640" y="3284280"/>
                      <a:ext cx="187344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Text Box 12"/>
            <p:cNvSpPr/>
            <p:nvPr/>
          </p:nvSpPr>
          <p:spPr>
            <a:xfrm>
              <a:off x="1258560" y="371628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可推得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Object 13"/>
                <p:cNvSpPr txBox="1"/>
                <p:nvPr/>
              </p:nvSpPr>
              <p:spPr>
                <a:xfrm>
                  <a:off x="2124000" y="3789360"/>
                  <a:ext cx="158436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&gt;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Text Box 15"/>
            <p:cNvSpPr/>
            <p:nvPr/>
          </p:nvSpPr>
          <p:spPr>
            <a:xfrm>
              <a:off x="1258560" y="4149720"/>
              <a:ext cx="30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也就是最小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值可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Object 16"/>
                <p:cNvSpPr txBox="1"/>
                <p:nvPr/>
              </p:nvSpPr>
              <p:spPr>
                <a:xfrm>
                  <a:off x="3924000" y="4149000"/>
                  <a:ext cx="10080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Text Box 18"/>
            <p:cNvSpPr/>
            <p:nvPr/>
          </p:nvSpPr>
          <p:spPr>
            <a:xfrm>
              <a:off x="5004360" y="4149000"/>
              <a:ext cx="316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。下面的表格可當作自動選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9"/>
            <p:cNvSpPr/>
            <p:nvPr/>
          </p:nvSpPr>
          <p:spPr>
            <a:xfrm>
              <a:off x="1258560" y="4581360"/>
              <a:ext cx="23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2000" spc="-1" strike="noStrike">
                  <a:solidFill>
                    <a:srgbClr val="000000"/>
                  </a:solidFill>
                  <a:latin typeface="Times New Roman"/>
                </a:rPr>
                <a:t>Ｗ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值之用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6"/>
            <p:cNvSpPr/>
            <p:nvPr/>
          </p:nvSpPr>
          <p:spPr>
            <a:xfrm>
              <a:off x="611280" y="60213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解答完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0564-54F5-4E5A-9C21-6C316CC760D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5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柱狀圖等化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灰階分佈太集中於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]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區之間。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找出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使得分佈能轉成均勻分佈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4"/>
          <p:cNvGraphicFramePr/>
          <p:nvPr/>
        </p:nvGraphicFramePr>
        <p:xfrm>
          <a:off x="4629240" y="1828800"/>
          <a:ext cx="433044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9240" y="1828800"/>
                    <a:ext cx="433044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4440" y="1828800"/>
          <a:ext cx="4190760" cy="30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1828800"/>
                    <a:ext cx="419076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Text Box 8"/>
          <p:cNvSpPr/>
          <p:nvPr/>
        </p:nvSpPr>
        <p:spPr>
          <a:xfrm>
            <a:off x="1565640" y="492120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5.1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灰階分布柱狀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5756760" y="489888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5.2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均勻分布柱狀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FFF2-A215-46D2-B084-2ECC6909B15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群組 17"/>
          <p:cNvGrpSpPr/>
          <p:nvPr/>
        </p:nvGrpSpPr>
        <p:grpSpPr>
          <a:xfrm>
            <a:off x="380880" y="806400"/>
            <a:ext cx="7696080" cy="4977000"/>
            <a:chOff x="380880" y="806400"/>
            <a:chExt cx="7696080" cy="4977000"/>
          </a:xfrm>
        </p:grpSpPr>
        <mc:AlternateContent>
          <mc:Choice xmlns:a14="http://schemas.microsoft.com/office/drawing/2010/main" Requires="a14">
            <p:sp>
              <p:nvSpPr>
                <p:cNvPr id="393" name="Object 2"/>
                <p:cNvSpPr txBox="1"/>
                <p:nvPr/>
              </p:nvSpPr>
              <p:spPr>
                <a:xfrm>
                  <a:off x="3315960" y="806400"/>
                  <a:ext cx="215244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G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Object 3"/>
                <p:cNvSpPr txBox="1"/>
                <p:nvPr/>
              </p:nvSpPr>
              <p:spPr>
                <a:xfrm>
                  <a:off x="4724280" y="1694520"/>
                  <a:ext cx="253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Object 4"/>
                <p:cNvSpPr txBox="1"/>
                <p:nvPr/>
              </p:nvSpPr>
              <p:spPr>
                <a:xfrm>
                  <a:off x="5333760" y="1542240"/>
                  <a:ext cx="91440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5"/>
                <p:cNvSpPr txBox="1"/>
                <p:nvPr/>
              </p:nvSpPr>
              <p:spPr>
                <a:xfrm>
                  <a:off x="6400800" y="1694520"/>
                  <a:ext cx="4572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6"/>
                <p:cNvSpPr txBox="1"/>
                <p:nvPr/>
              </p:nvSpPr>
              <p:spPr>
                <a:xfrm>
                  <a:off x="3276360" y="2761560"/>
                  <a:ext cx="480060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8" name="Object 7"/>
                <p:cNvSpPr txBox="1"/>
                <p:nvPr/>
              </p:nvSpPr>
              <p:spPr>
                <a:xfrm>
                  <a:off x="2285640" y="3599640"/>
                  <a:ext cx="380988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s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8"/>
                <p:cNvSpPr txBox="1"/>
                <p:nvPr/>
              </p:nvSpPr>
              <p:spPr>
                <a:xfrm>
                  <a:off x="2835000" y="4361760"/>
                  <a:ext cx="29559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  <m:sup>
                          <m:r>
                            <m:t xml:space="preserve">P</m:t>
                          </m:r>
                        </m:sup>
                        <m:e>
                          <m:r>
                            <m:t xml:space="preserve">H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00" name="Text Box 13"/>
            <p:cNvSpPr/>
            <p:nvPr/>
          </p:nvSpPr>
          <p:spPr>
            <a:xfrm>
              <a:off x="967680" y="959400"/>
              <a:ext cx="185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離散頻率總和不變原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4"/>
            <p:cNvSpPr/>
            <p:nvPr/>
          </p:nvSpPr>
          <p:spPr>
            <a:xfrm>
              <a:off x="2073960" y="1694520"/>
              <a:ext cx="5079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為均勻分佈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其各個的機率值　 為             ，　 表影像的大小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380880" y="2990160"/>
              <a:ext cx="1846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6"/>
            <p:cNvSpPr/>
            <p:nvPr/>
          </p:nvSpPr>
          <p:spPr>
            <a:xfrm>
              <a:off x="1518840" y="2304360"/>
              <a:ext cx="2351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找出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使得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(p)=q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關係可被確定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7"/>
            <p:cNvSpPr/>
            <p:nvPr/>
          </p:nvSpPr>
          <p:spPr>
            <a:xfrm>
              <a:off x="380880" y="3752280"/>
              <a:ext cx="1846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380880" y="4514400"/>
              <a:ext cx="1846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9"/>
            <p:cNvSpPr/>
            <p:nvPr/>
          </p:nvSpPr>
          <p:spPr>
            <a:xfrm>
              <a:off x="380880" y="5352480"/>
              <a:ext cx="1846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6"/>
          <p:cNvSpPr/>
          <p:nvPr/>
        </p:nvSpPr>
        <p:spPr>
          <a:xfrm>
            <a:off x="6553080" y="6211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0D14-BE99-4FF4-A55A-0201C496897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群組 20"/>
          <p:cNvGrpSpPr/>
          <p:nvPr/>
        </p:nvGrpSpPr>
        <p:grpSpPr>
          <a:xfrm>
            <a:off x="684360" y="1052640"/>
            <a:ext cx="6983280" cy="5223240"/>
            <a:chOff x="684360" y="1052640"/>
            <a:chExt cx="6983280" cy="5223240"/>
          </a:xfrm>
        </p:grpSpPr>
        <p:sp>
          <p:nvSpPr>
            <p:cNvPr id="409" name="Text Box 7"/>
            <p:cNvSpPr/>
            <p:nvPr/>
          </p:nvSpPr>
          <p:spPr>
            <a:xfrm>
              <a:off x="684360" y="1052640"/>
              <a:ext cx="64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下面的示意圖很適合用來解釋上面這個等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0" name="Object 19"/>
                <p:cNvSpPr txBox="1"/>
                <p:nvPr/>
              </p:nvSpPr>
              <p:spPr>
                <a:xfrm>
                  <a:off x="2123640" y="4509000"/>
                  <a:ext cx="936000" cy="82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q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11" name="群組 51"/>
            <p:cNvGrpSpPr/>
            <p:nvPr/>
          </p:nvGrpSpPr>
          <p:grpSpPr>
            <a:xfrm>
              <a:off x="1044000" y="1647360"/>
              <a:ext cx="6623640" cy="2573640"/>
              <a:chOff x="1044000" y="1647360"/>
              <a:chExt cx="6623640" cy="2573640"/>
            </a:xfrm>
          </p:grpSpPr>
          <p:pic>
            <p:nvPicPr>
              <p:cNvPr id="412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4931640" y="2520000"/>
                <a:ext cx="747720" cy="39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3" name="Group 8"/>
              <p:cNvGrpSpPr/>
              <p:nvPr/>
            </p:nvGrpSpPr>
            <p:grpSpPr>
              <a:xfrm>
                <a:off x="1558440" y="1647360"/>
                <a:ext cx="2360880" cy="2498040"/>
                <a:chOff x="1558440" y="1647360"/>
                <a:chExt cx="2360880" cy="2498040"/>
              </a:xfrm>
            </p:grpSpPr>
            <p:pic>
              <p:nvPicPr>
                <p:cNvPr id="414" name="Pictur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58440" y="1811520"/>
                  <a:ext cx="2168280" cy="2333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Line 10"/>
                <p:cNvSpPr/>
                <p:nvPr/>
              </p:nvSpPr>
              <p:spPr>
                <a:xfrm flipV="1">
                  <a:off x="1626480" y="16473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11"/>
                <p:cNvSpPr/>
                <p:nvPr/>
              </p:nvSpPr>
              <p:spPr>
                <a:xfrm>
                  <a:off x="3556440" y="4063320"/>
                  <a:ext cx="36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12"/>
              <p:cNvGrpSpPr/>
              <p:nvPr/>
            </p:nvGrpSpPr>
            <p:grpSpPr>
              <a:xfrm>
                <a:off x="5249880" y="1744560"/>
                <a:ext cx="2417760" cy="2476440"/>
                <a:chOff x="5249880" y="1744560"/>
                <a:chExt cx="2417760" cy="2476440"/>
              </a:xfrm>
            </p:grpSpPr>
            <p:pic>
              <p:nvPicPr>
                <p:cNvPr id="418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249880" y="1809360"/>
                  <a:ext cx="2236320" cy="241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Line 14"/>
                <p:cNvSpPr/>
                <p:nvPr/>
              </p:nvSpPr>
              <p:spPr>
                <a:xfrm flipV="1">
                  <a:off x="5374800" y="17445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5"/>
                <p:cNvSpPr/>
                <p:nvPr/>
              </p:nvSpPr>
              <p:spPr>
                <a:xfrm>
                  <a:off x="7304400" y="4138920"/>
                  <a:ext cx="363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22"/>
              <p:cNvSpPr/>
              <p:nvPr/>
            </p:nvSpPr>
            <p:spPr>
              <a:xfrm>
                <a:off x="1044000" y="1744560"/>
                <a:ext cx="7167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(P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23"/>
              <p:cNvSpPr/>
              <p:nvPr/>
            </p:nvSpPr>
            <p:spPr>
              <a:xfrm>
                <a:off x="4820400" y="1744560"/>
                <a:ext cx="71676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(q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24"/>
              <p:cNvSpPr/>
              <p:nvPr/>
            </p:nvSpPr>
            <p:spPr>
              <a:xfrm>
                <a:off x="4218480" y="2431800"/>
                <a:ext cx="77364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</a:rPr>
                  <a:t>面積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25"/>
              <p:cNvSpPr/>
              <p:nvPr/>
            </p:nvSpPr>
            <p:spPr>
              <a:xfrm>
                <a:off x="4212000" y="2709000"/>
                <a:ext cx="771840" cy="6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400" spc="-1" strike="noStrike">
                    <a:solidFill>
                      <a:srgbClr val="000000"/>
                    </a:solidFill>
                    <a:latin typeface="Times New Roman"/>
                  </a:rPr>
                  <a:t>相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 Box 59"/>
            <p:cNvSpPr/>
            <p:nvPr/>
          </p:nvSpPr>
          <p:spPr>
            <a:xfrm>
              <a:off x="755640" y="587700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"/>
                </a:rPr>
                <a:t>解答完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B93F-08A0-4157-95E6-BDCE9781930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部份重疊柱狀圖等化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91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將原先影像切割成許多長條型的子影像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每一個子影像仍用柱狀圖平均法處理完後，移動子影像一半的水平距離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繼續使用柱狀圖均等法，直到所有的子影像和部分重疊的子影像全部處理完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1028"/>
          <p:cNvGraphicFramePr/>
          <p:nvPr/>
        </p:nvGraphicFramePr>
        <p:xfrm>
          <a:off x="4572000" y="1828800"/>
          <a:ext cx="3886200" cy="37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28800"/>
                    <a:ext cx="3886200" cy="37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1030"/>
          <p:cNvSpPr/>
          <p:nvPr/>
        </p:nvSpPr>
        <p:spPr>
          <a:xfrm>
            <a:off x="5443560" y="558468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2.5.4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重疊式區域柱狀圖平均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290-B53C-4367-9732-4AB2A403F13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群組 13"/>
          <p:cNvGrpSpPr/>
          <p:nvPr/>
        </p:nvGrpSpPr>
        <p:grpSpPr>
          <a:xfrm>
            <a:off x="228600" y="533520"/>
            <a:ext cx="8534520" cy="5976000"/>
            <a:chOff x="228600" y="533520"/>
            <a:chExt cx="8534520" cy="5976000"/>
          </a:xfrm>
        </p:grpSpPr>
        <p:pic>
          <p:nvPicPr>
            <p:cNvPr id="434" name="Picture 2" descr="MI1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3657600" cy="293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4" descr="Fig213"/>
            <p:cNvPicPr/>
            <p:nvPr/>
          </p:nvPicPr>
          <p:blipFill>
            <a:blip r:embed="rId2"/>
            <a:stretch/>
          </p:blipFill>
          <p:spPr>
            <a:xfrm>
              <a:off x="5181840" y="533520"/>
              <a:ext cx="3581280" cy="28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Fig215"/>
            <p:cNvPicPr/>
            <p:nvPr/>
          </p:nvPicPr>
          <p:blipFill>
            <a:blip r:embed="rId3"/>
            <a:stretch/>
          </p:blipFill>
          <p:spPr>
            <a:xfrm>
              <a:off x="5181840" y="3581640"/>
              <a:ext cx="358128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8"/>
            <p:cNvSpPr/>
            <p:nvPr/>
          </p:nvSpPr>
          <p:spPr>
            <a:xfrm>
              <a:off x="1144800" y="4800960"/>
              <a:ext cx="170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2.1.2 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灰階分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太集中的影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9"/>
            <p:cNvSpPr/>
            <p:nvPr/>
          </p:nvSpPr>
          <p:spPr>
            <a:xfrm flipV="1">
              <a:off x="3886200" y="221004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0"/>
            <p:cNvSpPr/>
            <p:nvPr/>
          </p:nvSpPr>
          <p:spPr>
            <a:xfrm>
              <a:off x="3886200" y="3657960"/>
              <a:ext cx="12952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3097440" y="548640"/>
              <a:ext cx="185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2.5.3 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經柱狀圖等</a:t>
              </a:r>
              <a:br>
                <a:rPr sz="2000"/>
              </a:b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化法改良後的效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2"/>
            <p:cNvSpPr/>
            <p:nvPr/>
          </p:nvSpPr>
          <p:spPr>
            <a:xfrm>
              <a:off x="2627640" y="5805720"/>
              <a:ext cx="260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2.5.5 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經部份重疊柱狀圖平均法改善效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模糊中值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700280"/>
            <a:ext cx="85075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採用多層中值法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ultilevel Median Method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基礎，配合模糊隸屬函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Fuzzy Membership Function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以改善影像品質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給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視窗如圖所示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4F1F-E576-40AD-B8C1-C3F4B62D431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132000" y="3141720"/>
          <a:ext cx="3024360" cy="2736720"/>
        </p:xfrm>
        <a:graphic>
          <a:graphicData uri="http://schemas.openxmlformats.org/drawingml/2006/table">
            <a:tbl>
              <a:tblPr/>
              <a:tblGrid>
                <a:gridCol w="1008360"/>
                <a:gridCol w="1008000"/>
                <a:gridCol w="1008000"/>
              </a:tblGrid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46" name="群組 26"/>
          <p:cNvGrpSpPr/>
          <p:nvPr/>
        </p:nvGrpSpPr>
        <p:grpSpPr>
          <a:xfrm>
            <a:off x="3203640" y="3355920"/>
            <a:ext cx="2952720" cy="3086640"/>
            <a:chOff x="3203640" y="3355920"/>
            <a:chExt cx="2952720" cy="3086640"/>
          </a:xfrm>
        </p:grpSpPr>
        <p:graphicFrame>
          <p:nvGraphicFramePr>
            <p:cNvPr id="447" name="Object 8"/>
            <p:cNvGraphicFramePr/>
            <p:nvPr/>
          </p:nvGraphicFramePr>
          <p:xfrm>
            <a:off x="3419280" y="3355920"/>
            <a:ext cx="431640" cy="6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9280" y="3355920"/>
                      <a:ext cx="4316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Object 9"/>
            <p:cNvGraphicFramePr/>
            <p:nvPr/>
          </p:nvGraphicFramePr>
          <p:xfrm>
            <a:off x="4410000" y="3355920"/>
            <a:ext cx="468360" cy="6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0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10000" y="3355920"/>
                      <a:ext cx="468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Object 10"/>
            <p:cNvGraphicFramePr/>
            <p:nvPr/>
          </p:nvGraphicFramePr>
          <p:xfrm>
            <a:off x="5418360" y="3355920"/>
            <a:ext cx="468360" cy="6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52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8360" y="3355920"/>
                      <a:ext cx="468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Object 11"/>
            <p:cNvGraphicFramePr/>
            <p:nvPr/>
          </p:nvGraphicFramePr>
          <p:xfrm>
            <a:off x="3401640" y="4221360"/>
            <a:ext cx="466560" cy="64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4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01640" y="4221360"/>
                      <a:ext cx="4665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Object 12"/>
            <p:cNvGraphicFramePr/>
            <p:nvPr/>
          </p:nvGraphicFramePr>
          <p:xfrm>
            <a:off x="4410000" y="4221360"/>
            <a:ext cx="468360" cy="649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56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10000" y="4221360"/>
                      <a:ext cx="468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Object 13"/>
            <p:cNvGraphicFramePr/>
            <p:nvPr/>
          </p:nvGraphicFramePr>
          <p:xfrm>
            <a:off x="5418360" y="4221360"/>
            <a:ext cx="46836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58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18360" y="4221360"/>
                      <a:ext cx="468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Object 14"/>
            <p:cNvGraphicFramePr/>
            <p:nvPr/>
          </p:nvGraphicFramePr>
          <p:xfrm>
            <a:off x="3401640" y="5157000"/>
            <a:ext cx="466560" cy="649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60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01640" y="5157000"/>
                      <a:ext cx="4665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1" name="Object 15"/>
            <p:cNvGraphicFramePr/>
            <p:nvPr/>
          </p:nvGraphicFramePr>
          <p:xfrm>
            <a:off x="4410000" y="5157000"/>
            <a:ext cx="468360" cy="649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62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10000" y="5157000"/>
                      <a:ext cx="468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3" name="Object 16"/>
            <p:cNvGraphicFramePr/>
            <p:nvPr/>
          </p:nvGraphicFramePr>
          <p:xfrm>
            <a:off x="5418360" y="5157000"/>
            <a:ext cx="468360" cy="649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64" name="Object 1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18360" y="5157000"/>
                      <a:ext cx="468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5" name="文字方塊 17"/>
            <p:cNvSpPr/>
            <p:nvPr/>
          </p:nvSpPr>
          <p:spPr>
            <a:xfrm>
              <a:off x="3203640" y="604368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.6.1 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×3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視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C7FC-9E85-43A3-B8B0-7CA59831B58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本章主要針對在雜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干擾或灰階分佈太集中的影響下，如何盡可能恢復原影像的品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群組 10"/>
          <p:cNvGrpSpPr/>
          <p:nvPr/>
        </p:nvGrpSpPr>
        <p:grpSpPr>
          <a:xfrm>
            <a:off x="636480" y="2781360"/>
            <a:ext cx="8102880" cy="3525120"/>
            <a:chOff x="636480" y="2781360"/>
            <a:chExt cx="8102880" cy="352512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tretch/>
          </p:blipFill>
          <p:spPr>
            <a:xfrm>
              <a:off x="708480" y="2781360"/>
              <a:ext cx="3701880" cy="30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"/>
            <p:cNvPicPr/>
            <p:nvPr/>
          </p:nvPicPr>
          <p:blipFill>
            <a:blip r:embed="rId2"/>
            <a:stretch/>
          </p:blipFill>
          <p:spPr>
            <a:xfrm>
              <a:off x="4851720" y="2781360"/>
              <a:ext cx="3827520" cy="30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文字方塊 8"/>
            <p:cNvSpPr/>
            <p:nvPr/>
          </p:nvSpPr>
          <p:spPr>
            <a:xfrm>
              <a:off x="636480" y="5938200"/>
              <a:ext cx="38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2.1.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　受雜訊干擾的影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字方塊 9"/>
            <p:cNvSpPr/>
            <p:nvPr/>
          </p:nvSpPr>
          <p:spPr>
            <a:xfrm>
              <a:off x="4851000" y="5938200"/>
              <a:ext cx="388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2.1.2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　某些灰階分布太集中的影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29F6-5516-47AC-90C5-859C74D8CCA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Object 7"/>
          <p:cNvGraphicFramePr/>
          <p:nvPr/>
        </p:nvGraphicFramePr>
        <p:xfrm>
          <a:off x="3203640" y="1341360"/>
          <a:ext cx="244800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341360"/>
                    <a:ext cx="24480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文字方塊 13"/>
          <p:cNvSpPr/>
          <p:nvPr/>
        </p:nvSpPr>
        <p:spPr>
          <a:xfrm>
            <a:off x="684360" y="3213000"/>
            <a:ext cx="74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有些線段並不是真實的邊線，將假線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False Line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情形納入考慮；並以信用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Credibility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模糊概念來表達中值與集合內元素的差異合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若信用度太低，有可能是假線段或雜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684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令       代表       有關的三個像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代表       與     中的像素值的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此時我們再將計算出來的       代入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6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以找出對應的信用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6FCF-1AB4-41D8-80DF-9F7F32CD19A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900000" y="816120"/>
          <a:ext cx="287280" cy="39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816120"/>
                    <a:ext cx="28728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1976400" y="825480"/>
          <a:ext cx="3412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825480"/>
                    <a:ext cx="341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4"/>
          <p:cNvGraphicFramePr/>
          <p:nvPr/>
        </p:nvGraphicFramePr>
        <p:xfrm>
          <a:off x="582480" y="1216080"/>
          <a:ext cx="19796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480" y="1216080"/>
                    <a:ext cx="1979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5"/>
          <p:cNvGraphicFramePr/>
          <p:nvPr/>
        </p:nvGraphicFramePr>
        <p:xfrm>
          <a:off x="3295800" y="1225440"/>
          <a:ext cx="34128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95800" y="1225440"/>
                    <a:ext cx="3412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6"/>
          <p:cNvGraphicFramePr/>
          <p:nvPr/>
        </p:nvGraphicFramePr>
        <p:xfrm>
          <a:off x="4068720" y="1187280"/>
          <a:ext cx="287280" cy="39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8720" y="1187280"/>
                    <a:ext cx="287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7"/>
          <p:cNvGraphicFramePr/>
          <p:nvPr/>
        </p:nvGraphicFramePr>
        <p:xfrm>
          <a:off x="3706920" y="1628640"/>
          <a:ext cx="36036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6920" y="162864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8"/>
          <p:cNvGraphicFramePr/>
          <p:nvPr/>
        </p:nvGraphicFramePr>
        <p:xfrm>
          <a:off x="8317080" y="1628640"/>
          <a:ext cx="33948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17080" y="1628640"/>
                    <a:ext cx="3394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Picture 15" descr=""/>
          <p:cNvPicPr/>
          <p:nvPr/>
        </p:nvPicPr>
        <p:blipFill>
          <a:blip r:embed="rId15">
            <a:lum contrast="40000"/>
          </a:blip>
          <a:stretch/>
        </p:blipFill>
        <p:spPr>
          <a:xfrm>
            <a:off x="1547640" y="2205000"/>
            <a:ext cx="5688360" cy="3718080"/>
          </a:xfrm>
          <a:prstGeom prst="rect">
            <a:avLst/>
          </a:prstGeom>
          <a:ln w="0">
            <a:noFill/>
          </a:ln>
        </p:spPr>
      </p:pic>
      <p:sp>
        <p:nvSpPr>
          <p:cNvPr id="487" name="文字方塊 16"/>
          <p:cNvSpPr/>
          <p:nvPr/>
        </p:nvSpPr>
        <p:spPr>
          <a:xfrm>
            <a:off x="3924360" y="609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2326-541B-42CB-978B-B46760A1BA2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群組 7"/>
          <p:cNvGrpSpPr/>
          <p:nvPr/>
        </p:nvGrpSpPr>
        <p:grpSpPr>
          <a:xfrm>
            <a:off x="611280" y="907920"/>
            <a:ext cx="7921440" cy="3129120"/>
            <a:chOff x="611280" y="907920"/>
            <a:chExt cx="7921440" cy="3129120"/>
          </a:xfrm>
        </p:grpSpPr>
        <p:sp>
          <p:nvSpPr>
            <p:cNvPr id="490" name="文字方塊 13"/>
            <p:cNvSpPr/>
            <p:nvPr/>
          </p:nvSpPr>
          <p:spPr>
            <a:xfrm>
              <a:off x="611280" y="907920"/>
              <a:ext cx="792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假設已算出所有的     ，則模糊中值法所得的結果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1" name="Object 11"/>
            <p:cNvGraphicFramePr/>
            <p:nvPr/>
          </p:nvGraphicFramePr>
          <p:xfrm>
            <a:off x="1692360" y="1844640"/>
            <a:ext cx="5784840" cy="219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2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1844640"/>
                      <a:ext cx="5784840" cy="21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3" name="Object 10"/>
            <p:cNvGraphicFramePr/>
            <p:nvPr/>
          </p:nvGraphicFramePr>
          <p:xfrm>
            <a:off x="3183120" y="959040"/>
            <a:ext cx="380880" cy="40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83120" y="959040"/>
                      <a:ext cx="380880" cy="40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34E7-22C3-47F6-A1B2-15E49DE2EAC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7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頻率域濾波器設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低通濾波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低通巴特沃斯濾波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高通巴特沃斯濾波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群組 27"/>
          <p:cNvGrpSpPr/>
          <p:nvPr/>
        </p:nvGrpSpPr>
        <p:grpSpPr>
          <a:xfrm>
            <a:off x="1956960" y="1523880"/>
            <a:ext cx="5356800" cy="693000"/>
            <a:chOff x="1956960" y="1523880"/>
            <a:chExt cx="5356800" cy="693000"/>
          </a:xfrm>
        </p:grpSpPr>
        <p:sp>
          <p:nvSpPr>
            <p:cNvPr id="499" name="Rectangle 4"/>
            <p:cNvSpPr/>
            <p:nvPr/>
          </p:nvSpPr>
          <p:spPr>
            <a:xfrm>
              <a:off x="2660760" y="1752480"/>
              <a:ext cx="838080" cy="457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5"/>
            <p:cNvSpPr/>
            <p:nvPr/>
          </p:nvSpPr>
          <p:spPr>
            <a:xfrm>
              <a:off x="2279520" y="19814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6"/>
            <p:cNvSpPr/>
            <p:nvPr/>
          </p:nvSpPr>
          <p:spPr>
            <a:xfrm>
              <a:off x="3498840" y="1981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"/>
            <p:cNvSpPr/>
            <p:nvPr/>
          </p:nvSpPr>
          <p:spPr>
            <a:xfrm>
              <a:off x="3956040" y="1752480"/>
              <a:ext cx="1066680" cy="457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,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>
              <a:off x="5023080" y="19814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9"/>
            <p:cNvSpPr/>
            <p:nvPr/>
          </p:nvSpPr>
          <p:spPr>
            <a:xfrm>
              <a:off x="5556240" y="1752480"/>
              <a:ext cx="838080" cy="457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0"/>
            <p:cNvSpPr/>
            <p:nvPr/>
          </p:nvSpPr>
          <p:spPr>
            <a:xfrm>
              <a:off x="6394680" y="1981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1"/>
            <p:cNvSpPr/>
            <p:nvPr/>
          </p:nvSpPr>
          <p:spPr>
            <a:xfrm>
              <a:off x="3498840" y="1523880"/>
              <a:ext cx="457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2"/>
            <p:cNvSpPr/>
            <p:nvPr/>
          </p:nvSpPr>
          <p:spPr>
            <a:xfrm>
              <a:off x="1956960" y="17571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3"/>
            <p:cNvSpPr/>
            <p:nvPr/>
          </p:nvSpPr>
          <p:spPr>
            <a:xfrm>
              <a:off x="5099040" y="1523880"/>
              <a:ext cx="533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6928920" y="175248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群組 28"/>
          <p:cNvGrpSpPr/>
          <p:nvPr/>
        </p:nvGrpSpPr>
        <p:grpSpPr>
          <a:xfrm>
            <a:off x="838080" y="2820960"/>
            <a:ext cx="7925040" cy="3724200"/>
            <a:chOff x="838080" y="2820960"/>
            <a:chExt cx="7925040" cy="3724200"/>
          </a:xfrm>
        </p:grpSpPr>
        <p:graphicFrame>
          <p:nvGraphicFramePr>
            <p:cNvPr id="511" name="Object 15"/>
            <p:cNvGraphicFramePr/>
            <p:nvPr/>
          </p:nvGraphicFramePr>
          <p:xfrm>
            <a:off x="878040" y="2820960"/>
            <a:ext cx="3765600" cy="99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8040" y="2820960"/>
                      <a:ext cx="3765600" cy="99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3" name="Object 17"/>
            <p:cNvGraphicFramePr/>
            <p:nvPr/>
          </p:nvGraphicFramePr>
          <p:xfrm>
            <a:off x="838080" y="4647960"/>
            <a:ext cx="2343240" cy="76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4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4647960"/>
                      <a:ext cx="2343240" cy="76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5" name="Object 19"/>
            <p:cNvGraphicFramePr/>
            <p:nvPr/>
          </p:nvGraphicFramePr>
          <p:xfrm>
            <a:off x="5105520" y="3200400"/>
            <a:ext cx="3657600" cy="2462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6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3200400"/>
                      <a:ext cx="3657600" cy="246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7" name="Object 21"/>
            <p:cNvGraphicFramePr/>
            <p:nvPr/>
          </p:nvGraphicFramePr>
          <p:xfrm>
            <a:off x="871200" y="5867280"/>
            <a:ext cx="2071800" cy="67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8" name="Object 2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71200" y="5867280"/>
                      <a:ext cx="207180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9" name="Group 27"/>
            <p:cNvGrpSpPr/>
            <p:nvPr/>
          </p:nvGrpSpPr>
          <p:grpSpPr>
            <a:xfrm>
              <a:off x="5486400" y="5759640"/>
              <a:ext cx="2895480" cy="337320"/>
              <a:chOff x="5486400" y="5759640"/>
              <a:chExt cx="2895480" cy="337320"/>
            </a:xfrm>
          </p:grpSpPr>
          <p:sp>
            <p:nvSpPr>
              <p:cNvPr id="520" name="Rectangle 25"/>
              <p:cNvSpPr/>
              <p:nvPr/>
            </p:nvSpPr>
            <p:spPr>
              <a:xfrm>
                <a:off x="5486400" y="5759640"/>
                <a:ext cx="289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2.7.1                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和　　  關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1" name="Object 24"/>
                  <p:cNvSpPr txBox="1"/>
                  <p:nvPr/>
                </p:nvSpPr>
                <p:spPr>
                  <a:xfrm>
                    <a:off x="6325920" y="5827680"/>
                    <a:ext cx="665280" cy="23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2" name="Object 23"/>
                  <p:cNvSpPr txBox="1"/>
                  <p:nvPr/>
                </p:nvSpPr>
                <p:spPr>
                  <a:xfrm>
                    <a:off x="7207200" y="5791320"/>
                    <a:ext cx="517320" cy="30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C48D-AA28-4496-AA43-8594CDDB729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Fig218"/>
          <p:cNvPicPr/>
          <p:nvPr/>
        </p:nvPicPr>
        <p:blipFill>
          <a:blip r:embed="rId1"/>
          <a:stretch/>
        </p:blipFill>
        <p:spPr>
          <a:xfrm>
            <a:off x="380880" y="17524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Fig220a"/>
          <p:cNvPicPr/>
          <p:nvPr/>
        </p:nvPicPr>
        <p:blipFill>
          <a:blip r:embed="rId2"/>
          <a:stretch/>
        </p:blipFill>
        <p:spPr>
          <a:xfrm>
            <a:off x="5105520" y="22860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Fig220b"/>
          <p:cNvPicPr/>
          <p:nvPr/>
        </p:nvPicPr>
        <p:blipFill>
          <a:blip r:embed="rId3"/>
          <a:stretch/>
        </p:blipFill>
        <p:spPr>
          <a:xfrm>
            <a:off x="5105520" y="3505320"/>
            <a:ext cx="3192480" cy="3192480"/>
          </a:xfrm>
          <a:prstGeom prst="rect">
            <a:avLst/>
          </a:prstGeom>
          <a:ln w="0">
            <a:noFill/>
          </a:ln>
        </p:spPr>
      </p:pic>
      <p:sp>
        <p:nvSpPr>
          <p:cNvPr id="527" name="Line 8"/>
          <p:cNvSpPr/>
          <p:nvPr/>
        </p:nvSpPr>
        <p:spPr>
          <a:xfrm flipV="1">
            <a:off x="3581280" y="213336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9"/>
          <p:cNvSpPr/>
          <p:nvPr/>
        </p:nvSpPr>
        <p:spPr>
          <a:xfrm>
            <a:off x="3581280" y="43434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3564360" y="5961240"/>
            <a:ext cx="130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.7.2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) 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得到的影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395280" y="50976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.6.3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輸入影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3059280" y="549360"/>
            <a:ext cx="2054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.7.2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 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得到的傅利葉頻譜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66B-8597-48EE-9D7B-D8F34C1CAF6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8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韋納濾波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42"/>
          <p:cNvSpPr/>
          <p:nvPr/>
        </p:nvSpPr>
        <p:spPr>
          <a:xfrm>
            <a:off x="449568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群組 26"/>
          <p:cNvGrpSpPr/>
          <p:nvPr/>
        </p:nvGrpSpPr>
        <p:grpSpPr>
          <a:xfrm>
            <a:off x="1526760" y="1523880"/>
            <a:ext cx="6093360" cy="1144080"/>
            <a:chOff x="1526760" y="1523880"/>
            <a:chExt cx="6093360" cy="1144080"/>
          </a:xfrm>
        </p:grpSpPr>
        <p:sp>
          <p:nvSpPr>
            <p:cNvPr id="536" name="Rectangle 1028"/>
            <p:cNvSpPr/>
            <p:nvPr/>
          </p:nvSpPr>
          <p:spPr>
            <a:xfrm>
              <a:off x="3346200" y="1752480"/>
              <a:ext cx="83808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029"/>
            <p:cNvSpPr/>
            <p:nvPr/>
          </p:nvSpPr>
          <p:spPr>
            <a:xfrm>
              <a:off x="29653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030"/>
            <p:cNvSpPr/>
            <p:nvPr/>
          </p:nvSpPr>
          <p:spPr>
            <a:xfrm>
              <a:off x="4184640" y="1981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031"/>
            <p:cNvSpPr/>
            <p:nvPr/>
          </p:nvSpPr>
          <p:spPr>
            <a:xfrm>
              <a:off x="4641840" y="1752480"/>
              <a:ext cx="84456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032"/>
            <p:cNvSpPr/>
            <p:nvPr/>
          </p:nvSpPr>
          <p:spPr>
            <a:xfrm>
              <a:off x="5486400" y="1981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1033"/>
            <p:cNvSpPr/>
            <p:nvPr/>
          </p:nvSpPr>
          <p:spPr>
            <a:xfrm>
              <a:off x="6019920" y="1752480"/>
              <a:ext cx="83808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034"/>
            <p:cNvSpPr/>
            <p:nvPr/>
          </p:nvSpPr>
          <p:spPr>
            <a:xfrm>
              <a:off x="6858360" y="1981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035"/>
            <p:cNvSpPr/>
            <p:nvPr/>
          </p:nvSpPr>
          <p:spPr>
            <a:xfrm>
              <a:off x="4184640" y="15238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036"/>
            <p:cNvSpPr/>
            <p:nvPr/>
          </p:nvSpPr>
          <p:spPr>
            <a:xfrm>
              <a:off x="1526760" y="175248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+ N = 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037"/>
            <p:cNvSpPr/>
            <p:nvPr/>
          </p:nvSpPr>
          <p:spPr>
            <a:xfrm>
              <a:off x="5562720" y="1523880"/>
              <a:ext cx="533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Object 1039"/>
                <p:cNvSpPr txBox="1"/>
                <p:nvPr/>
              </p:nvSpPr>
              <p:spPr>
                <a:xfrm>
                  <a:off x="6261120" y="1790640"/>
                  <a:ext cx="45720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Object 1041"/>
                <p:cNvSpPr txBox="1"/>
                <p:nvPr/>
              </p:nvSpPr>
              <p:spPr>
                <a:xfrm>
                  <a:off x="7326720" y="1599840"/>
                  <a:ext cx="2934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S</m:t>
                          </m:r>
                        </m:e>
                        <m:lim>
                          <m:acc>
                            <m:accPr>
                              <m:chr m:val="^"/>
                            </m:accPr>
                            <m:e/>
                          </m:acc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548" name="Text Box 1094"/>
            <p:cNvSpPr/>
            <p:nvPr/>
          </p:nvSpPr>
          <p:spPr>
            <a:xfrm>
              <a:off x="3633840" y="2330640"/>
              <a:ext cx="15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.1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韋納濾波器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群組 27"/>
          <p:cNvGrpSpPr/>
          <p:nvPr/>
        </p:nvGrpSpPr>
        <p:grpSpPr>
          <a:xfrm>
            <a:off x="355320" y="2819520"/>
            <a:ext cx="8460000" cy="3389760"/>
            <a:chOff x="355320" y="2819520"/>
            <a:chExt cx="8460000" cy="3389760"/>
          </a:xfrm>
        </p:grpSpPr>
        <p:graphicFrame>
          <p:nvGraphicFramePr>
            <p:cNvPr id="550" name="Object 1084"/>
            <p:cNvGraphicFramePr/>
            <p:nvPr/>
          </p:nvGraphicFramePr>
          <p:xfrm>
            <a:off x="355320" y="2819520"/>
            <a:ext cx="2390760" cy="106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1" name="Object 108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5320" y="2819520"/>
                      <a:ext cx="2390760" cy="106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2" name="Object 1085"/>
            <p:cNvGraphicFramePr/>
            <p:nvPr/>
          </p:nvGraphicFramePr>
          <p:xfrm>
            <a:off x="376200" y="3906720"/>
            <a:ext cx="1914480" cy="80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3" name="Object 108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6200" y="3906720"/>
                      <a:ext cx="1914480" cy="80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4" name="Object 1087"/>
            <p:cNvGraphicFramePr/>
            <p:nvPr/>
          </p:nvGraphicFramePr>
          <p:xfrm>
            <a:off x="3605040" y="3276720"/>
            <a:ext cx="5210280" cy="127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5" name="Object 108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5040" y="3276720"/>
                      <a:ext cx="5210280" cy="12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6" name="Text Box 1088"/>
            <p:cNvSpPr/>
            <p:nvPr/>
          </p:nvSpPr>
          <p:spPr>
            <a:xfrm>
              <a:off x="1049760" y="5059440"/>
              <a:ext cx="5068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希望找到矩陣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使得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為最小，就是要解　　　　 即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7" name="Object 1089"/>
            <p:cNvGraphicFramePr/>
            <p:nvPr/>
          </p:nvGraphicFramePr>
          <p:xfrm>
            <a:off x="5423040" y="5092920"/>
            <a:ext cx="1041120" cy="46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8" name="Object 108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23040" y="5092920"/>
                      <a:ext cx="1041120" cy="46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9" name="Object 1092"/>
            <p:cNvGraphicFramePr/>
            <p:nvPr/>
          </p:nvGraphicFramePr>
          <p:xfrm>
            <a:off x="1147680" y="5780160"/>
            <a:ext cx="6238800" cy="426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60" name="Object 109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7680" y="5780160"/>
                      <a:ext cx="62388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1" name="Text Box 1095"/>
            <p:cNvSpPr/>
            <p:nvPr/>
          </p:nvSpPr>
          <p:spPr>
            <a:xfrm>
              <a:off x="2971800" y="36878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096"/>
            <p:cNvSpPr/>
            <p:nvPr/>
          </p:nvSpPr>
          <p:spPr>
            <a:xfrm>
              <a:off x="2666880" y="2971800"/>
              <a:ext cx="304560" cy="18288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097"/>
            <p:cNvSpPr/>
            <p:nvPr/>
          </p:nvSpPr>
          <p:spPr>
            <a:xfrm>
              <a:off x="7834320" y="5780160"/>
              <a:ext cx="927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2.8.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8F18-07A0-4B3B-A402-55A49615636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群組 33"/>
          <p:cNvGrpSpPr/>
          <p:nvPr/>
        </p:nvGrpSpPr>
        <p:grpSpPr>
          <a:xfrm>
            <a:off x="152280" y="560520"/>
            <a:ext cx="8842680" cy="5984640"/>
            <a:chOff x="152280" y="560520"/>
            <a:chExt cx="8842680" cy="5984640"/>
          </a:xfrm>
        </p:grpSpPr>
        <p:sp>
          <p:nvSpPr>
            <p:cNvPr id="566" name="Text Box 2"/>
            <p:cNvSpPr/>
            <p:nvPr/>
          </p:nvSpPr>
          <p:spPr>
            <a:xfrm>
              <a:off x="596880" y="560520"/>
              <a:ext cx="577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利用　　　　　　　　　　　　　　　　　　 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7" name="Object 7"/>
            <p:cNvGraphicFramePr/>
            <p:nvPr/>
          </p:nvGraphicFramePr>
          <p:xfrm>
            <a:off x="1347840" y="598320"/>
            <a:ext cx="4693320" cy="40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47840" y="598320"/>
                      <a:ext cx="46933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9" name="Object 8"/>
            <p:cNvGraphicFramePr/>
            <p:nvPr/>
          </p:nvGraphicFramePr>
          <p:xfrm>
            <a:off x="6509520" y="598320"/>
            <a:ext cx="1459080" cy="40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09520" y="598320"/>
                      <a:ext cx="1459080" cy="40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Object 9"/>
            <p:cNvGraphicFramePr/>
            <p:nvPr/>
          </p:nvGraphicFramePr>
          <p:xfrm>
            <a:off x="992160" y="1143000"/>
            <a:ext cx="3167280" cy="40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2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2160" y="1143000"/>
                      <a:ext cx="316728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73" name="Object 10"/>
                <p:cNvSpPr txBox="1"/>
                <p:nvPr/>
              </p:nvSpPr>
              <p:spPr>
                <a:xfrm>
                  <a:off x="3810240" y="1630440"/>
                  <a:ext cx="293724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T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Z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Z</m:t>
                              </m:r>
                            </m:e>
                            <m:sup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574" name="Object 11"/>
            <p:cNvGraphicFramePr/>
            <p:nvPr/>
          </p:nvGraphicFramePr>
          <p:xfrm>
            <a:off x="5648760" y="1130400"/>
            <a:ext cx="219096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75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48760" y="1130400"/>
                      <a:ext cx="21909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Rectangle 10"/>
            <p:cNvSpPr/>
            <p:nvPr/>
          </p:nvSpPr>
          <p:spPr>
            <a:xfrm>
              <a:off x="1828800" y="1630440"/>
              <a:ext cx="152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已知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=TZ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2"/>
            <p:cNvSpPr/>
            <p:nvPr/>
          </p:nvSpPr>
          <p:spPr>
            <a:xfrm>
              <a:off x="152280" y="2209680"/>
              <a:ext cx="88401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Object 12"/>
                <p:cNvSpPr txBox="1"/>
                <p:nvPr/>
              </p:nvSpPr>
              <p:spPr>
                <a:xfrm>
                  <a:off x="228240" y="2286000"/>
                  <a:ext cx="268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Y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579" name="Rectangle 14"/>
            <p:cNvSpPr/>
            <p:nvPr/>
          </p:nvSpPr>
          <p:spPr>
            <a:xfrm>
              <a:off x="1197360" y="2362320"/>
              <a:ext cx="281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新細明體"/>
                </a:rPr>
                <a:t>為   的平均向量，則共變異數可定義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0" name="Object 13"/>
                <p:cNvSpPr txBox="1"/>
                <p:nvPr/>
              </p:nvSpPr>
              <p:spPr>
                <a:xfrm>
                  <a:off x="720360" y="2462040"/>
                  <a:ext cx="269640" cy="28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581" name="Object 14"/>
            <p:cNvGraphicFramePr/>
            <p:nvPr/>
          </p:nvGraphicFramePr>
          <p:xfrm>
            <a:off x="4859640" y="2216880"/>
            <a:ext cx="3956400" cy="558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2" name="Object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59640" y="2216880"/>
                      <a:ext cx="395640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3" name="Text Box 19"/>
            <p:cNvSpPr/>
            <p:nvPr/>
          </p:nvSpPr>
          <p:spPr>
            <a:xfrm>
              <a:off x="601920" y="3035160"/>
              <a:ext cx="6393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假設　　　   ，則　　　　　  和　　　　　　　        和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4" name="Object 15"/>
            <p:cNvGraphicFramePr/>
            <p:nvPr/>
          </p:nvGraphicFramePr>
          <p:xfrm>
            <a:off x="923760" y="2997360"/>
            <a:ext cx="1036440" cy="444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23760" y="2997360"/>
                      <a:ext cx="103644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Object 16"/>
            <p:cNvGraphicFramePr/>
            <p:nvPr/>
          </p:nvGraphicFramePr>
          <p:xfrm>
            <a:off x="4383360" y="3048120"/>
            <a:ext cx="1444680" cy="414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Object 1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83360" y="3048120"/>
                      <a:ext cx="144468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Object 17"/>
            <p:cNvGraphicFramePr/>
            <p:nvPr/>
          </p:nvGraphicFramePr>
          <p:xfrm>
            <a:off x="2630520" y="3048120"/>
            <a:ext cx="1366920" cy="431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Object 1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30520" y="3048120"/>
                      <a:ext cx="136692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Object 18"/>
            <p:cNvGraphicFramePr/>
            <p:nvPr/>
          </p:nvGraphicFramePr>
          <p:xfrm>
            <a:off x="6274440" y="2971800"/>
            <a:ext cx="588960" cy="431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Object 18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274440" y="2971800"/>
                      <a:ext cx="58896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Object 19"/>
            <p:cNvGraphicFramePr/>
            <p:nvPr/>
          </p:nvGraphicFramePr>
          <p:xfrm>
            <a:off x="7247520" y="3057480"/>
            <a:ext cx="1398600" cy="4078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Object 19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47520" y="3057480"/>
                      <a:ext cx="139860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Object 20"/>
            <p:cNvGraphicFramePr/>
            <p:nvPr/>
          </p:nvGraphicFramePr>
          <p:xfrm>
            <a:off x="417240" y="3809880"/>
            <a:ext cx="5058360" cy="16938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Object 20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17240" y="3809880"/>
                      <a:ext cx="5058360" cy="169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Object 21"/>
            <p:cNvGraphicFramePr/>
            <p:nvPr/>
          </p:nvGraphicFramePr>
          <p:xfrm>
            <a:off x="5648760" y="3809880"/>
            <a:ext cx="2495880" cy="12888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Object 21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648760" y="3809880"/>
                      <a:ext cx="2495880" cy="12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8" name="Object 22"/>
            <p:cNvGraphicFramePr/>
            <p:nvPr/>
          </p:nvGraphicFramePr>
          <p:xfrm>
            <a:off x="900000" y="5802480"/>
            <a:ext cx="3287880" cy="4428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599" name="Object 22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00000" y="5802480"/>
                      <a:ext cx="328788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0" name="Object 23"/>
            <p:cNvGraphicFramePr/>
            <p:nvPr/>
          </p:nvGraphicFramePr>
          <p:xfrm>
            <a:off x="4866120" y="5638680"/>
            <a:ext cx="3740400" cy="906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1" name="Object 23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4866120" y="5638680"/>
                      <a:ext cx="3740400" cy="90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2" name="Text Box 32"/>
            <p:cNvSpPr/>
            <p:nvPr/>
          </p:nvSpPr>
          <p:spPr>
            <a:xfrm>
              <a:off x="456840" y="11430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3"/>
            <p:cNvSpPr/>
            <p:nvPr/>
          </p:nvSpPr>
          <p:spPr>
            <a:xfrm>
              <a:off x="5105880" y="11430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34"/>
            <p:cNvSpPr/>
            <p:nvPr/>
          </p:nvSpPr>
          <p:spPr>
            <a:xfrm>
              <a:off x="3353040" y="16304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35"/>
            <p:cNvSpPr/>
            <p:nvPr/>
          </p:nvSpPr>
          <p:spPr>
            <a:xfrm>
              <a:off x="5868000" y="30481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36"/>
            <p:cNvSpPr/>
            <p:nvPr/>
          </p:nvSpPr>
          <p:spPr>
            <a:xfrm>
              <a:off x="4343760" y="57913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7"/>
            <p:cNvSpPr/>
            <p:nvPr/>
          </p:nvSpPr>
          <p:spPr>
            <a:xfrm>
              <a:off x="380880" y="57913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38"/>
            <p:cNvSpPr/>
            <p:nvPr/>
          </p:nvSpPr>
          <p:spPr>
            <a:xfrm>
              <a:off x="4268880" y="1143000"/>
              <a:ext cx="927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2.8.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39"/>
            <p:cNvSpPr/>
            <p:nvPr/>
          </p:nvSpPr>
          <p:spPr>
            <a:xfrm>
              <a:off x="8044560" y="1096920"/>
              <a:ext cx="927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2.8.3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40"/>
            <p:cNvSpPr/>
            <p:nvPr/>
          </p:nvSpPr>
          <p:spPr>
            <a:xfrm>
              <a:off x="8067600" y="1630440"/>
              <a:ext cx="927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2.8.4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09FD-6E40-4B9E-85F4-423CE6A35C7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2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字方塊 4"/>
          <p:cNvSpPr/>
          <p:nvPr/>
        </p:nvSpPr>
        <p:spPr>
          <a:xfrm>
            <a:off x="395280" y="1341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本章談的都是影像事前處理的品質改善工作。從平滑法介紹起，一路談到中值法、中央加權中值法、柱狀圖等化法、模糊中值法、頻率域濾波器設計到韋納濾波器。越後面介紹的方法，其考慮的層面越廣，但速度相對的也較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5AF-8C9B-4289-8AA1-0B8F052BF3B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平滑法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和統計上的根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利用將灰階值平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veraging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將雜訊的影響淡化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以迴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Convolution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方式完成計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面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ask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放在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子影像上，用反應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取代中心點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群組 16"/>
          <p:cNvGrpSpPr/>
          <p:nvPr/>
        </p:nvGrpSpPr>
        <p:grpSpPr>
          <a:xfrm>
            <a:off x="380880" y="3068640"/>
            <a:ext cx="8370360" cy="3157200"/>
            <a:chOff x="380880" y="3068640"/>
            <a:chExt cx="8370360" cy="3157200"/>
          </a:xfrm>
        </p:grpSpPr>
        <p:graphicFrame>
          <p:nvGraphicFramePr>
            <p:cNvPr id="123" name="Object 1024"/>
            <p:cNvGraphicFramePr/>
            <p:nvPr/>
          </p:nvGraphicFramePr>
          <p:xfrm>
            <a:off x="380880" y="3068640"/>
            <a:ext cx="2395440" cy="251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068640"/>
                      <a:ext cx="2395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Oval 55"/>
            <p:cNvSpPr/>
            <p:nvPr/>
          </p:nvSpPr>
          <p:spPr>
            <a:xfrm>
              <a:off x="1066680" y="4211640"/>
              <a:ext cx="60948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6"/>
            <p:cNvSpPr/>
            <p:nvPr/>
          </p:nvSpPr>
          <p:spPr>
            <a:xfrm flipV="1">
              <a:off x="1676160" y="3983040"/>
              <a:ext cx="53316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7"/>
            <p:cNvSpPr/>
            <p:nvPr/>
          </p:nvSpPr>
          <p:spPr>
            <a:xfrm>
              <a:off x="2373840" y="37782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ff0000"/>
                  </a:solidFill>
                  <a:latin typeface="新細明體"/>
                </a:rPr>
                <a:t>疑似雜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" name="Object 1025"/>
            <p:cNvGraphicFramePr/>
            <p:nvPr/>
          </p:nvGraphicFramePr>
          <p:xfrm>
            <a:off x="3657600" y="3678120"/>
            <a:ext cx="1752480" cy="164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Object 102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3678120"/>
                      <a:ext cx="1752480" cy="164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59"/>
            <p:cNvSpPr/>
            <p:nvPr/>
          </p:nvSpPr>
          <p:spPr>
            <a:xfrm>
              <a:off x="725040" y="5685120"/>
              <a:ext cx="164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2.2.1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3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子影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0"/>
            <p:cNvSpPr/>
            <p:nvPr/>
          </p:nvSpPr>
          <p:spPr>
            <a:xfrm>
              <a:off x="3744360" y="5645160"/>
              <a:ext cx="16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2.2.2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平滑法的面罩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Object 1026"/>
            <p:cNvGraphicFramePr/>
            <p:nvPr/>
          </p:nvGraphicFramePr>
          <p:xfrm>
            <a:off x="5910120" y="3068640"/>
            <a:ext cx="2395440" cy="251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Object 10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0120" y="3068640"/>
                      <a:ext cx="239544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Text Box 62"/>
            <p:cNvSpPr/>
            <p:nvPr/>
          </p:nvSpPr>
          <p:spPr>
            <a:xfrm>
              <a:off x="6221880" y="5645160"/>
              <a:ext cx="191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2.2.2.1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經平滑法作用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中心點後的子影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3"/>
            <p:cNvSpPr/>
            <p:nvPr/>
          </p:nvSpPr>
          <p:spPr>
            <a:xfrm>
              <a:off x="6603840" y="4211640"/>
              <a:ext cx="60948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 flipV="1">
              <a:off x="6934320" y="3601440"/>
              <a:ext cx="22860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65"/>
            <p:cNvSpPr/>
            <p:nvPr/>
          </p:nvSpPr>
          <p:spPr>
            <a:xfrm>
              <a:off x="6342480" y="324468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+1+2+3+20+2+2+1+3)/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E351-26C7-4AC4-9B7E-895D4D066BD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群組 10"/>
          <p:cNvGrpSpPr/>
          <p:nvPr/>
        </p:nvGrpSpPr>
        <p:grpSpPr>
          <a:xfrm>
            <a:off x="467280" y="609480"/>
            <a:ext cx="8281440" cy="5763240"/>
            <a:chOff x="467280" y="609480"/>
            <a:chExt cx="8281440" cy="5763240"/>
          </a:xfrm>
        </p:grpSpPr>
        <p:sp>
          <p:nvSpPr>
            <p:cNvPr id="140" name="Text Box 2"/>
            <p:cNvSpPr/>
            <p:nvPr/>
          </p:nvSpPr>
          <p:spPr>
            <a:xfrm>
              <a:off x="467280" y="609480"/>
              <a:ext cx="8281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範例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給一如下的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×4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子影像，利用平滑法去除雜訊後，所得的影像為何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3" descr="Fig02-01"/>
            <p:cNvPicPr/>
            <p:nvPr/>
          </p:nvPicPr>
          <p:blipFill>
            <a:blip r:embed="rId1"/>
            <a:stretch/>
          </p:blipFill>
          <p:spPr>
            <a:xfrm>
              <a:off x="3429000" y="1066680"/>
              <a:ext cx="228600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Fig02-02"/>
            <p:cNvPicPr/>
            <p:nvPr/>
          </p:nvPicPr>
          <p:blipFill>
            <a:blip r:embed="rId2"/>
            <a:stretch/>
          </p:blipFill>
          <p:spPr>
            <a:xfrm>
              <a:off x="3429000" y="3733920"/>
              <a:ext cx="2286000" cy="21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8"/>
            <p:cNvSpPr/>
            <p:nvPr/>
          </p:nvSpPr>
          <p:spPr>
            <a:xfrm>
              <a:off x="467280" y="2971800"/>
              <a:ext cx="822312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進行平滑動作，得影像如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9"/>
            <p:cNvSpPr/>
            <p:nvPr/>
          </p:nvSpPr>
          <p:spPr>
            <a:xfrm>
              <a:off x="681480" y="594360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5724720" y="45846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平滑過的灰階值有經過</a:t>
              </a:r>
              <a:r>
                <a:rPr b="0" lang="zh-TW" sz="2400" spc="-1" strike="noStrike">
                  <a:solidFill>
                    <a:srgbClr val="ff0000"/>
                  </a:solidFill>
                  <a:latin typeface="Arial"/>
                </a:rPr>
                <a:t>四捨五入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5F0F-8DA2-4A38-9B45-8E2E93956C7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群組 9"/>
          <p:cNvGrpSpPr/>
          <p:nvPr/>
        </p:nvGrpSpPr>
        <p:grpSpPr>
          <a:xfrm>
            <a:off x="322920" y="685800"/>
            <a:ext cx="8821080" cy="5686920"/>
            <a:chOff x="322920" y="685800"/>
            <a:chExt cx="8821080" cy="5686920"/>
          </a:xfrm>
        </p:grpSpPr>
        <p:sp>
          <p:nvSpPr>
            <p:cNvPr id="148" name="Text Box 2050"/>
            <p:cNvSpPr/>
            <p:nvPr/>
          </p:nvSpPr>
          <p:spPr>
            <a:xfrm>
              <a:off x="322920" y="685800"/>
              <a:ext cx="882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範例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如何針對邊緣像素進行平滑法的雜訊去除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解答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將邊緣像素複製一次，原影像被放大成如下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×6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影像：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2052" descr="Fig02-03"/>
            <p:cNvPicPr/>
            <p:nvPr/>
          </p:nvPicPr>
          <p:blipFill>
            <a:blip r:embed="rId1"/>
            <a:stretch/>
          </p:blipFill>
          <p:spPr>
            <a:xfrm>
              <a:off x="990000" y="2819520"/>
              <a:ext cx="3276720" cy="31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2054"/>
            <p:cNvSpPr/>
            <p:nvPr/>
          </p:nvSpPr>
          <p:spPr>
            <a:xfrm>
              <a:off x="4787640" y="2276280"/>
              <a:ext cx="353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經平滑動作後，</a:t>
              </a:r>
              <a:br>
                <a:rPr sz="2200"/>
              </a:b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可得下列結果：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2055" descr="Fig02-04"/>
            <p:cNvPicPr/>
            <p:nvPr/>
          </p:nvPicPr>
          <p:blipFill>
            <a:blip r:embed="rId2"/>
            <a:stretch/>
          </p:blipFill>
          <p:spPr>
            <a:xfrm>
              <a:off x="5181480" y="3200400"/>
              <a:ext cx="2895840" cy="27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2057"/>
            <p:cNvSpPr/>
            <p:nvPr/>
          </p:nvSpPr>
          <p:spPr>
            <a:xfrm>
              <a:off x="537120" y="594360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DF5E-49B1-481E-A828-47D59D7F99F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群組 13"/>
          <p:cNvGrpSpPr/>
          <p:nvPr/>
        </p:nvGrpSpPr>
        <p:grpSpPr>
          <a:xfrm>
            <a:off x="614880" y="620640"/>
            <a:ext cx="7917840" cy="5839560"/>
            <a:chOff x="614880" y="620640"/>
            <a:chExt cx="7917840" cy="5839560"/>
          </a:xfrm>
        </p:grpSpPr>
        <p:sp>
          <p:nvSpPr>
            <p:cNvPr id="155" name="Text Box 2"/>
            <p:cNvSpPr/>
            <p:nvPr/>
          </p:nvSpPr>
          <p:spPr>
            <a:xfrm>
              <a:off x="1275480" y="620640"/>
              <a:ext cx="506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範例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新細明體"/>
                </a:rPr>
                <a:t>：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如何降低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duce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相鄰兩個平滑運算的計算量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解答</a:t>
              </a:r>
              <a:r>
                <a:rPr b="0" lang="en-US" sz="2200" spc="-1" strike="noStrike">
                  <a:solidFill>
                    <a:srgbClr val="000000"/>
                  </a:solidFill>
                  <a:latin typeface="新細明體"/>
                </a:rPr>
                <a:t>：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3" descr="Fig02-05"/>
            <p:cNvPicPr/>
            <p:nvPr/>
          </p:nvPicPr>
          <p:blipFill>
            <a:blip r:embed="rId1"/>
            <a:stretch/>
          </p:blipFill>
          <p:spPr>
            <a:xfrm>
              <a:off x="2629080" y="1284120"/>
              <a:ext cx="44960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/>
            <p:cNvSpPr/>
            <p:nvPr/>
          </p:nvSpPr>
          <p:spPr>
            <a:xfrm>
              <a:off x="750960" y="3440160"/>
              <a:ext cx="233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下列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×2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視窗是重覆的：</a:t>
              </a: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6" descr="Fig02-06"/>
            <p:cNvPicPr/>
            <p:nvPr/>
          </p:nvPicPr>
          <p:blipFill>
            <a:blip r:embed="rId2"/>
            <a:stretch/>
          </p:blipFill>
          <p:spPr>
            <a:xfrm>
              <a:off x="1295280" y="4092840"/>
              <a:ext cx="13064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8"/>
            <p:cNvSpPr/>
            <p:nvPr/>
          </p:nvSpPr>
          <p:spPr>
            <a:xfrm>
              <a:off x="2789280" y="4237200"/>
              <a:ext cx="57434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為了降低計算量，                        在第一個平滑運算中可以被保留下來，以便在第二個平滑運算時繼續使用。</a:t>
              </a:r>
              <a:r>
                <a:rPr b="0" lang="zh-TW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Object 9"/>
            <p:cNvGraphicFramePr/>
            <p:nvPr/>
          </p:nvGraphicFramePr>
          <p:xfrm>
            <a:off x="5237280" y="4237200"/>
            <a:ext cx="1468440" cy="67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1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37280" y="4237200"/>
                      <a:ext cx="146844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13"/>
            <p:cNvSpPr/>
            <p:nvPr/>
          </p:nvSpPr>
          <p:spPr>
            <a:xfrm>
              <a:off x="614880" y="603108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E7F-482B-4925-9149-FBE427CCFE8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6"/>
          <p:cNvGrpSpPr/>
          <p:nvPr/>
        </p:nvGrpSpPr>
        <p:grpSpPr>
          <a:xfrm>
            <a:off x="380880" y="533520"/>
            <a:ext cx="8007480" cy="822240"/>
            <a:chOff x="380880" y="533520"/>
            <a:chExt cx="8007480" cy="822240"/>
          </a:xfrm>
        </p:grpSpPr>
        <p:sp>
          <p:nvSpPr>
            <p:cNvPr id="165" name="Rectangle 65"/>
            <p:cNvSpPr/>
            <p:nvPr/>
          </p:nvSpPr>
          <p:spPr>
            <a:xfrm>
              <a:off x="380880" y="594000"/>
              <a:ext cx="7671960" cy="7617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"/>
            <p:cNvSpPr/>
            <p:nvPr/>
          </p:nvSpPr>
          <p:spPr>
            <a:xfrm>
              <a:off x="380880" y="533520"/>
              <a:ext cx="800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定理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2.1.  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平滑法作用到影像後，的確可將原影像的標準差予以有效降低。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新細明體"/>
                </a:rPr>
                <a:t>詳見本書證明</a:t>
              </a:r>
              <a:r>
                <a:rPr b="0" lang="en-US" sz="2400" spc="-1" strike="noStrike">
                  <a:solidFill>
                    <a:srgbClr val="000000"/>
                  </a:solidFill>
                  <a:latin typeface="新細明體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Object 31"/>
          <p:cNvGraphicFramePr/>
          <p:nvPr/>
        </p:nvGraphicFramePr>
        <p:xfrm>
          <a:off x="3166920" y="2708280"/>
          <a:ext cx="273528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708280"/>
                    <a:ext cx="27352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0"/>
          <p:cNvGraphicFramePr/>
          <p:nvPr/>
        </p:nvGraphicFramePr>
        <p:xfrm>
          <a:off x="3100320" y="3645000"/>
          <a:ext cx="27907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0320" y="3645000"/>
                    <a:ext cx="2790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9"/>
          <p:cNvSpPr/>
          <p:nvPr/>
        </p:nvSpPr>
        <p:spPr>
          <a:xfrm>
            <a:off x="0" y="462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529920" y="37339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的平均值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3"/>
          <p:cNvSpPr/>
          <p:nvPr/>
        </p:nvSpPr>
        <p:spPr>
          <a:xfrm>
            <a:off x="529920" y="455616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TW" sz="2000" spc="-1" strike="noStrike">
                <a:solidFill>
                  <a:srgbClr val="000000"/>
                </a:solidFill>
                <a:latin typeface="新細明體"/>
              </a:rPr>
              <a:t>的變異數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9"/>
          <p:cNvSpPr/>
          <p:nvPr/>
        </p:nvSpPr>
        <p:spPr>
          <a:xfrm>
            <a:off x="35193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361008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50"/>
          <p:cNvGraphicFramePr/>
          <p:nvPr/>
        </p:nvGraphicFramePr>
        <p:xfrm>
          <a:off x="1908000" y="4437000"/>
          <a:ext cx="60930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437000"/>
                    <a:ext cx="6093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54"/>
          <p:cNvSpPr/>
          <p:nvPr/>
        </p:nvSpPr>
        <p:spPr>
          <a:xfrm>
            <a:off x="324000" y="5373720"/>
            <a:ext cx="8272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在上述的特殊分布假設下，平滑法的標準差為單一像素的標準差之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59"/>
              <p:cNvSpPr txBox="1"/>
              <p:nvPr/>
            </p:nvSpPr>
            <p:spPr>
              <a:xfrm>
                <a:off x="4950000" y="1484280"/>
                <a:ext cx="279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1"/>
              <p:cNvSpPr txBox="1"/>
              <p:nvPr/>
            </p:nvSpPr>
            <p:spPr>
              <a:xfrm>
                <a:off x="1403280" y="1932120"/>
                <a:ext cx="1067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81" name="Object 63"/>
          <p:cNvGraphicFramePr/>
          <p:nvPr/>
        </p:nvGraphicFramePr>
        <p:xfrm>
          <a:off x="3708360" y="1916280"/>
          <a:ext cx="990720" cy="66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2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1916280"/>
                    <a:ext cx="99072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68"/>
          <p:cNvSpPr/>
          <p:nvPr/>
        </p:nvSpPr>
        <p:spPr>
          <a:xfrm>
            <a:off x="7983720" y="4549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(2.2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字方塊 26"/>
          <p:cNvSpPr/>
          <p:nvPr/>
        </p:nvSpPr>
        <p:spPr>
          <a:xfrm>
            <a:off x="395280" y="1484280"/>
            <a:ext cx="489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假設　　　　　　　            ，並假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70"/>
              <p:cNvSpPr txBox="1"/>
              <p:nvPr/>
            </p:nvSpPr>
            <p:spPr>
              <a:xfrm>
                <a:off x="1116000" y="1528920"/>
                <a:ext cx="2786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文字方塊 28"/>
          <p:cNvSpPr/>
          <p:nvPr/>
        </p:nvSpPr>
        <p:spPr>
          <a:xfrm>
            <a:off x="395280" y="2060640"/>
            <a:ext cx="453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則得到　　　　 ，也就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7604-7A5F-4B03-BF07-FCE4B9988E5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定理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2.2.1.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若面罩變大，標準差將下降；計算量也會增大，且有模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Blurred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現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/>
  <dc:description/>
  <dc:language>en-US</dc:language>
  <cp:lastModifiedBy>Mirrorchiu</cp:lastModifiedBy>
  <dcterms:modified xsi:type="dcterms:W3CDTF">2012-05-02T09:31:11Z</dcterms:modified>
  <cp:revision>340</cp:revision>
  <dc:subject/>
  <dc:title>第二章  影像品質的改善與回復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