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8.png" ContentType="image/png"/>
  <Override PartName="/ppt/media/image70.wmf" ContentType="image/x-wmf"/>
  <Override PartName="/ppt/media/image50.wmf" ContentType="image/x-wmf"/>
  <Override PartName="/ppt/media/image47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58.png" ContentType="image/png"/>
  <Override PartName="/ppt/media/image14.wmf" ContentType="image/x-wmf"/>
  <Override PartName="/ppt/media/image57.png" ContentType="image/png"/>
  <Override PartName="/ppt/media/image2.wmf" ContentType="image/x-wmf"/>
  <Override PartName="/ppt/media/image71.png" ContentType="image/png"/>
  <Override PartName="/ppt/media/image69.wmf" ContentType="image/x-wmf"/>
  <Override PartName="/ppt/media/image32.wmf" ContentType="image/x-wmf"/>
  <Override PartName="/ppt/media/image25.wmf" ContentType="image/x-wmf"/>
  <Override PartName="/ppt/media/image24.wmf" ContentType="image/x-wmf"/>
  <Override PartName="/ppt/media/image16.wmf" ContentType="image/x-wmf"/>
  <Override PartName="/ppt/media/image72.jpeg" ContentType="image/jpeg"/>
  <Override PartName="/ppt/media/image8.wmf" ContentType="image/x-wmf"/>
  <Override PartName="/ppt/media/image38.wmf" ContentType="image/x-wmf"/>
  <Override PartName="/ppt/media/image63.png" ContentType="image/png"/>
  <Override PartName="/ppt/media/image20.wmf" ContentType="image/x-wmf"/>
  <Override PartName="/ppt/media/image26.jpeg" ContentType="image/jpeg"/>
  <Override PartName="/ppt/media/image23.wmf" ContentType="image/x-wmf"/>
  <Override PartName="/ppt/media/image62.png" ContentType="image/png"/>
  <Override PartName="/ppt/media/image68.wmf" ContentType="image/x-wmf"/>
  <Override PartName="/ppt/media/image61.jpeg" ContentType="image/jpeg"/>
  <Override PartName="/ppt/media/image31.wmf" ContentType="image/x-wmf"/>
  <Override PartName="/ppt/media/image67.wmf" ContentType="image/x-wmf"/>
  <Override PartName="/ppt/media/image27.png" ContentType="image/png"/>
  <Override PartName="/ppt/media/image30.wmf" ContentType="image/x-wmf"/>
  <Override PartName="/ppt/media/image66.wmf" ContentType="image/x-wmf"/>
  <Override PartName="/ppt/media/image65.wmf" ContentType="image/x-wmf"/>
  <Override PartName="/ppt/media/image22.wmf" ContentType="image/x-wmf"/>
  <Override PartName="/ppt/media/image64.png" ContentType="image/png"/>
  <Override PartName="/ppt/media/image21.wmf" ContentType="image/x-wmf"/>
  <Override PartName="/ppt/media/image60.jpeg" ContentType="image/jpeg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19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1.wmf" ContentType="image/x-wmf"/>
  <Override PartName="/ppt/media/image56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34.wmf" ContentType="image/x-wmf"/>
  <Override PartName="/ppt/media/image37.png" ContentType="image/png"/>
  <Override PartName="/ppt/media/image59.jpeg" ContentType="image/jpeg"/>
  <Override PartName="/ppt/media/image40.wmf" ContentType="image/x-wmf"/>
  <Override PartName="/ppt/media/image41.wmf" ContentType="image/x-wmf"/>
  <Override PartName="/ppt/media/image4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1ABF-77AF-4197-B914-278CCBC8E22B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08A9-1B84-49BB-9460-170CBE93306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ADB9-E555-4479-AE9A-B6A70019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05B6-78C4-4173-93E4-F512EC42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F108-7809-41BF-ACEA-8098C3B2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02E0-C251-4DA4-BBDF-7E0090A1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9230-6F8D-4BE1-9376-0C7ABBE6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8EF0-4858-4B0A-AB18-88BE779A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075B-676C-49AA-BCA1-237A5084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F378-EB5A-4E9D-9573-606E31CB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0747-A3E2-4CB8-B134-14401697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259C-1D9E-4908-A89F-A3627C9D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9F42-8AF5-46B0-ADB4-C7F49B3C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4CB4E-FF5D-4E16-A00A-2B0B6DF4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90A9-5D41-4CF6-B12C-AB554E62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F742-FF85-467D-BADB-8ECE70E0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F2AC-F935-428B-82D3-D7844A3F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9F5A-8825-4B25-8ABB-B2242B07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D672-9FF9-49C4-8B24-7B4952C9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A7CA-081A-4457-9A6A-8E41FF41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0A9C4-1C0F-4238-9375-948F463B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E514-0DC1-4775-A694-575644FB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A0C39-27C1-4C13-8853-532ADA0D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50914-6F79-47C7-B8C2-6DA08D66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CF9B2-8003-4C9B-965E-B683DFBC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59952-24BA-4794-B02C-DE89DB75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82B7-A253-42D8-910A-34F822BCBA3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1027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028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1029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1030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1031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1032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33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34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035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036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037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038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039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F12E-9E2B-43BE-87E0-58755EE3FA3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0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0.wmf"/><Relationship Id="rId3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image" Target="../media/image47.png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4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8DEE-9C60-4F78-8D15-8A0936E036E8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65000" y="1866960"/>
            <a:ext cx="7443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ffffff"/>
                </a:solidFill>
                <a:latin typeface="Times New Roman"/>
              </a:rPr>
              <a:t>第十三章</a:t>
            </a:r>
            <a:br>
              <a:rPr sz="4300"/>
            </a:br>
            <a:r>
              <a:rPr b="1" lang="zh-TW" sz="5000" spc="-1" strike="noStrike">
                <a:solidFill>
                  <a:srgbClr val="ffffff"/>
                </a:solidFill>
                <a:latin typeface="Arial"/>
              </a:rPr>
              <a:t>彩色影像處理</a:t>
            </a:r>
            <a:r>
              <a:rPr b="0" lang="zh-TW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196E-F090-4613-AD2B-D0104009B51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28480" y="688680"/>
            <a:ext cx="7715520" cy="19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：改變調色盤圖表中的顏色及對應關係，是否可達到壓縮效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2200"/>
            </a:br>
            <a:br>
              <a:rPr sz="2200"/>
            </a:b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PEG-LS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壓縮標準中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4"/>
          <p:cNvGraphicFramePr/>
          <p:nvPr/>
        </p:nvGraphicFramePr>
        <p:xfrm>
          <a:off x="1403280" y="2852640"/>
          <a:ext cx="6234120" cy="28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852640"/>
                    <a:ext cx="623412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383B-BC24-4B60-8D7B-12C14E3FAC40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39640" y="9921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3.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編號圖改變成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3.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編號圖，的確可達到鄰近像素值較接近的效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498680" y="2408400"/>
          <a:ext cx="1728720" cy="148248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1640"/>
                <a:gridCol w="433440"/>
              </a:tblGrid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Rectangle 7"/>
          <p:cNvSpPr/>
          <p:nvPr/>
        </p:nvSpPr>
        <p:spPr>
          <a:xfrm>
            <a:off x="706320" y="4006440"/>
            <a:ext cx="32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3.3.5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改良後的編號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954680" y="2046240"/>
          <a:ext cx="2808360" cy="185436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703080"/>
                <a:gridCol w="7020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編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Rectangle 8"/>
          <p:cNvSpPr/>
          <p:nvPr/>
        </p:nvSpPr>
        <p:spPr>
          <a:xfrm>
            <a:off x="5204880" y="3992040"/>
            <a:ext cx="235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3.3.6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改良後的對應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文字方塊 6"/>
          <p:cNvSpPr/>
          <p:nvPr/>
        </p:nvSpPr>
        <p:spPr>
          <a:xfrm>
            <a:off x="468360" y="4869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836640"/>
            <a:ext cx="7848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：利用圖論的技巧設計出有效的調色盤對應關係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假設某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×4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子影像經調色盤的對應轉換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依據列優先的掃描次序，我們得到序列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, 3, 3, 2, 2, 1, 1, 1, 2, 1, 0, 0, 3, 3, 0, 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〉。可得到下列的兩兩關係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BA82-1651-4FEF-A4DD-E5049070DD0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780000" y="2060640"/>
          <a:ext cx="1439640" cy="12970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23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348000" y="4292640"/>
          <a:ext cx="2087640" cy="1854000"/>
        </p:xfrm>
        <a:graphic>
          <a:graphicData uri="http://schemas.openxmlformats.org/drawingml/2006/table">
            <a:tbl>
              <a:tblPr/>
              <a:tblGrid>
                <a:gridCol w="417600"/>
                <a:gridCol w="417600"/>
                <a:gridCol w="417240"/>
                <a:gridCol w="417600"/>
                <a:gridCol w="4176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68360" y="549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述的兩兩關係圖可表示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找出一條最重的漢彌頓路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eaviest Hamiltonian Pat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如此一來，我們就取得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1, 2, 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〉和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3, 2, 1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〉的對應了。依據此調色盤新的對應關係，原子影像就可以轉換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就左預測而言，上述的新調色盤對應關係可達到較好的壓縮效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475B-EE46-4883-9F10-A728F2687C0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7"/>
          <p:cNvGrpSpPr/>
          <p:nvPr/>
        </p:nvGrpSpPr>
        <p:grpSpPr>
          <a:xfrm>
            <a:off x="3203640" y="836640"/>
            <a:ext cx="2057400" cy="1600200"/>
            <a:chOff x="3203640" y="836640"/>
            <a:chExt cx="2057400" cy="1600200"/>
          </a:xfrm>
        </p:grpSpPr>
        <p:sp>
          <p:nvSpPr>
            <p:cNvPr id="219" name="AutoShape 8"/>
            <p:cNvSpPr/>
            <p:nvPr/>
          </p:nvSpPr>
          <p:spPr>
            <a:xfrm>
              <a:off x="3203640" y="836640"/>
              <a:ext cx="20574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9"/>
            <p:cNvSpPr/>
            <p:nvPr/>
          </p:nvSpPr>
          <p:spPr>
            <a:xfrm>
              <a:off x="3546360" y="1064880"/>
              <a:ext cx="34200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10"/>
            <p:cNvSpPr/>
            <p:nvPr/>
          </p:nvSpPr>
          <p:spPr>
            <a:xfrm>
              <a:off x="3547080" y="1979640"/>
              <a:ext cx="34200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4804560" y="1064880"/>
              <a:ext cx="34200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2"/>
            <p:cNvSpPr/>
            <p:nvPr/>
          </p:nvSpPr>
          <p:spPr>
            <a:xfrm>
              <a:off x="4803840" y="1979640"/>
              <a:ext cx="34200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3717720" y="1407960"/>
              <a:ext cx="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3889440" y="2150640"/>
              <a:ext cx="914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4988520" y="1407960"/>
              <a:ext cx="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>
              <a:off x="3889440" y="1249920"/>
              <a:ext cx="914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 flipH="1">
              <a:off x="3832920" y="1365480"/>
              <a:ext cx="10364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8"/>
            <p:cNvSpPr/>
            <p:nvPr/>
          </p:nvSpPr>
          <p:spPr>
            <a:xfrm>
              <a:off x="4118040" y="951480"/>
              <a:ext cx="22824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19"/>
            <p:cNvSpPr/>
            <p:nvPr/>
          </p:nvSpPr>
          <p:spPr>
            <a:xfrm>
              <a:off x="4118040" y="2094120"/>
              <a:ext cx="22824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0"/>
            <p:cNvSpPr/>
            <p:nvPr/>
          </p:nvSpPr>
          <p:spPr>
            <a:xfrm>
              <a:off x="3431880" y="1522440"/>
              <a:ext cx="22860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1"/>
            <p:cNvSpPr/>
            <p:nvPr/>
          </p:nvSpPr>
          <p:spPr>
            <a:xfrm>
              <a:off x="4918320" y="1522440"/>
              <a:ext cx="22824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2"/>
            <p:cNvSpPr/>
            <p:nvPr/>
          </p:nvSpPr>
          <p:spPr>
            <a:xfrm>
              <a:off x="4841280" y="1064880"/>
              <a:ext cx="22860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3"/>
            <p:cNvSpPr/>
            <p:nvPr/>
          </p:nvSpPr>
          <p:spPr>
            <a:xfrm>
              <a:off x="4841280" y="1980360"/>
              <a:ext cx="22860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4"/>
            <p:cNvSpPr/>
            <p:nvPr/>
          </p:nvSpPr>
          <p:spPr>
            <a:xfrm>
              <a:off x="3584520" y="1065600"/>
              <a:ext cx="22860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5"/>
            <p:cNvSpPr/>
            <p:nvPr/>
          </p:nvSpPr>
          <p:spPr>
            <a:xfrm>
              <a:off x="3584520" y="1980360"/>
              <a:ext cx="22860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6"/>
            <p:cNvSpPr/>
            <p:nvPr/>
          </p:nvSpPr>
          <p:spPr>
            <a:xfrm>
              <a:off x="4575240" y="1407960"/>
              <a:ext cx="22824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7"/>
            <p:cNvSpPr/>
            <p:nvPr/>
          </p:nvSpPr>
          <p:spPr>
            <a:xfrm>
              <a:off x="3774960" y="1407960"/>
              <a:ext cx="22860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Rectangle 53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2700360" y="2781360"/>
            <a:ext cx="3085920" cy="342720"/>
            <a:chOff x="2700360" y="2781360"/>
            <a:chExt cx="3085920" cy="342720"/>
          </a:xfrm>
        </p:grpSpPr>
        <p:sp>
          <p:nvSpPr>
            <p:cNvPr id="241" name="AutoShape 52"/>
            <p:cNvSpPr/>
            <p:nvPr/>
          </p:nvSpPr>
          <p:spPr>
            <a:xfrm>
              <a:off x="2700360" y="2781360"/>
              <a:ext cx="3085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2928600" y="2781360"/>
              <a:ext cx="34200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Oval 50"/>
            <p:cNvSpPr/>
            <p:nvPr/>
          </p:nvSpPr>
          <p:spPr>
            <a:xfrm>
              <a:off x="3729600" y="2781360"/>
              <a:ext cx="34200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Oval 49"/>
            <p:cNvSpPr/>
            <p:nvPr/>
          </p:nvSpPr>
          <p:spPr>
            <a:xfrm>
              <a:off x="4529160" y="2781360"/>
              <a:ext cx="34200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Oval 48"/>
            <p:cNvSpPr/>
            <p:nvPr/>
          </p:nvSpPr>
          <p:spPr>
            <a:xfrm>
              <a:off x="5329800" y="2781360"/>
              <a:ext cx="34200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47"/>
            <p:cNvSpPr/>
            <p:nvPr/>
          </p:nvSpPr>
          <p:spPr>
            <a:xfrm>
              <a:off x="2970000" y="2781360"/>
              <a:ext cx="22824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46"/>
            <p:cNvSpPr/>
            <p:nvPr/>
          </p:nvSpPr>
          <p:spPr>
            <a:xfrm>
              <a:off x="5370840" y="2781720"/>
              <a:ext cx="22824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45"/>
            <p:cNvSpPr/>
            <p:nvPr/>
          </p:nvSpPr>
          <p:spPr>
            <a:xfrm>
              <a:off x="4572000" y="2781720"/>
              <a:ext cx="22860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44"/>
            <p:cNvSpPr/>
            <p:nvPr/>
          </p:nvSpPr>
          <p:spPr>
            <a:xfrm>
              <a:off x="3772800" y="2781360"/>
              <a:ext cx="22824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43"/>
            <p:cNvSpPr/>
            <p:nvPr/>
          </p:nvSpPr>
          <p:spPr>
            <a:xfrm>
              <a:off x="3271680" y="2966040"/>
              <a:ext cx="457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2"/>
            <p:cNvSpPr/>
            <p:nvPr/>
          </p:nvSpPr>
          <p:spPr>
            <a:xfrm>
              <a:off x="4071960" y="2966040"/>
              <a:ext cx="457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>
              <a:off x="4871880" y="2966040"/>
              <a:ext cx="457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Rectangle 58"/>
          <p:cNvSpPr/>
          <p:nvPr/>
        </p:nvSpPr>
        <p:spPr>
          <a:xfrm>
            <a:off x="0" y="6159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708360" y="3933720"/>
          <a:ext cx="1800360" cy="1584360"/>
        </p:xfrm>
        <a:graphic>
          <a:graphicData uri="http://schemas.openxmlformats.org/drawingml/2006/table">
            <a:tbl>
              <a:tblPr/>
              <a:tblGrid>
                <a:gridCol w="449280"/>
                <a:gridCol w="450720"/>
                <a:gridCol w="449280"/>
                <a:gridCol w="451080"/>
              </a:tblGrid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3.4 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彩色影像的測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E3F7-DD69-49E8-8C87-05754EA90FE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文字方塊 4"/>
          <p:cNvSpPr/>
          <p:nvPr/>
        </p:nvSpPr>
        <p:spPr>
          <a:xfrm>
            <a:off x="1042920" y="162864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4.1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改良式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witt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測邊算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3"/>
          <p:cNvSpPr/>
          <p:nvPr/>
        </p:nvSpPr>
        <p:spPr>
          <a:xfrm>
            <a:off x="0" y="501984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58"/>
          <p:cNvSpPr/>
          <p:nvPr/>
        </p:nvSpPr>
        <p:spPr>
          <a:xfrm>
            <a:off x="1403280" y="1989000"/>
            <a:ext cx="562932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群組 96"/>
          <p:cNvGrpSpPr/>
          <p:nvPr/>
        </p:nvGrpSpPr>
        <p:grpSpPr>
          <a:xfrm>
            <a:off x="1512720" y="2548080"/>
            <a:ext cx="5234040" cy="3473280"/>
            <a:chOff x="1512720" y="2548080"/>
            <a:chExt cx="5234040" cy="3473280"/>
          </a:xfrm>
        </p:grpSpPr>
        <p:sp>
          <p:nvSpPr>
            <p:cNvPr id="263" name="Rectangle 57"/>
            <p:cNvSpPr/>
            <p:nvPr/>
          </p:nvSpPr>
          <p:spPr>
            <a:xfrm>
              <a:off x="1734120" y="266004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56"/>
            <p:cNvSpPr/>
            <p:nvPr/>
          </p:nvSpPr>
          <p:spPr>
            <a:xfrm>
              <a:off x="1734120" y="332244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55"/>
            <p:cNvSpPr/>
            <p:nvPr/>
          </p:nvSpPr>
          <p:spPr>
            <a:xfrm>
              <a:off x="1734120" y="3984480"/>
              <a:ext cx="66312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54"/>
            <p:cNvSpPr/>
            <p:nvPr/>
          </p:nvSpPr>
          <p:spPr>
            <a:xfrm>
              <a:off x="2396520" y="266004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3"/>
            <p:cNvSpPr/>
            <p:nvPr/>
          </p:nvSpPr>
          <p:spPr>
            <a:xfrm>
              <a:off x="2396520" y="332244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52"/>
            <p:cNvSpPr/>
            <p:nvPr/>
          </p:nvSpPr>
          <p:spPr>
            <a:xfrm>
              <a:off x="2397240" y="3984480"/>
              <a:ext cx="66096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51"/>
            <p:cNvSpPr/>
            <p:nvPr/>
          </p:nvSpPr>
          <p:spPr>
            <a:xfrm>
              <a:off x="3058560" y="266004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0"/>
            <p:cNvSpPr/>
            <p:nvPr/>
          </p:nvSpPr>
          <p:spPr>
            <a:xfrm>
              <a:off x="3058560" y="332244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49"/>
            <p:cNvSpPr/>
            <p:nvPr/>
          </p:nvSpPr>
          <p:spPr>
            <a:xfrm>
              <a:off x="3058560" y="398448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48"/>
            <p:cNvSpPr/>
            <p:nvPr/>
          </p:nvSpPr>
          <p:spPr>
            <a:xfrm>
              <a:off x="4548600" y="266004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47"/>
            <p:cNvSpPr/>
            <p:nvPr/>
          </p:nvSpPr>
          <p:spPr>
            <a:xfrm>
              <a:off x="5211000" y="266004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46"/>
            <p:cNvSpPr/>
            <p:nvPr/>
          </p:nvSpPr>
          <p:spPr>
            <a:xfrm>
              <a:off x="4548600" y="332244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45"/>
            <p:cNvSpPr/>
            <p:nvPr/>
          </p:nvSpPr>
          <p:spPr>
            <a:xfrm>
              <a:off x="5873040" y="266004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44"/>
            <p:cNvSpPr/>
            <p:nvPr/>
          </p:nvSpPr>
          <p:spPr>
            <a:xfrm>
              <a:off x="5211000" y="332244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43"/>
            <p:cNvSpPr/>
            <p:nvPr/>
          </p:nvSpPr>
          <p:spPr>
            <a:xfrm>
              <a:off x="3058560" y="398448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42"/>
            <p:cNvSpPr/>
            <p:nvPr/>
          </p:nvSpPr>
          <p:spPr>
            <a:xfrm>
              <a:off x="5873040" y="332244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41"/>
            <p:cNvSpPr/>
            <p:nvPr/>
          </p:nvSpPr>
          <p:spPr>
            <a:xfrm>
              <a:off x="5873040" y="398448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40"/>
            <p:cNvSpPr/>
            <p:nvPr/>
          </p:nvSpPr>
          <p:spPr>
            <a:xfrm>
              <a:off x="5211000" y="398448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39"/>
            <p:cNvSpPr/>
            <p:nvPr/>
          </p:nvSpPr>
          <p:spPr>
            <a:xfrm>
              <a:off x="4548600" y="3984480"/>
              <a:ext cx="662040" cy="66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37"/>
            <p:cNvSpPr/>
            <p:nvPr/>
          </p:nvSpPr>
          <p:spPr>
            <a:xfrm>
              <a:off x="1734120" y="2548080"/>
              <a:ext cx="59580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35"/>
            <p:cNvSpPr/>
            <p:nvPr/>
          </p:nvSpPr>
          <p:spPr>
            <a:xfrm>
              <a:off x="1734120" y="3241440"/>
              <a:ext cx="59580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33"/>
            <p:cNvSpPr/>
            <p:nvPr/>
          </p:nvSpPr>
          <p:spPr>
            <a:xfrm>
              <a:off x="1734120" y="3903480"/>
              <a:ext cx="59580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31"/>
            <p:cNvSpPr/>
            <p:nvPr/>
          </p:nvSpPr>
          <p:spPr>
            <a:xfrm>
              <a:off x="4548600" y="2548080"/>
              <a:ext cx="596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29"/>
            <p:cNvSpPr/>
            <p:nvPr/>
          </p:nvSpPr>
          <p:spPr>
            <a:xfrm>
              <a:off x="5211000" y="2548080"/>
              <a:ext cx="596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27"/>
            <p:cNvSpPr/>
            <p:nvPr/>
          </p:nvSpPr>
          <p:spPr>
            <a:xfrm>
              <a:off x="5873040" y="2548080"/>
              <a:ext cx="59688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19"/>
            <p:cNvSpPr/>
            <p:nvPr/>
          </p:nvSpPr>
          <p:spPr>
            <a:xfrm>
              <a:off x="3165480" y="2548080"/>
              <a:ext cx="47160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7"/>
            <p:cNvSpPr/>
            <p:nvPr/>
          </p:nvSpPr>
          <p:spPr>
            <a:xfrm>
              <a:off x="3165480" y="3243240"/>
              <a:ext cx="47160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5"/>
            <p:cNvSpPr/>
            <p:nvPr/>
          </p:nvSpPr>
          <p:spPr>
            <a:xfrm>
              <a:off x="3165480" y="3905280"/>
              <a:ext cx="47160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Text Box 13"/>
            <p:cNvSpPr/>
            <p:nvPr/>
          </p:nvSpPr>
          <p:spPr>
            <a:xfrm>
              <a:off x="4624920" y="3905280"/>
              <a:ext cx="4680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11"/>
            <p:cNvSpPr/>
            <p:nvPr/>
          </p:nvSpPr>
          <p:spPr>
            <a:xfrm>
              <a:off x="5292720" y="3905280"/>
              <a:ext cx="4680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5955120" y="3905280"/>
              <a:ext cx="4680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1512720" y="4821480"/>
              <a:ext cx="2430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水平面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4316760" y="4821480"/>
              <a:ext cx="2430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垂直面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群組 79"/>
            <p:cNvGrpSpPr/>
            <p:nvPr/>
          </p:nvGrpSpPr>
          <p:grpSpPr>
            <a:xfrm>
              <a:off x="1910160" y="2679480"/>
              <a:ext cx="1572480" cy="1920600"/>
              <a:chOff x="1910160" y="2679480"/>
              <a:chExt cx="1572480" cy="1920600"/>
            </a:xfrm>
          </p:grpSpPr>
          <p:graphicFrame>
            <p:nvGraphicFramePr>
              <p:cNvPr id="297" name="Object 80"/>
              <p:cNvGraphicFramePr/>
              <p:nvPr/>
            </p:nvGraphicFramePr>
            <p:xfrm>
              <a:off x="3280320" y="2679480"/>
              <a:ext cx="202320" cy="570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98" name="Object 8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280320" y="2679480"/>
                        <a:ext cx="20232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9" name="Object 81"/>
              <p:cNvGraphicFramePr/>
              <p:nvPr/>
            </p:nvGraphicFramePr>
            <p:xfrm>
              <a:off x="3280320" y="4029840"/>
              <a:ext cx="202320" cy="570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00" name="Object 81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280320" y="4029840"/>
                        <a:ext cx="20232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1" name="Object 82"/>
              <p:cNvGraphicFramePr/>
              <p:nvPr/>
            </p:nvGraphicFramePr>
            <p:xfrm>
              <a:off x="3280320" y="3344760"/>
              <a:ext cx="202320" cy="5702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02" name="Object 82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280320" y="3344760"/>
                        <a:ext cx="20232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3" name="Object 83"/>
              <p:cNvGraphicFramePr/>
              <p:nvPr/>
            </p:nvGraphicFramePr>
            <p:xfrm>
              <a:off x="1910160" y="2718360"/>
              <a:ext cx="349200" cy="570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04" name="Object 8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910160" y="2718360"/>
                        <a:ext cx="34920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5" name="Object 86"/>
              <p:cNvGraphicFramePr/>
              <p:nvPr/>
            </p:nvGraphicFramePr>
            <p:xfrm>
              <a:off x="1924560" y="3344760"/>
              <a:ext cx="349200" cy="570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06" name="Object 8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924560" y="3344760"/>
                        <a:ext cx="34920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7" name="Object 87"/>
              <p:cNvGraphicFramePr/>
              <p:nvPr/>
            </p:nvGraphicFramePr>
            <p:xfrm>
              <a:off x="1924560" y="4010040"/>
              <a:ext cx="349200" cy="5702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08" name="Object 8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924560" y="4010040"/>
                        <a:ext cx="34920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09" name="群組 86"/>
            <p:cNvGrpSpPr/>
            <p:nvPr/>
          </p:nvGrpSpPr>
          <p:grpSpPr>
            <a:xfrm>
              <a:off x="4723920" y="2718720"/>
              <a:ext cx="1665720" cy="1906560"/>
              <a:chOff x="4723920" y="2718720"/>
              <a:chExt cx="1665720" cy="1906560"/>
            </a:xfrm>
          </p:grpSpPr>
          <p:graphicFrame>
            <p:nvGraphicFramePr>
              <p:cNvPr id="310" name="Object 88"/>
              <p:cNvGraphicFramePr/>
              <p:nvPr/>
            </p:nvGraphicFramePr>
            <p:xfrm>
              <a:off x="5477040" y="4055040"/>
              <a:ext cx="202320" cy="5702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11" name="Object 88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77040" y="4055040"/>
                        <a:ext cx="20232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2" name="Object 89"/>
              <p:cNvGraphicFramePr/>
              <p:nvPr/>
            </p:nvGraphicFramePr>
            <p:xfrm>
              <a:off x="6136200" y="4055040"/>
              <a:ext cx="202320" cy="5702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313" name="Object 89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136200" y="4055040"/>
                        <a:ext cx="20232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4" name="Object 90"/>
              <p:cNvGraphicFramePr/>
              <p:nvPr/>
            </p:nvGraphicFramePr>
            <p:xfrm>
              <a:off x="4791960" y="4055040"/>
              <a:ext cx="202320" cy="57024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15" name="Object 90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791960" y="4055040"/>
                        <a:ext cx="20232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Object 91"/>
              <p:cNvGraphicFramePr/>
              <p:nvPr/>
            </p:nvGraphicFramePr>
            <p:xfrm>
              <a:off x="6040440" y="2718720"/>
              <a:ext cx="349200" cy="57024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317" name="Object 91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6040440" y="2718720"/>
                        <a:ext cx="34920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8" name="Object 92"/>
              <p:cNvGraphicFramePr/>
              <p:nvPr/>
            </p:nvGraphicFramePr>
            <p:xfrm>
              <a:off x="5386320" y="2718720"/>
              <a:ext cx="349200" cy="57024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319" name="Object 92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5386320" y="2718720"/>
                        <a:ext cx="34920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20" name="Object 93"/>
              <p:cNvGraphicFramePr/>
              <p:nvPr/>
            </p:nvGraphicFramePr>
            <p:xfrm>
              <a:off x="4723920" y="2718720"/>
              <a:ext cx="349200" cy="5702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321" name="Object 93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4723920" y="2718720"/>
                        <a:ext cx="349200" cy="57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22" name="Text Box 8"/>
            <p:cNvSpPr/>
            <p:nvPr/>
          </p:nvSpPr>
          <p:spPr>
            <a:xfrm>
              <a:off x="1907280" y="5445360"/>
              <a:ext cx="475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4.4.1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修正式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Prewitt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測邊面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3" name="Object 94"/>
            <p:cNvGraphicFramePr/>
            <p:nvPr/>
          </p:nvGraphicFramePr>
          <p:xfrm>
            <a:off x="2637720" y="3513240"/>
            <a:ext cx="183960" cy="257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24" name="Object 94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637720" y="3513240"/>
                      <a:ext cx="183960" cy="25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Object 95"/>
            <p:cNvGraphicFramePr/>
            <p:nvPr/>
          </p:nvGraphicFramePr>
          <p:xfrm>
            <a:off x="2627280" y="2883600"/>
            <a:ext cx="183960" cy="257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26" name="Object 95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627280" y="2883600"/>
                      <a:ext cx="183960" cy="25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7" name="Object 96"/>
            <p:cNvGraphicFramePr/>
            <p:nvPr/>
          </p:nvGraphicFramePr>
          <p:xfrm>
            <a:off x="2645280" y="4179960"/>
            <a:ext cx="183960" cy="2570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28" name="Object 96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645280" y="4179960"/>
                      <a:ext cx="183960" cy="25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9" name="Object 97"/>
            <p:cNvGraphicFramePr/>
            <p:nvPr/>
          </p:nvGraphicFramePr>
          <p:xfrm>
            <a:off x="5435640" y="3537000"/>
            <a:ext cx="183960" cy="25704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330" name="Object 97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435640" y="3537000"/>
                      <a:ext cx="183960" cy="25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1" name="Object 98"/>
            <p:cNvGraphicFramePr/>
            <p:nvPr/>
          </p:nvGraphicFramePr>
          <p:xfrm>
            <a:off x="4787280" y="3537000"/>
            <a:ext cx="183960" cy="2570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332" name="Object 98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4787280" y="3537000"/>
                      <a:ext cx="183960" cy="25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3" name="Object 99"/>
            <p:cNvGraphicFramePr/>
            <p:nvPr/>
          </p:nvGraphicFramePr>
          <p:xfrm>
            <a:off x="6083640" y="3537000"/>
            <a:ext cx="183960" cy="25704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334" name="Object 99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083640" y="3537000"/>
                      <a:ext cx="183960" cy="25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6836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：利用改良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witt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測邊算子測得的水平反應值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和平均垂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反應值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來決定像素為可能邊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只需計算出合成的值即可，下式是常用的計算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邊的方向性也可透過下式求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52AB-EF62-4363-A835-16ABF9F9CD6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群組 7"/>
          <p:cNvGrpSpPr/>
          <p:nvPr/>
        </p:nvGrpSpPr>
        <p:grpSpPr>
          <a:xfrm>
            <a:off x="1908000" y="2492280"/>
            <a:ext cx="5507280" cy="552600"/>
            <a:chOff x="1908000" y="2492280"/>
            <a:chExt cx="5507280" cy="552600"/>
          </a:xfrm>
        </p:grpSpPr>
        <p:graphicFrame>
          <p:nvGraphicFramePr>
            <p:cNvPr id="339" name="Object 1"/>
            <p:cNvGraphicFramePr/>
            <p:nvPr/>
          </p:nvGraphicFramePr>
          <p:xfrm>
            <a:off x="1908000" y="2492280"/>
            <a:ext cx="3771360" cy="55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0" name="Object 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8000" y="2492280"/>
                      <a:ext cx="377136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Rectangle 3"/>
            <p:cNvSpPr/>
            <p:nvPr/>
          </p:nvSpPr>
          <p:spPr>
            <a:xfrm>
              <a:off x="5940000" y="2565000"/>
              <a:ext cx="147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13.4.1.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群組 11"/>
          <p:cNvGrpSpPr/>
          <p:nvPr/>
        </p:nvGrpSpPr>
        <p:grpSpPr>
          <a:xfrm>
            <a:off x="3203640" y="4365720"/>
            <a:ext cx="4176720" cy="828720"/>
            <a:chOff x="3203640" y="4365720"/>
            <a:chExt cx="4176720" cy="828720"/>
          </a:xfrm>
        </p:grpSpPr>
        <p:graphicFrame>
          <p:nvGraphicFramePr>
            <p:cNvPr id="344" name="Object 4"/>
            <p:cNvGraphicFramePr/>
            <p:nvPr/>
          </p:nvGraphicFramePr>
          <p:xfrm>
            <a:off x="3203640" y="4365720"/>
            <a:ext cx="2171880" cy="82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5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3640" y="4365720"/>
                      <a:ext cx="2171880" cy="82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Rectangle 6"/>
            <p:cNvSpPr/>
            <p:nvPr/>
          </p:nvSpPr>
          <p:spPr>
            <a:xfrm>
              <a:off x="6156360" y="458208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13.4.1.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B230-BBBB-4B59-BD0E-A78F0065EBF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：利用局部最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概念只濾出較細的邊出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1483920"/>
            <a:ext cx="7775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若一可能為邊點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同方向性的兩邊點其合成反應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皆小於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合成反應值，則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就可成為真正的邊點。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4.1.2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為此情形之示意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4"/>
          <p:cNvGraphicFramePr/>
          <p:nvPr/>
        </p:nvGraphicFramePr>
        <p:xfrm>
          <a:off x="1979640" y="2500200"/>
          <a:ext cx="5040360" cy="41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500200"/>
                    <a:ext cx="504036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5C9C-87CA-49ED-8FEA-7F45B994CD2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74760" y="90792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: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加強細邊的連結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inking Property)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則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加入細邊集中以便加強細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連結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字方塊 7"/>
          <p:cNvSpPr/>
          <p:nvPr/>
        </p:nvSpPr>
        <p:spPr>
          <a:xfrm>
            <a:off x="468360" y="5661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Object 14"/>
          <p:cNvGraphicFramePr/>
          <p:nvPr/>
        </p:nvGraphicFramePr>
        <p:xfrm>
          <a:off x="971640" y="1650960"/>
          <a:ext cx="1969920" cy="4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650960"/>
                    <a:ext cx="19699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Rectangle 1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Object 16"/>
          <p:cNvGraphicFramePr/>
          <p:nvPr/>
        </p:nvGraphicFramePr>
        <p:xfrm>
          <a:off x="3241800" y="2637000"/>
          <a:ext cx="2193840" cy="21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1800" y="2637000"/>
                    <a:ext cx="219384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18"/>
          <p:cNvSpPr/>
          <p:nvPr/>
        </p:nvSpPr>
        <p:spPr>
          <a:xfrm>
            <a:off x="3253680" y="4942440"/>
            <a:ext cx="25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4.1.3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加強細邊的連結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539640" y="144792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給一張輸入的彩色影像，如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4.1.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所示，利用上述的測邊法並細化邊圖，我們得到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4.1.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彩色測邊的結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EB92-1474-4E64-A34A-A31ACCBD074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實作結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jet"/>
          <p:cNvPicPr/>
          <p:nvPr/>
        </p:nvPicPr>
        <p:blipFill>
          <a:blip r:embed="rId1"/>
          <a:stretch/>
        </p:blipFill>
        <p:spPr>
          <a:xfrm>
            <a:off x="1547640" y="256536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jetedgeprewitt"/>
          <p:cNvPicPr/>
          <p:nvPr/>
        </p:nvPicPr>
        <p:blipFill>
          <a:blip r:embed="rId2"/>
          <a:stretch/>
        </p:blipFill>
        <p:spPr>
          <a:xfrm>
            <a:off x="4572000" y="2565360"/>
            <a:ext cx="2725560" cy="2725920"/>
          </a:xfrm>
          <a:prstGeom prst="rect">
            <a:avLst/>
          </a:prstGeom>
          <a:ln w="0">
            <a:noFill/>
          </a:ln>
        </p:spPr>
      </p:pic>
      <p:sp>
        <p:nvSpPr>
          <p:cNvPr id="369" name="矩形 10"/>
          <p:cNvSpPr/>
          <p:nvPr/>
        </p:nvSpPr>
        <p:spPr>
          <a:xfrm>
            <a:off x="1829520" y="5300640"/>
            <a:ext cx="21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4.1.4  F16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原影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矩形 11"/>
          <p:cNvSpPr/>
          <p:nvPr/>
        </p:nvSpPr>
        <p:spPr>
          <a:xfrm>
            <a:off x="4901040" y="5300640"/>
            <a:ext cx="22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4.1.5  F16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細化邊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9BF9-8EA3-4082-9950-6A5D58ECECA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4.2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向量排序統計為基礎的彩色測邊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: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向量式排序應用到側邊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我們先利用一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大小的面罩取出一塊等大的彩色子影像，像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可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彩色空間的像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求出像素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與其餘的像素之差異總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所得之序列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               ，我們可以得到一個較簡單的測邊器。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R (vector range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值高於一個門檻值時，我們便將面罩中心的像素視為一邊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7"/>
          <p:cNvGraphicFramePr/>
          <p:nvPr/>
        </p:nvGraphicFramePr>
        <p:xfrm>
          <a:off x="2916360" y="1844640"/>
          <a:ext cx="342720" cy="3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844640"/>
                    <a:ext cx="3427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Object 11"/>
          <p:cNvGraphicFramePr/>
          <p:nvPr/>
        </p:nvGraphicFramePr>
        <p:xfrm>
          <a:off x="8317080" y="1916280"/>
          <a:ext cx="20952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7080" y="1916280"/>
                    <a:ext cx="2095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14"/>
          <p:cNvGraphicFramePr/>
          <p:nvPr/>
        </p:nvGraphicFramePr>
        <p:xfrm>
          <a:off x="1547640" y="2637000"/>
          <a:ext cx="20988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2637000"/>
                    <a:ext cx="2098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Object 15"/>
          <p:cNvGraphicFramePr/>
          <p:nvPr/>
        </p:nvGraphicFramePr>
        <p:xfrm>
          <a:off x="4643280" y="2565360"/>
          <a:ext cx="28908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2565360"/>
                    <a:ext cx="289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17"/>
          <p:cNvGraphicFramePr/>
          <p:nvPr/>
        </p:nvGraphicFramePr>
        <p:xfrm>
          <a:off x="3059280" y="2944800"/>
          <a:ext cx="302544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7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2944800"/>
                    <a:ext cx="30254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25"/>
          <p:cNvGraphicFramePr/>
          <p:nvPr/>
        </p:nvGraphicFramePr>
        <p:xfrm>
          <a:off x="3359160" y="4138560"/>
          <a:ext cx="2508120" cy="514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0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9160" y="4138560"/>
                    <a:ext cx="25081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1"/>
          <p:cNvSpPr/>
          <p:nvPr/>
        </p:nvSpPr>
        <p:spPr>
          <a:xfrm>
            <a:off x="4468680" y="69264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6"/>
          <p:cNvSpPr/>
          <p:nvPr/>
        </p:nvSpPr>
        <p:spPr>
          <a:xfrm>
            <a:off x="4468680" y="80676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6" name="Object 38"/>
          <p:cNvGraphicFramePr/>
          <p:nvPr/>
        </p:nvGraphicFramePr>
        <p:xfrm>
          <a:off x="1116000" y="4781520"/>
          <a:ext cx="1362240" cy="42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7" name="Object 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16000" y="4781520"/>
                    <a:ext cx="13622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6125-C6CF-4FDE-8C6E-AF1A4B76A86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內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90000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1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2 RGB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彩色模式轉換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E Lu’v’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彩色模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3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彩色影像調色盤的最佳對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4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彩色影像測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3.4.1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改良式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wit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測邊算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3.4.2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以向量排序統計為基礎的彩色測邊器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彩色影像的分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6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彩色影像的對比加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7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馬賽克影像回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6836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(1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R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修改成最小化向量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inimum VR,MVR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測邊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使用取平均值的方式來分散雜訊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R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可修改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ctor Dispersion (V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結合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VR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與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VD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VD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值高於一個門檻值，面罩中心的像素則可視為一個邊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54B7-B71A-4EEC-83EE-57A65AD4BA1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: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R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測邊器的抗雜訊能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Object 8"/>
          <p:cNvGraphicFramePr/>
          <p:nvPr/>
        </p:nvGraphicFramePr>
        <p:xfrm>
          <a:off x="2268360" y="1773360"/>
          <a:ext cx="511524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773360"/>
                    <a:ext cx="51152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Object 9"/>
          <p:cNvGraphicFramePr/>
          <p:nvPr/>
        </p:nvGraphicFramePr>
        <p:xfrm>
          <a:off x="3348000" y="2852640"/>
          <a:ext cx="2666880" cy="7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2852640"/>
                    <a:ext cx="26668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Object 11"/>
          <p:cNvGraphicFramePr/>
          <p:nvPr/>
        </p:nvGraphicFramePr>
        <p:xfrm>
          <a:off x="2268360" y="3933720"/>
          <a:ext cx="534384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8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3933720"/>
                    <a:ext cx="53438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68360" y="1197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給一張輸入的彩色影像，如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4.2.1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示，利用上述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VD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測邊法，我們得到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4.2.2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彩色測邊的結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B112-9076-4BFC-A103-945AEA7CE64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627372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：在一張彩色影像上展示一下測邊實作結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9" descr="jet"/>
          <p:cNvPicPr/>
          <p:nvPr/>
        </p:nvPicPr>
        <p:blipFill>
          <a:blip r:embed="rId1"/>
          <a:stretch/>
        </p:blipFill>
        <p:spPr>
          <a:xfrm>
            <a:off x="2124000" y="2421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jetedge"/>
          <p:cNvPicPr/>
          <p:nvPr/>
        </p:nvPicPr>
        <p:blipFill>
          <a:blip r:embed="rId2"/>
          <a:stretch/>
        </p:blipFill>
        <p:spPr>
          <a:xfrm>
            <a:off x="4813200" y="242100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4306320" y="2757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矩形 12"/>
          <p:cNvSpPr/>
          <p:nvPr/>
        </p:nvSpPr>
        <p:spPr>
          <a:xfrm>
            <a:off x="2333880" y="5013360"/>
            <a:ext cx="21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4.2.1  F16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原影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矩形 13"/>
          <p:cNvSpPr/>
          <p:nvPr/>
        </p:nvSpPr>
        <p:spPr>
          <a:xfrm>
            <a:off x="5167800" y="5013360"/>
            <a:ext cx="19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4.2.2  F16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邊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3.5 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彩色影像的分割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p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3869-FD5D-49D4-A8FC-F0AA34EF2CD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內容版面配置區 5"/>
          <p:cNvSpPr/>
          <p:nvPr/>
        </p:nvSpPr>
        <p:spPr>
          <a:xfrm>
            <a:off x="684360" y="1989000"/>
            <a:ext cx="70675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彩色影像的分割的元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彩色影像上邊的訊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彩色影像上的色調訊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彩色影像上粗糙區域的訊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68360" y="76464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得到彩色影像上邊和粗糙區域的訊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先將彩色影像轉換成灰階影像。接下來，利用測邊法來求得該灰階影像的邊訊息。再利用分水嶺分割法求得灰階影像的粗糙區域。令這些粗糙的區域集為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利用所得的邊和粗糙區域訊息來進行粗糙區域的合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色調距離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交界邊近似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界邊點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: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交界像素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綜合差異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A9EF-AB44-42D9-95CF-710B51C38CD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Object 7"/>
          <p:cNvGraphicFramePr/>
          <p:nvPr/>
        </p:nvGraphicFramePr>
        <p:xfrm>
          <a:off x="6156360" y="2637000"/>
          <a:ext cx="164160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37000"/>
                    <a:ext cx="16416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Object 9"/>
          <p:cNvGraphicFramePr/>
          <p:nvPr/>
        </p:nvGraphicFramePr>
        <p:xfrm>
          <a:off x="2627280" y="3789360"/>
          <a:ext cx="5286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3789360"/>
                    <a:ext cx="5286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Object 11"/>
          <p:cNvGraphicFramePr/>
          <p:nvPr/>
        </p:nvGraphicFramePr>
        <p:xfrm>
          <a:off x="3059280" y="4365720"/>
          <a:ext cx="1990440" cy="74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1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4365720"/>
                    <a:ext cx="199044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Object 15"/>
          <p:cNvGraphicFramePr/>
          <p:nvPr/>
        </p:nvGraphicFramePr>
        <p:xfrm>
          <a:off x="2556000" y="5732640"/>
          <a:ext cx="5286240" cy="42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5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6000" y="5732640"/>
                    <a:ext cx="528624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6" name="Object 7"/>
              <p:cNvSpPr txBox="1"/>
              <p:nvPr/>
            </p:nvSpPr>
            <p:spPr>
              <a:xfrm>
                <a:off x="4311720" y="3314880"/>
                <a:ext cx="52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9"/>
              <p:cNvSpPr txBox="1"/>
              <p:nvPr/>
            </p:nvSpPr>
            <p:spPr>
              <a:xfrm>
                <a:off x="971640" y="5229360"/>
                <a:ext cx="52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0"/>
              <p:cNvSpPr txBox="1"/>
              <p:nvPr/>
            </p:nvSpPr>
            <p:spPr>
              <a:xfrm>
                <a:off x="3132000" y="5229360"/>
                <a:ext cx="2034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915920"/>
            <a:ext cx="822960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輸入的彩色像素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           。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點沿著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移動，便會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相交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，我們稱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最大飽和色彩。由於在彩色區域三角形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色彩飽和，並不會影響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值，因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29BC-8B74-4917-8711-998A3E0B8B0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3.6 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彩色影像的對比加強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字方塊 7"/>
          <p:cNvSpPr/>
          <p:nvPr/>
        </p:nvSpPr>
        <p:spPr>
          <a:xfrm>
            <a:off x="468360" y="119700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E Lu‘v’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彩色模式下做彩色影像的對比加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Object 9"/>
          <p:cNvGraphicFramePr/>
          <p:nvPr/>
        </p:nvGraphicFramePr>
        <p:xfrm>
          <a:off x="2916360" y="1989000"/>
          <a:ext cx="137160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989000"/>
                    <a:ext cx="1371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Rectangle 1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Object 11"/>
          <p:cNvGraphicFramePr/>
          <p:nvPr/>
        </p:nvGraphicFramePr>
        <p:xfrm>
          <a:off x="5724360" y="1989000"/>
          <a:ext cx="36216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1989000"/>
                    <a:ext cx="3621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Rectangle 1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13"/>
          <p:cNvGraphicFramePr/>
          <p:nvPr/>
        </p:nvGraphicFramePr>
        <p:xfrm>
          <a:off x="7596360" y="1989000"/>
          <a:ext cx="419040" cy="2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1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96360" y="1989000"/>
                    <a:ext cx="41904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Rectangle 1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3" name="Object 15"/>
          <p:cNvGraphicFramePr/>
          <p:nvPr/>
        </p:nvGraphicFramePr>
        <p:xfrm>
          <a:off x="755640" y="2205000"/>
          <a:ext cx="37152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2205000"/>
                    <a:ext cx="371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17"/>
          <p:cNvGraphicFramePr/>
          <p:nvPr/>
        </p:nvGraphicFramePr>
        <p:xfrm>
          <a:off x="2050920" y="2205000"/>
          <a:ext cx="37152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6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2205000"/>
                    <a:ext cx="371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ectangle 2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8" name="Object 20"/>
          <p:cNvGraphicFramePr/>
          <p:nvPr/>
        </p:nvGraphicFramePr>
        <p:xfrm>
          <a:off x="4859280" y="2637000"/>
          <a:ext cx="1533600" cy="32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9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59280" y="2637000"/>
                    <a:ext cx="153360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0" name="Picture 22" descr="saturation"/>
          <p:cNvPicPr/>
          <p:nvPr/>
        </p:nvPicPr>
        <p:blipFill>
          <a:blip r:embed="rId13"/>
          <a:stretch/>
        </p:blipFill>
        <p:spPr>
          <a:xfrm>
            <a:off x="3492360" y="3043080"/>
            <a:ext cx="2011680" cy="23576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23"/>
          <p:cNvSpPr/>
          <p:nvPr/>
        </p:nvSpPr>
        <p:spPr>
          <a:xfrm>
            <a:off x="3309840" y="5433840"/>
            <a:ext cx="252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3.6.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色彩飽和化示意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68360" y="144756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為了增加飽和影像的色彩，我們必須對飽和影像做「反飽和」的動作，如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6.2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2AB4-1CDF-4ABF-A346-9072653B5AC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文字方塊 7"/>
          <p:cNvSpPr/>
          <p:nvPr/>
        </p:nvSpPr>
        <p:spPr>
          <a:xfrm>
            <a:off x="981360" y="981000"/>
            <a:ext cx="224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: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增加飽和影像的色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8" descr="de-saturation"/>
          <p:cNvPicPr/>
          <p:nvPr/>
        </p:nvPicPr>
        <p:blipFill>
          <a:blip r:embed="rId1"/>
          <a:stretch/>
        </p:blipFill>
        <p:spPr>
          <a:xfrm>
            <a:off x="3203640" y="2276640"/>
            <a:ext cx="2765520" cy="326520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9"/>
          <p:cNvSpPr/>
          <p:nvPr/>
        </p:nvSpPr>
        <p:spPr>
          <a:xfrm>
            <a:off x="3274560" y="5530680"/>
            <a:ext cx="25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3.6.2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色彩反飽和示意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457200"/>
            <a:ext cx="829152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我們透過針對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E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色彩混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，以達到反飽和的效果，得到的色彩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其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，     為整張圖片的平均亮度值，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則是由使用者自定的參數，用以調整增強後影像的亮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53BF-4B7C-434D-A5A1-A1433614228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Object 7"/>
          <p:cNvGraphicFramePr/>
          <p:nvPr/>
        </p:nvGraphicFramePr>
        <p:xfrm>
          <a:off x="1332000" y="1022400"/>
          <a:ext cx="217152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022400"/>
                    <a:ext cx="21715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11"/>
          <p:cNvGraphicFramePr/>
          <p:nvPr/>
        </p:nvGraphicFramePr>
        <p:xfrm>
          <a:off x="2700360" y="1471680"/>
          <a:ext cx="2943360" cy="15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1471680"/>
                    <a:ext cx="294336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10"/>
          <p:cNvGraphicFramePr/>
          <p:nvPr/>
        </p:nvGraphicFramePr>
        <p:xfrm>
          <a:off x="2700360" y="3141720"/>
          <a:ext cx="2209680" cy="12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3141720"/>
                    <a:ext cx="220968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9"/>
          <p:cNvGraphicFramePr/>
          <p:nvPr/>
        </p:nvGraphicFramePr>
        <p:xfrm>
          <a:off x="2700360" y="4581360"/>
          <a:ext cx="149544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4581360"/>
                    <a:ext cx="14954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1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3"/>
          <p:cNvSpPr/>
          <p:nvPr/>
        </p:nvSpPr>
        <p:spPr>
          <a:xfrm>
            <a:off x="0" y="2073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4"/>
          <p:cNvSpPr/>
          <p:nvPr/>
        </p:nvSpPr>
        <p:spPr>
          <a:xfrm>
            <a:off x="0" y="3787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Object 16"/>
          <p:cNvGraphicFramePr/>
          <p:nvPr/>
        </p:nvGraphicFramePr>
        <p:xfrm>
          <a:off x="1258920" y="5157720"/>
          <a:ext cx="90468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3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8920" y="5157720"/>
                    <a:ext cx="9046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Rectangle 1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5" name="Object 18"/>
          <p:cNvGraphicFramePr/>
          <p:nvPr/>
        </p:nvGraphicFramePr>
        <p:xfrm>
          <a:off x="2484360" y="5135400"/>
          <a:ext cx="266760" cy="381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6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84360" y="5135400"/>
                    <a:ext cx="2667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在保邊的處理上，我們首先必須先透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4.2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節所介紹的測邊器求得原影像的邊圖，而後我們尋找適當的顏色以達到色彩對比加強與保邊的平衡，此平衡點稱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，如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6.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71EA-3706-4149-B6AC-7C1E06EDDCF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在對比增強時做保邊的處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Object 8"/>
          <p:cNvGraphicFramePr/>
          <p:nvPr/>
        </p:nvGraphicFramePr>
        <p:xfrm>
          <a:off x="2411280" y="2276640"/>
          <a:ext cx="36036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276640"/>
                    <a:ext cx="360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3" name="Picture 10" descr="newCIEtriangle"/>
          <p:cNvPicPr/>
          <p:nvPr/>
        </p:nvPicPr>
        <p:blipFill>
          <a:blip r:embed="rId3"/>
          <a:stretch/>
        </p:blipFill>
        <p:spPr>
          <a:xfrm>
            <a:off x="3203640" y="2637000"/>
            <a:ext cx="2560680" cy="300672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12"/>
          <p:cNvSpPr/>
          <p:nvPr/>
        </p:nvSpPr>
        <p:spPr>
          <a:xfrm>
            <a:off x="2697120" y="5661360"/>
            <a:ext cx="375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6.3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對比加強與保邊的平衡點       示意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Object 11"/>
          <p:cNvGraphicFramePr/>
          <p:nvPr/>
        </p:nvGraphicFramePr>
        <p:xfrm>
          <a:off x="5848200" y="5705640"/>
          <a:ext cx="379440" cy="37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6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48200" y="5705640"/>
                    <a:ext cx="37944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75564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6.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顯示一個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遮罩覆蓋的子影像，在以「列優先」的影像處理的方式之下，標示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像素代表已經做過加強的像素，標示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則為尚未加強的像素，中心標示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像素，即是我們正在做色彩對比加強處理的像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FFDC-62CE-437F-A3D8-88B199ABE20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7" descr="mask"/>
          <p:cNvPicPr/>
          <p:nvPr/>
        </p:nvPicPr>
        <p:blipFill>
          <a:blip r:embed="rId1"/>
          <a:stretch/>
        </p:blipFill>
        <p:spPr>
          <a:xfrm>
            <a:off x="3419640" y="1844640"/>
            <a:ext cx="1971360" cy="197172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8"/>
          <p:cNvSpPr/>
          <p:nvPr/>
        </p:nvSpPr>
        <p:spPr>
          <a:xfrm>
            <a:off x="2765520" y="3803400"/>
            <a:ext cx="361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3.6.4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一個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×3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遮罩覆蓋的子影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9" descr="alternativeSearch"/>
          <p:cNvPicPr/>
          <p:nvPr/>
        </p:nvPicPr>
        <p:blipFill>
          <a:blip r:embed="rId2"/>
          <a:stretch/>
        </p:blipFill>
        <p:spPr>
          <a:xfrm>
            <a:off x="1547640" y="4641840"/>
            <a:ext cx="5994720" cy="77148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0"/>
          <p:cNvSpPr/>
          <p:nvPr/>
        </p:nvSpPr>
        <p:spPr>
          <a:xfrm>
            <a:off x="3393360" y="5519520"/>
            <a:ext cx="235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3.6.5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交錯搜尋示意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對比加強與保邊的效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625B-D9B5-4631-9DEA-34B1557DD02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群組 14"/>
          <p:cNvGrpSpPr/>
          <p:nvPr/>
        </p:nvGrpSpPr>
        <p:grpSpPr>
          <a:xfrm>
            <a:off x="755640" y="1413000"/>
            <a:ext cx="7704000" cy="2539440"/>
            <a:chOff x="755640" y="1413000"/>
            <a:chExt cx="7704000" cy="2539440"/>
          </a:xfrm>
        </p:grpSpPr>
        <p:pic>
          <p:nvPicPr>
            <p:cNvPr id="506" name="Picture 5" descr="pepper_original"/>
            <p:cNvPicPr/>
            <p:nvPr/>
          </p:nvPicPr>
          <p:blipFill>
            <a:blip r:embed="rId1"/>
            <a:stretch/>
          </p:blipFill>
          <p:spPr>
            <a:xfrm>
              <a:off x="827640" y="1413000"/>
              <a:ext cx="217152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2" descr="pepper_enhanced_Pei"/>
            <p:cNvPicPr/>
            <p:nvPr/>
          </p:nvPicPr>
          <p:blipFill>
            <a:blip r:embed="rId2"/>
            <a:stretch/>
          </p:blipFill>
          <p:spPr>
            <a:xfrm>
              <a:off x="3381120" y="1413000"/>
              <a:ext cx="2176200" cy="21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3" descr="pepper_enhanced"/>
            <p:cNvPicPr/>
            <p:nvPr/>
          </p:nvPicPr>
          <p:blipFill>
            <a:blip r:embed="rId3"/>
            <a:stretch/>
          </p:blipFill>
          <p:spPr>
            <a:xfrm>
              <a:off x="5939640" y="1413000"/>
              <a:ext cx="217620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文字方塊 8"/>
            <p:cNvSpPr/>
            <p:nvPr/>
          </p:nvSpPr>
          <p:spPr>
            <a:xfrm>
              <a:off x="755640" y="3645360"/>
              <a:ext cx="237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3.6.6 Pepper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原影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文字方塊 9"/>
            <p:cNvSpPr/>
            <p:nvPr/>
          </p:nvSpPr>
          <p:spPr>
            <a:xfrm>
              <a:off x="3347640" y="364536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3.6.8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對比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加強影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文字方塊 10"/>
            <p:cNvSpPr/>
            <p:nvPr/>
          </p:nvSpPr>
          <p:spPr>
            <a:xfrm>
              <a:off x="5651640" y="3645360"/>
              <a:ext cx="28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3.6.10 </a:t>
              </a: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保邊加強影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2" name="Picture 2" descr="pepper_edge_original"/>
          <p:cNvPicPr/>
          <p:nvPr/>
        </p:nvPicPr>
        <p:blipFill>
          <a:blip r:embed="rId4"/>
          <a:stretch/>
        </p:blipFill>
        <p:spPr>
          <a:xfrm>
            <a:off x="826920" y="4076640"/>
            <a:ext cx="2198880" cy="21988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pepper_edge_Pei"/>
          <p:cNvPicPr/>
          <p:nvPr/>
        </p:nvPicPr>
        <p:blipFill>
          <a:blip r:embed="rId5"/>
          <a:stretch/>
        </p:blipFill>
        <p:spPr>
          <a:xfrm>
            <a:off x="3430440" y="4076640"/>
            <a:ext cx="2178360" cy="2178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pepper_edge"/>
          <p:cNvPicPr/>
          <p:nvPr/>
        </p:nvPicPr>
        <p:blipFill>
          <a:blip r:embed="rId6"/>
          <a:stretch/>
        </p:blipFill>
        <p:spPr>
          <a:xfrm>
            <a:off x="6012000" y="4076640"/>
            <a:ext cx="2176200" cy="2178000"/>
          </a:xfrm>
          <a:prstGeom prst="rect">
            <a:avLst/>
          </a:prstGeom>
          <a:ln w="0">
            <a:noFill/>
          </a:ln>
        </p:spPr>
      </p:pic>
      <p:sp>
        <p:nvSpPr>
          <p:cNvPr id="515" name="文字方塊 15"/>
          <p:cNvSpPr/>
          <p:nvPr/>
        </p:nvSpPr>
        <p:spPr>
          <a:xfrm>
            <a:off x="1078920" y="6237360"/>
            <a:ext cx="13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6.7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原影像邊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文字方塊 16"/>
          <p:cNvSpPr/>
          <p:nvPr/>
        </p:nvSpPr>
        <p:spPr>
          <a:xfrm>
            <a:off x="3348000" y="621180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6.9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對比加強影像邊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文字方塊 17"/>
          <p:cNvSpPr/>
          <p:nvPr/>
        </p:nvSpPr>
        <p:spPr>
          <a:xfrm>
            <a:off x="5940360" y="6211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6.11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保邊加強影像邊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2B0A-DB3C-41C1-AD9D-180F1251ED4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3.1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4360" y="1628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在本章中，我們首先介紹如何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彩色模式轉換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E Lu’v’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彩色模式。接下來，我們介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58920" y="3068280"/>
            <a:ext cx="70675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彩色影像調色盤的對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測邊與分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彩色對比加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馬賽克影像回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3.7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馬賽克影像回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為了節省彩色相機的成本，近幾年在相機市場上出現只有一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D(Charg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pl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數位靜態相機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er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3.7.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為此一類型相機較廣泛使用的拜耳濾波陣列。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3.7.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及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3.7.3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為單一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D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及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D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相機示意圖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111E-543A-4551-8185-14C96BDED3F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群組 6"/>
          <p:cNvGrpSpPr/>
          <p:nvPr/>
        </p:nvGrpSpPr>
        <p:grpSpPr>
          <a:xfrm>
            <a:off x="2987640" y="3573360"/>
            <a:ext cx="2952720" cy="2815560"/>
            <a:chOff x="2987640" y="3573360"/>
            <a:chExt cx="2952720" cy="2815560"/>
          </a:xfrm>
        </p:grpSpPr>
        <p:graphicFrame>
          <p:nvGraphicFramePr>
            <p:cNvPr id="522" name="Object 2"/>
            <p:cNvGraphicFramePr/>
            <p:nvPr/>
          </p:nvGraphicFramePr>
          <p:xfrm>
            <a:off x="3203640" y="3573360"/>
            <a:ext cx="2463840" cy="2468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3640" y="3573360"/>
                      <a:ext cx="2463840" cy="24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4" name="文字方塊 5"/>
            <p:cNvSpPr/>
            <p:nvPr/>
          </p:nvSpPr>
          <p:spPr>
            <a:xfrm>
              <a:off x="2987640" y="602064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.7.1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拜耳彩色濾波陣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D1A7-632D-415E-A2B0-F4DF502FB1B4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Object 3"/>
          <p:cNvGraphicFramePr/>
          <p:nvPr/>
        </p:nvGraphicFramePr>
        <p:xfrm>
          <a:off x="900000" y="1341360"/>
          <a:ext cx="3024360" cy="44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41360"/>
                    <a:ext cx="3024360" cy="44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文字方塊 6"/>
          <p:cNvSpPr/>
          <p:nvPr/>
        </p:nvSpPr>
        <p:spPr>
          <a:xfrm>
            <a:off x="826920" y="623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7.2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三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D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C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相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文字方塊 7"/>
          <p:cNvSpPr/>
          <p:nvPr/>
        </p:nvSpPr>
        <p:spPr>
          <a:xfrm>
            <a:off x="4788000" y="623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7.3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一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D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F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相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Object 5"/>
          <p:cNvGraphicFramePr/>
          <p:nvPr/>
        </p:nvGraphicFramePr>
        <p:xfrm>
          <a:off x="5867280" y="870120"/>
          <a:ext cx="1368720" cy="53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870120"/>
                    <a:ext cx="1368720" cy="53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9A59-F89E-4C20-8917-5CED4CDA86E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Object 3"/>
          <p:cNvGraphicFramePr/>
          <p:nvPr/>
        </p:nvGraphicFramePr>
        <p:xfrm>
          <a:off x="3132000" y="2637000"/>
          <a:ext cx="2808360" cy="28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637000"/>
                    <a:ext cx="280836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文字方塊 6"/>
          <p:cNvSpPr/>
          <p:nvPr/>
        </p:nvSpPr>
        <p:spPr>
          <a:xfrm>
            <a:off x="2987640" y="55180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7.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編號後的馬賽克影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文字方塊 7"/>
          <p:cNvSpPr/>
          <p:nvPr/>
        </p:nvSpPr>
        <p:spPr>
          <a:xfrm>
            <a:off x="468360" y="981000"/>
            <a:ext cx="813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：傳統去馬賽克方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解答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依據平均內插方式，對紅色值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得像素而言，其內的綠色和藍色值可被估計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同理對綠色值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像素而言，其內的藍色值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下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7.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和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7.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分別為馬賽克影像與去馬賽克結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ED71-701D-489D-B778-F18F221B19F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Object 2"/>
          <p:cNvGraphicFramePr/>
          <p:nvPr/>
        </p:nvGraphicFramePr>
        <p:xfrm>
          <a:off x="2916360" y="1916280"/>
          <a:ext cx="3024000" cy="16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916280"/>
                    <a:ext cx="302400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Object 3"/>
          <p:cNvGraphicFramePr/>
          <p:nvPr/>
        </p:nvGraphicFramePr>
        <p:xfrm>
          <a:off x="3564000" y="4076640"/>
          <a:ext cx="1655640" cy="8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076640"/>
                    <a:ext cx="165564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DE54-4051-4599-9748-1BF897C96216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2" descr="C:\Users\Anan\Desktop\yn.bmp"/>
          <p:cNvPicPr/>
          <p:nvPr/>
        </p:nvPicPr>
        <p:blipFill>
          <a:blip r:embed="rId1"/>
          <a:stretch/>
        </p:blipFill>
        <p:spPr>
          <a:xfrm>
            <a:off x="395280" y="133020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C:\Users\Anan\Desktop\yn.bmp"/>
          <p:cNvPicPr/>
          <p:nvPr/>
        </p:nvPicPr>
        <p:blipFill>
          <a:blip r:embed="rId2"/>
          <a:stretch/>
        </p:blipFill>
        <p:spPr>
          <a:xfrm>
            <a:off x="4788000" y="1330200"/>
            <a:ext cx="3887640" cy="3888000"/>
          </a:xfrm>
          <a:prstGeom prst="rect">
            <a:avLst/>
          </a:prstGeom>
          <a:ln w="0">
            <a:noFill/>
          </a:ln>
        </p:spPr>
      </p:pic>
      <p:sp>
        <p:nvSpPr>
          <p:cNvPr id="546" name="文字方塊 6"/>
          <p:cNvSpPr/>
          <p:nvPr/>
        </p:nvSpPr>
        <p:spPr>
          <a:xfrm>
            <a:off x="1258920" y="53625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7.5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馬賽克影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文字方塊 6"/>
          <p:cNvSpPr/>
          <p:nvPr/>
        </p:nvSpPr>
        <p:spPr>
          <a:xfrm>
            <a:off x="5292720" y="53625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7.6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去馬賽克後的結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：如何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色彩模式轉換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E Lu'v'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彩色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可以視為色彩的亮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，得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投影片編號版面配置區 2"/>
          <p:cNvSpPr/>
          <p:nvPr/>
        </p:nvSpPr>
        <p:spPr>
          <a:xfrm>
            <a:off x="6564240" y="596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506C-1A0D-4FC3-9578-97C939837D9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50920" y="685800"/>
            <a:ext cx="84978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3.2    RGB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彩色模式轉換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’v’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彩色模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11160" y="28544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11160" y="284940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群組 45"/>
          <p:cNvGrpSpPr/>
          <p:nvPr/>
        </p:nvGrpSpPr>
        <p:grpSpPr>
          <a:xfrm>
            <a:off x="1763640" y="2708280"/>
            <a:ext cx="5543640" cy="1209600"/>
            <a:chOff x="1763640" y="2708280"/>
            <a:chExt cx="5543640" cy="1209600"/>
          </a:xfrm>
        </p:grpSpPr>
        <p:graphicFrame>
          <p:nvGraphicFramePr>
            <p:cNvPr id="129" name="Object 38"/>
            <p:cNvGraphicFramePr/>
            <p:nvPr/>
          </p:nvGraphicFramePr>
          <p:xfrm>
            <a:off x="1763640" y="2708280"/>
            <a:ext cx="4457160" cy="1209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63640" y="2708280"/>
                      <a:ext cx="4457160" cy="120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Rectangle 40"/>
            <p:cNvSpPr/>
            <p:nvPr/>
          </p:nvSpPr>
          <p:spPr>
            <a:xfrm>
              <a:off x="6371280" y="3213720"/>
              <a:ext cx="936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13.2.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2" name="Object 42"/>
          <p:cNvGraphicFramePr/>
          <p:nvPr/>
        </p:nvGraphicFramePr>
        <p:xfrm>
          <a:off x="2422440" y="5237280"/>
          <a:ext cx="167652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2440" y="5237280"/>
                    <a:ext cx="16765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41"/>
          <p:cNvGraphicFramePr/>
          <p:nvPr/>
        </p:nvGraphicFramePr>
        <p:xfrm>
          <a:off x="4438800" y="5237280"/>
          <a:ext cx="168588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38800" y="5237280"/>
                    <a:ext cx="16858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43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4"/>
          <p:cNvSpPr/>
          <p:nvPr/>
        </p:nvSpPr>
        <p:spPr>
          <a:xfrm>
            <a:off x="4416120" y="89064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5"/>
          <p:cNvSpPr/>
          <p:nvPr/>
        </p:nvSpPr>
        <p:spPr>
          <a:xfrm>
            <a:off x="6165720" y="5095080"/>
            <a:ext cx="151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3.2.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7747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：一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彩色模式轉換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E Lu’v’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彩色模式的例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8665-01EA-4B1E-AE71-C3779B906FA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23880" y="1677960"/>
          <a:ext cx="6096240" cy="148428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7"/>
          <p:cNvSpPr/>
          <p:nvPr/>
        </p:nvSpPr>
        <p:spPr>
          <a:xfrm>
            <a:off x="3851280" y="31755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03280" y="3710160"/>
          <a:ext cx="6337440" cy="1484280"/>
        </p:xfrm>
        <a:graphic>
          <a:graphicData uri="http://schemas.openxmlformats.org/drawingml/2006/table">
            <a:tbl>
              <a:tblPr/>
              <a:tblGrid>
                <a:gridCol w="704880"/>
                <a:gridCol w="703440"/>
                <a:gridCol w="704880"/>
                <a:gridCol w="703080"/>
                <a:gridCol w="704880"/>
                <a:gridCol w="703080"/>
                <a:gridCol w="704880"/>
                <a:gridCol w="703440"/>
                <a:gridCol w="704880"/>
              </a:tblGrid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9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8"/>
          <p:cNvSpPr/>
          <p:nvPr/>
        </p:nvSpPr>
        <p:spPr>
          <a:xfrm>
            <a:off x="4140360" y="526140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042920" y="1628280"/>
            <a:ext cx="741672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其中三頂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’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’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座標分別為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，在三角形內部的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則是被對應到白色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FB6B-0795-47A6-B2D4-CC71BBDC5B5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E u’v’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色彩分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CIE-color"/>
          <p:cNvPicPr/>
          <p:nvPr/>
        </p:nvPicPr>
        <p:blipFill>
          <a:blip r:embed="rId1"/>
          <a:stretch/>
        </p:blipFill>
        <p:spPr>
          <a:xfrm>
            <a:off x="2484360" y="1628640"/>
            <a:ext cx="4141800" cy="36226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9"/>
          <p:cNvGraphicFramePr/>
          <p:nvPr/>
        </p:nvGraphicFramePr>
        <p:xfrm>
          <a:off x="5219640" y="5365800"/>
          <a:ext cx="2419560" cy="29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9640" y="5365800"/>
                    <a:ext cx="241956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1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1"/>
          <p:cNvGraphicFramePr/>
          <p:nvPr/>
        </p:nvGraphicFramePr>
        <p:xfrm>
          <a:off x="1116000" y="5732640"/>
          <a:ext cx="2286000" cy="30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5732640"/>
                    <a:ext cx="22860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1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13"/>
          <p:cNvGraphicFramePr/>
          <p:nvPr/>
        </p:nvGraphicFramePr>
        <p:xfrm>
          <a:off x="3708360" y="5732640"/>
          <a:ext cx="2371680" cy="285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7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08360" y="5732640"/>
                    <a:ext cx="237168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1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15"/>
          <p:cNvGraphicFramePr/>
          <p:nvPr/>
        </p:nvGraphicFramePr>
        <p:xfrm>
          <a:off x="1116000" y="6093000"/>
          <a:ext cx="2629080" cy="29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16000" y="6093000"/>
                    <a:ext cx="262908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：如何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E Lu’v’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彩色模式轉回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彩色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首先，我們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E Lu’v’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彩色模式先透過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3.2.3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轉換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E xyY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彩色模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之後，我們便可以利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得到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E XYZ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中三個元素值，其轉換式如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在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3.2.4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。最後再透過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3.2.1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逆過程便可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E Lu’v’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彩色模式轉回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彩色模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DF87-7A22-4C9E-B2EF-80D9D56E1E7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9"/>
          <p:cNvGraphicFramePr/>
          <p:nvPr/>
        </p:nvGraphicFramePr>
        <p:xfrm>
          <a:off x="3132000" y="1628640"/>
          <a:ext cx="160020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628640"/>
                    <a:ext cx="16002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8"/>
          <p:cNvGraphicFramePr/>
          <p:nvPr/>
        </p:nvGraphicFramePr>
        <p:xfrm>
          <a:off x="3132000" y="2398680"/>
          <a:ext cx="16002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398680"/>
                    <a:ext cx="160020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7"/>
          <p:cNvGraphicFramePr/>
          <p:nvPr/>
        </p:nvGraphicFramePr>
        <p:xfrm>
          <a:off x="3132000" y="3333600"/>
          <a:ext cx="571680" cy="2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3333600"/>
                    <a:ext cx="57168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10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0" y="11016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227640" y="3285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MR12"/>
              </a:rPr>
              <a:t>(13.2.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6"/>
          <p:cNvGraphicFramePr/>
          <p:nvPr/>
        </p:nvGraphicFramePr>
        <p:xfrm>
          <a:off x="3241800" y="4210200"/>
          <a:ext cx="1942920" cy="37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1800" y="4210200"/>
                    <a:ext cx="194292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15"/>
          <p:cNvGraphicFramePr/>
          <p:nvPr/>
        </p:nvGraphicFramePr>
        <p:xfrm>
          <a:off x="3241800" y="4653000"/>
          <a:ext cx="685800" cy="2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1800" y="4653000"/>
                    <a:ext cx="685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4"/>
          <p:cNvGraphicFramePr/>
          <p:nvPr/>
        </p:nvGraphicFramePr>
        <p:xfrm>
          <a:off x="3241800" y="5013360"/>
          <a:ext cx="1942920" cy="38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41800" y="5013360"/>
                    <a:ext cx="19429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18"/>
          <p:cNvSpPr/>
          <p:nvPr/>
        </p:nvSpPr>
        <p:spPr>
          <a:xfrm>
            <a:off x="0" y="873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0" y="16160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6156360" y="508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MR12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MR12"/>
              </a:rPr>
              <a:t>(13.2.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24"/>
          <p:cNvGraphicFramePr/>
          <p:nvPr/>
        </p:nvGraphicFramePr>
        <p:xfrm>
          <a:off x="2340000" y="5473800"/>
          <a:ext cx="1095480" cy="285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2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40000" y="5473800"/>
                    <a:ext cx="1095480" cy="28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23"/>
          <p:cNvGraphicFramePr/>
          <p:nvPr/>
        </p:nvGraphicFramePr>
        <p:xfrm>
          <a:off x="3676680" y="5450040"/>
          <a:ext cx="1584360" cy="330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4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76680" y="5450040"/>
                    <a:ext cx="15843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2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2160" y="1015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440" y="72072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9F94-1277-40D6-BA71-FE14D04E495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3.3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　彩色影像調色盤的最佳對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528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彩色影像調色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彩色影像上，假設一個像素的可能顏色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種，調色盤的用意在於利用一個整數集將這些顏色對應起來，例如，假設只有四種顏色可用，顯示於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3.3.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如果將各個顏色賦予一個整數編號，則可得到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3.3.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調色盤圖表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619280" y="3662280"/>
          <a:ext cx="2376360" cy="1898640"/>
        </p:xfrm>
        <a:graphic>
          <a:graphicData uri="http://schemas.openxmlformats.org/drawingml/2006/table">
            <a:tbl>
              <a:tblPr/>
              <a:tblGrid>
                <a:gridCol w="811080"/>
                <a:gridCol w="811440"/>
                <a:gridCol w="753840"/>
              </a:tblGrid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Rectangle 8"/>
          <p:cNvSpPr/>
          <p:nvPr/>
        </p:nvSpPr>
        <p:spPr>
          <a:xfrm>
            <a:off x="1547640" y="55742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3.1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一個例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643280" y="3603600"/>
          <a:ext cx="2916360" cy="1955880"/>
        </p:xfrm>
        <a:graphic>
          <a:graphicData uri="http://schemas.openxmlformats.org/drawingml/2006/table">
            <a:tbl>
              <a:tblPr/>
              <a:tblGrid>
                <a:gridCol w="743040"/>
                <a:gridCol w="741600"/>
                <a:gridCol w="742680"/>
                <a:gridCol w="689040"/>
              </a:tblGrid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編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Rectangle 8"/>
          <p:cNvSpPr/>
          <p:nvPr/>
        </p:nvSpPr>
        <p:spPr>
          <a:xfrm>
            <a:off x="4859280" y="55742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3.2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賦予編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B031-6B0F-4AA7-84D4-C12A85C36A1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684360" y="869400"/>
            <a:ext cx="7019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：小例子以明白調色盤的功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有了編號圖後，根據調色盤圖表自然很容易將編號圖轉換回原色彩影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419640" y="1268280"/>
          <a:ext cx="2184120" cy="1482840"/>
        </p:xfrm>
        <a:graphic>
          <a:graphicData uri="http://schemas.openxmlformats.org/drawingml/2006/table">
            <a:tbl>
              <a:tblPr/>
              <a:tblGrid>
                <a:gridCol w="545760"/>
                <a:gridCol w="546120"/>
                <a:gridCol w="546120"/>
                <a:gridCol w="5461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Rectangle 7"/>
          <p:cNvSpPr/>
          <p:nvPr/>
        </p:nvSpPr>
        <p:spPr>
          <a:xfrm>
            <a:off x="3897360" y="2881800"/>
            <a:ext cx="134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3.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一個子影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419640" y="3357720"/>
          <a:ext cx="2232000" cy="1482480"/>
        </p:xfrm>
        <a:graphic>
          <a:graphicData uri="http://schemas.openxmlformats.org/drawingml/2006/table">
            <a:tbl>
              <a:tblPr/>
              <a:tblGrid>
                <a:gridCol w="558720"/>
                <a:gridCol w="557280"/>
                <a:gridCol w="558720"/>
                <a:gridCol w="557280"/>
              </a:tblGrid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8"/>
          <p:cNvSpPr/>
          <p:nvPr/>
        </p:nvSpPr>
        <p:spPr>
          <a:xfrm>
            <a:off x="3643560" y="4898160"/>
            <a:ext cx="18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3.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按編號轉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4:48:03Z</dcterms:created>
  <dc:creator/>
  <dc:description/>
  <dc:language>en-US</dc:language>
  <cp:lastModifiedBy>Mirrorchiu</cp:lastModifiedBy>
  <dcterms:modified xsi:type="dcterms:W3CDTF">2012-06-13T06:39:14Z</dcterms:modified>
  <cp:revision>409</cp:revision>
  <dc:subject/>
  <dc:title>第十三章 彩色影像處理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