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64.wmf" ContentType="image/x-wmf"/>
  <Override PartName="/ppt/media/image63.wmf" ContentType="image/x-wmf"/>
  <Override PartName="/ppt/media/image25.png" ContentType="image/png"/>
  <Override PartName="/ppt/media/image62.png" ContentType="image/png"/>
  <Override PartName="/ppt/media/image23.wmf" ContentType="image/x-wmf"/>
  <Override PartName="/ppt/media/image60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26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27.png" ContentType="image/png"/>
  <Override PartName="/ppt/media/image30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28.png" ContentType="image/png"/>
  <Override PartName="/ppt/media/image50.wmf" ContentType="image/x-wmf"/>
  <Override PartName="/ppt/media/image5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371F-F3D2-42C5-AFBF-A910A425375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69BC-E500-4789-A1FC-AD7A8F3ADE8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25BA-2B2F-4AD7-B587-3CFB11A0E64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DC48-8118-45A0-A714-6B1EF86C36A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28B4-00A9-4AAA-BC5F-129FD14464E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7D98-183D-4864-AED2-D87D561C4A4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投影片編號版面配置區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D76C-684F-4302-B7BA-6F645BA0617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EA72-5204-49D6-B834-4C080890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EA5B-C3C2-42C8-B7A8-75857241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915F-07AB-413C-AE62-9EB05A2B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2CAB-151A-4A1B-82E4-10012B7F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1BE2-0F1A-49D5-A3C0-3BBD799D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D90C-3BC4-4FB2-9E52-B5091D66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D197-A26E-4F75-BF3F-F722D38B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6C30-E5AE-48BE-A1C8-227EA2E3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FEC2-B47F-4C76-A5D6-C3B02BF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D62D-E814-4E06-A346-334B5CFC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8AFC-D52A-43F8-BF34-E6E1477B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0E38-7502-4F61-907D-E0D9F145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E1EE-CB02-450E-AD7D-FAD41278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6F2B-C6CF-4354-A13B-79EC7DF9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1845-048B-4979-939B-AFFB9228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DAC8-A927-46B5-B89F-029F1ECA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885B-F57C-4A14-982A-E41004D5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F5ED-D050-408B-AC2C-D985241D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CBB7-A90A-4ACB-B69D-D4687482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7862-0D65-4108-A305-8C740817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01C9-AC3B-4E3E-811D-816DEF95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352A-EB2E-49C9-A87D-AC52681D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9ADF5-684E-4C3D-8C6E-72EF9818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8BAA-F191-4CC0-8A42-615D785F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DA60-AE27-45F8-A5B0-A41CB2B16E0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1027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028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1029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1030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1031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1032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33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34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035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036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037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038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039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9012-1F2D-4CCD-BD73-4F765BC6712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image" Target="../media/image62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4.wmf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C2C-D7BE-40EF-8264-8DB2A3556FB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65000" y="1866960"/>
            <a:ext cx="744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300" spc="-1" strike="noStrike">
                <a:solidFill>
                  <a:srgbClr val="ffffff"/>
                </a:solidFill>
                <a:latin typeface="Times New Roman"/>
              </a:rPr>
              <a:t>第十章</a:t>
            </a:r>
            <a:br>
              <a:rPr sz="4300"/>
            </a:br>
            <a:r>
              <a:rPr b="1" lang="zh-TW" sz="4300" spc="-1" strike="noStrike">
                <a:solidFill>
                  <a:srgbClr val="ffffff"/>
                </a:solidFill>
                <a:latin typeface="Times New Roman"/>
              </a:rPr>
              <a:t>分群與應用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18E8-3CCD-4D64-9FE4-072E10C8E72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字方塊 5"/>
          <p:cNvSpPr/>
          <p:nvPr/>
        </p:nvSpPr>
        <p:spPr>
          <a:xfrm>
            <a:off x="468360" y="907920"/>
            <a:ext cx="79549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如何修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分群方法中的距離公式避免上述誤判情形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利用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4.1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4.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的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之對稱點為點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如此一來，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就不會被歸屬為群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了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050920" y="2421000"/>
                <a:ext cx="424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limLow>
                      <m:e>
                        <m:eqArr>
                          <m:e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eqArr>
                      </m:e>
                      <m:lim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</m:lim>
                    </m:limLow>
                    <m:f>
                      <m:num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Rectangle 7"/>
          <p:cNvSpPr/>
          <p:nvPr/>
        </p:nvSpPr>
        <p:spPr>
          <a:xfrm>
            <a:off x="7313760" y="2781720"/>
            <a:ext cx="106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4.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4869-EDDE-44EF-92CE-2FDBF44665A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07552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演算法，我們找到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個群心                       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對資 料點                          而言，點對稱距離量度可表示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5"/>
          <p:cNvGraphicFramePr/>
          <p:nvPr/>
        </p:nvGraphicFramePr>
        <p:xfrm>
          <a:off x="1908000" y="1341360"/>
          <a:ext cx="165600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16560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7"/>
          <p:cNvGraphicFramePr/>
          <p:nvPr/>
        </p:nvGraphicFramePr>
        <p:xfrm>
          <a:off x="5867280" y="961920"/>
          <a:ext cx="165600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961920"/>
                    <a:ext cx="16560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22"/>
          <p:cNvGraphicFramePr/>
          <p:nvPr/>
        </p:nvGraphicFramePr>
        <p:xfrm>
          <a:off x="2050920" y="2565360"/>
          <a:ext cx="439128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2565360"/>
                    <a:ext cx="43912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28"/>
          <p:cNvSpPr/>
          <p:nvPr/>
        </p:nvSpPr>
        <p:spPr>
          <a:xfrm>
            <a:off x="611280" y="446436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4.3 (a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所得的分群結果，而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4.3 (b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所得的分群結果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由於反應了對稱的考量，故得到較佳的分群結果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FB48-CE13-44EB-A453-9DA79F989A5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群組 11"/>
          <p:cNvGrpSpPr/>
          <p:nvPr/>
        </p:nvGrpSpPr>
        <p:grpSpPr>
          <a:xfrm>
            <a:off x="4211640" y="792000"/>
            <a:ext cx="4824360" cy="5070600"/>
            <a:chOff x="4211640" y="792000"/>
            <a:chExt cx="4824360" cy="5070600"/>
          </a:xfrm>
        </p:grpSpPr>
        <p:graphicFrame>
          <p:nvGraphicFramePr>
            <p:cNvPr id="194" name="Object 4"/>
            <p:cNvGraphicFramePr/>
            <p:nvPr/>
          </p:nvGraphicFramePr>
          <p:xfrm>
            <a:off x="4211640" y="792000"/>
            <a:ext cx="4824360" cy="449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11640" y="792000"/>
                      <a:ext cx="4824360" cy="449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Text Box 6"/>
            <p:cNvSpPr/>
            <p:nvPr/>
          </p:nvSpPr>
          <p:spPr>
            <a:xfrm>
              <a:off x="4788360" y="5508720"/>
              <a:ext cx="41043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b) SC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所得的分群結果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群組 14"/>
          <p:cNvGrpSpPr/>
          <p:nvPr/>
        </p:nvGrpSpPr>
        <p:grpSpPr>
          <a:xfrm>
            <a:off x="76320" y="863640"/>
            <a:ext cx="4495680" cy="4968720"/>
            <a:chOff x="76320" y="863640"/>
            <a:chExt cx="4495680" cy="4968720"/>
          </a:xfrm>
        </p:grpSpPr>
        <p:graphicFrame>
          <p:nvGraphicFramePr>
            <p:cNvPr id="198" name="Object 9"/>
            <p:cNvGraphicFramePr/>
            <p:nvPr/>
          </p:nvGraphicFramePr>
          <p:xfrm>
            <a:off x="76320" y="863640"/>
            <a:ext cx="4495680" cy="4392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9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863640"/>
                      <a:ext cx="4495680" cy="439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Text Box 14"/>
            <p:cNvSpPr/>
            <p:nvPr/>
          </p:nvSpPr>
          <p:spPr>
            <a:xfrm>
              <a:off x="464400" y="5478480"/>
              <a:ext cx="36720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a) K-means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所得的分群結果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Text Box 13"/>
          <p:cNvSpPr/>
          <p:nvPr/>
        </p:nvSpPr>
        <p:spPr>
          <a:xfrm>
            <a:off x="3348000" y="6021360"/>
            <a:ext cx="2592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4.3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分群結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369A-027B-4B9E-9CFE-25D2C30E687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9640" y="985320"/>
            <a:ext cx="7704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有哪些可能的小弱點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的第一個小弱點為缺乏對稱的強健性。給一圖如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4.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所示：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群組 13"/>
          <p:cNvGrpSpPr/>
          <p:nvPr/>
        </p:nvGrpSpPr>
        <p:grpSpPr>
          <a:xfrm>
            <a:off x="2124000" y="2421000"/>
            <a:ext cx="4751640" cy="1452600"/>
            <a:chOff x="2124000" y="2421000"/>
            <a:chExt cx="4751640" cy="1452600"/>
          </a:xfrm>
        </p:grpSpPr>
        <p:graphicFrame>
          <p:nvGraphicFramePr>
            <p:cNvPr id="205" name="Object 5"/>
            <p:cNvGraphicFramePr/>
            <p:nvPr/>
          </p:nvGraphicFramePr>
          <p:xfrm>
            <a:off x="2216520" y="2421000"/>
            <a:ext cx="4618440" cy="1452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16520" y="2421000"/>
                      <a:ext cx="4618440" cy="14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Text Box 7"/>
            <p:cNvSpPr/>
            <p:nvPr/>
          </p:nvSpPr>
          <p:spPr>
            <a:xfrm>
              <a:off x="2124000" y="3501360"/>
              <a:ext cx="47516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0.4.4  SC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第一個小弱點的例子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5"/>
          <p:cNvSpPr/>
          <p:nvPr/>
        </p:nvSpPr>
        <p:spPr>
          <a:xfrm>
            <a:off x="611280" y="4321080"/>
            <a:ext cx="7561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以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4.2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推得，對資料點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而言，相對於群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最對稱的點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+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這說明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會較偏愛較遠的點。這也多少減低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在對稱上的強健性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57C7-9BDC-40D4-9F85-00CFBB17DAD4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755640" y="889200"/>
            <a:ext cx="72010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的第二個小弱點為碰到資料集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IC(Symmetrical Intra/Inter Clusters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時，分群的效果不是很理想。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如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4.5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                                      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屬於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2124000" y="2036880"/>
          <a:ext cx="4843440" cy="39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036880"/>
                    <a:ext cx="484344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7"/>
          <p:cNvSpPr/>
          <p:nvPr/>
        </p:nvSpPr>
        <p:spPr>
          <a:xfrm>
            <a:off x="2771640" y="5950080"/>
            <a:ext cx="352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4.5 SII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一個例子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6"/>
          <p:cNvGraphicFramePr/>
          <p:nvPr/>
        </p:nvGraphicFramePr>
        <p:xfrm>
          <a:off x="2452680" y="1608120"/>
          <a:ext cx="255096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2680" y="1608120"/>
                    <a:ext cx="255096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FB17-B04E-463C-887B-444B5C433CBB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群組 18"/>
          <p:cNvGrpSpPr/>
          <p:nvPr/>
        </p:nvGrpSpPr>
        <p:grpSpPr>
          <a:xfrm>
            <a:off x="755640" y="1158840"/>
            <a:ext cx="7488360" cy="571680"/>
            <a:chOff x="755640" y="1158840"/>
            <a:chExt cx="7488360" cy="571680"/>
          </a:xfrm>
        </p:grpSpPr>
        <p:sp>
          <p:nvSpPr>
            <p:cNvPr id="218" name="Rectangle 21"/>
            <p:cNvSpPr/>
            <p:nvPr/>
          </p:nvSpPr>
          <p:spPr>
            <a:xfrm>
              <a:off x="755640" y="1301400"/>
              <a:ext cx="748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這造成了    和      分別屬於不同群，破壞了封閉性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Closure Property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。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9" name="Object 26"/>
            <p:cNvGraphicFramePr/>
            <p:nvPr/>
          </p:nvGraphicFramePr>
          <p:xfrm>
            <a:off x="1907640" y="1158840"/>
            <a:ext cx="298440" cy="35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0" name="Object 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7640" y="1158840"/>
                      <a:ext cx="298440" cy="35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1" name="Object 36"/>
            <p:cNvGraphicFramePr/>
            <p:nvPr/>
          </p:nvGraphicFramePr>
          <p:xfrm>
            <a:off x="2555640" y="1158840"/>
            <a:ext cx="312480" cy="35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2" name="Object 3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5640" y="1158840"/>
                      <a:ext cx="31248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3" name="Rectangle 38"/>
          <p:cNvSpPr/>
          <p:nvPr/>
        </p:nvSpPr>
        <p:spPr>
          <a:xfrm>
            <a:off x="755640" y="32659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了克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中的缺乏對稱強健性，我們提出一種稱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SL(Distance Similarity Level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算子。為了能納入方向近似程度，我們定義一種稱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SL(Orientation Similarity Level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算子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9"/>
          <p:cNvSpPr/>
          <p:nvPr/>
        </p:nvSpPr>
        <p:spPr>
          <a:xfrm>
            <a:off x="874800" y="4656600"/>
            <a:ext cx="116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SL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算子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2"/>
          <p:cNvSpPr/>
          <p:nvPr/>
        </p:nvSpPr>
        <p:spPr>
          <a:xfrm>
            <a:off x="835200" y="5737680"/>
            <a:ext cx="116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SL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算子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11"/>
          <p:cNvGraphicFramePr/>
          <p:nvPr/>
        </p:nvGraphicFramePr>
        <p:xfrm>
          <a:off x="2655720" y="4375080"/>
          <a:ext cx="5097600" cy="118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55720" y="4375080"/>
                    <a:ext cx="50976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27"/>
          <p:cNvGraphicFramePr/>
          <p:nvPr/>
        </p:nvGraphicFramePr>
        <p:xfrm>
          <a:off x="2655720" y="5622840"/>
          <a:ext cx="3237120" cy="75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55720" y="5622840"/>
                    <a:ext cx="32371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文字方塊 21"/>
          <p:cNvSpPr/>
          <p:nvPr/>
        </p:nvSpPr>
        <p:spPr>
          <a:xfrm>
            <a:off x="684360" y="2276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FD6D-39B7-429D-94B8-BE33696A2A1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261080" y="979920"/>
            <a:ext cx="554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將這兩個算子整合成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SL(Symmetry Similarity Level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46280" y="2977920"/>
            <a:ext cx="771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為了保有封閉性，上式改寫為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2460240" y="5016960"/>
            <a:ext cx="26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算子可說是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I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資料集分群的核心算子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8"/>
          <p:cNvGraphicFramePr/>
          <p:nvPr/>
        </p:nvGraphicFramePr>
        <p:xfrm>
          <a:off x="1547640" y="1628640"/>
          <a:ext cx="593424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628640"/>
                    <a:ext cx="593424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9"/>
          <p:cNvGraphicFramePr/>
          <p:nvPr/>
        </p:nvGraphicFramePr>
        <p:xfrm>
          <a:off x="1033560" y="3767040"/>
          <a:ext cx="706752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3560" y="3767040"/>
                    <a:ext cx="70675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給定一資料集，如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4.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所示。在圖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4.7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中分別顯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方法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方法以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方法所得分群結果與分群效果評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B8EB-E4DA-4B6E-B5AE-40F21305E36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Fig11_a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56000" y="2637000"/>
            <a:ext cx="4302000" cy="2752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2987640" y="5300640"/>
            <a:ext cx="3382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4.6 SIIC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資料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6F96-8C92-4B28-80E1-2BABF5B9132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群組 9"/>
          <p:cNvGrpSpPr/>
          <p:nvPr/>
        </p:nvGrpSpPr>
        <p:grpSpPr>
          <a:xfrm>
            <a:off x="900000" y="549360"/>
            <a:ext cx="7705800" cy="5832360"/>
            <a:chOff x="900000" y="549360"/>
            <a:chExt cx="7705800" cy="5832360"/>
          </a:xfrm>
        </p:grpSpPr>
        <p:pic>
          <p:nvPicPr>
            <p:cNvPr id="245" name="Picture 4" descr="Fig11_c"/>
            <p:cNvPicPr/>
            <p:nvPr/>
          </p:nvPicPr>
          <p:blipFill>
            <a:blip r:embed="rId1"/>
            <a:stretch/>
          </p:blipFill>
          <p:spPr>
            <a:xfrm>
              <a:off x="900000" y="3151800"/>
              <a:ext cx="3456000" cy="22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" descr="Fig11_d"/>
            <p:cNvPicPr/>
            <p:nvPr/>
          </p:nvPicPr>
          <p:blipFill>
            <a:blip r:embed="rId2"/>
            <a:stretch/>
          </p:blipFill>
          <p:spPr>
            <a:xfrm>
              <a:off x="5146560" y="3153240"/>
              <a:ext cx="345744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6"/>
            <p:cNvSpPr/>
            <p:nvPr/>
          </p:nvSpPr>
          <p:spPr>
            <a:xfrm>
              <a:off x="900000" y="5391720"/>
              <a:ext cx="3600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b) SC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方法所得分群結果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5148360" y="5391720"/>
              <a:ext cx="345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c) SSL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方法所得分群結果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Picture 6" descr="Fig11_b"/>
            <p:cNvPicPr/>
            <p:nvPr/>
          </p:nvPicPr>
          <p:blipFill>
            <a:blip r:embed="rId3"/>
            <a:stretch/>
          </p:blipFill>
          <p:spPr>
            <a:xfrm>
              <a:off x="2988000" y="549360"/>
              <a:ext cx="3311640" cy="21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8"/>
            <p:cNvSpPr/>
            <p:nvPr/>
          </p:nvSpPr>
          <p:spPr>
            <a:xfrm>
              <a:off x="2770560" y="2708280"/>
              <a:ext cx="3816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a) K-means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方法所得分群結果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>
              <a:off x="2194560" y="5950080"/>
              <a:ext cx="49701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圖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0.4.7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三種方法的分群效果評比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DBFC-8F56-42AC-A420-AC93BDDB125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5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變異數控制式的分群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群組 17"/>
          <p:cNvGrpSpPr/>
          <p:nvPr/>
        </p:nvGrpSpPr>
        <p:grpSpPr>
          <a:xfrm>
            <a:off x="395280" y="1844640"/>
            <a:ext cx="8229600" cy="3286080"/>
            <a:chOff x="395280" y="1844640"/>
            <a:chExt cx="8229600" cy="3286080"/>
          </a:xfrm>
        </p:grpSpPr>
        <p:sp>
          <p:nvSpPr>
            <p:cNvPr id="255" name="Text Box 5"/>
            <p:cNvSpPr/>
            <p:nvPr/>
          </p:nvSpPr>
          <p:spPr>
            <a:xfrm>
              <a:off x="395280" y="1844640"/>
              <a:ext cx="8229600" cy="22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資料集                             ，將集合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分割成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這裡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6" name="Object 17"/>
            <p:cNvGraphicFramePr/>
            <p:nvPr/>
          </p:nvGraphicFramePr>
          <p:xfrm>
            <a:off x="3347640" y="2564640"/>
            <a:ext cx="1892160" cy="48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" name="Object 1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7640" y="2564640"/>
                      <a:ext cx="18921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8" name="Object 19"/>
                <p:cNvSpPr txBox="1"/>
                <p:nvPr/>
              </p:nvSpPr>
              <p:spPr>
                <a:xfrm>
                  <a:off x="1331640" y="2016360"/>
                  <a:ext cx="201600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…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25"/>
                <p:cNvSpPr txBox="1"/>
                <p:nvPr/>
              </p:nvSpPr>
              <p:spPr>
                <a:xfrm>
                  <a:off x="5652000" y="1988640"/>
                  <a:ext cx="1295280" cy="3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60" name="Object 18"/>
            <p:cNvGraphicFramePr/>
            <p:nvPr/>
          </p:nvGraphicFramePr>
          <p:xfrm>
            <a:off x="2699280" y="4004640"/>
            <a:ext cx="3600360" cy="112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99280" y="4004640"/>
                      <a:ext cx="3600360" cy="112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內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FADE-B573-4B5F-9C17-A07697223F7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1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2 K-means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分群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3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植基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-D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樹的分群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4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植基於對稱假設的分群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5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變異數控制式的分群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6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模糊分群法及其加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7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結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投影片編號版面配置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FC2C-86E4-4B26-B66D-E07774561AE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群組 25"/>
          <p:cNvGrpSpPr/>
          <p:nvPr/>
        </p:nvGrpSpPr>
        <p:grpSpPr>
          <a:xfrm>
            <a:off x="457200" y="1066680"/>
            <a:ext cx="8291520" cy="4775400"/>
            <a:chOff x="457200" y="1066680"/>
            <a:chExt cx="8291520" cy="4775400"/>
          </a:xfrm>
        </p:grpSpPr>
        <p:sp>
          <p:nvSpPr>
            <p:cNvPr id="264" name="Text Box 3"/>
            <p:cNvSpPr/>
            <p:nvPr/>
          </p:nvSpPr>
          <p:spPr>
            <a:xfrm>
              <a:off x="457200" y="1066680"/>
              <a:ext cx="829152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一開始，我們任意將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分割成成                    。接下來，我們計算出它們的變異數，           ，             。如果                     ，則      進行隔離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Isolation)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動作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這裡              表示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有最遠距離。接下來，我們將            個</a:t>
              </a:r>
              <a:br>
                <a:rPr sz="2200"/>
              </a:b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內部邊點予以分離出去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如果                    ，則對           算出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5" name="Object 2"/>
            <p:cNvGraphicFramePr/>
            <p:nvPr/>
          </p:nvGraphicFramePr>
          <p:xfrm>
            <a:off x="2627640" y="2420640"/>
            <a:ext cx="4011480" cy="59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6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7640" y="2420640"/>
                      <a:ext cx="401148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7" name="Object 27"/>
                <p:cNvSpPr txBox="1"/>
                <p:nvPr/>
              </p:nvSpPr>
              <p:spPr>
                <a:xfrm>
                  <a:off x="4500000" y="1124280"/>
                  <a:ext cx="14396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68" name="Object 29"/>
            <p:cNvGraphicFramePr/>
            <p:nvPr/>
          </p:nvGraphicFramePr>
          <p:xfrm>
            <a:off x="2699640" y="1484640"/>
            <a:ext cx="863280" cy="36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9" name="Object 2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99640" y="1484640"/>
                      <a:ext cx="86328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0" name="Object 31"/>
                <p:cNvSpPr txBox="1"/>
                <p:nvPr/>
              </p:nvSpPr>
              <p:spPr>
                <a:xfrm>
                  <a:off x="3852000" y="1484640"/>
                  <a:ext cx="863640" cy="2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i</m:t>
                      </m:r>
                      <m:r>
                        <m:t xml:space="preserve">≤</m:t>
                      </m:r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71" name="Object 33"/>
            <p:cNvGraphicFramePr/>
            <p:nvPr/>
          </p:nvGraphicFramePr>
          <p:xfrm>
            <a:off x="5652000" y="1484640"/>
            <a:ext cx="1438200" cy="36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" name="Object 3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52000" y="1484640"/>
                      <a:ext cx="14382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668360" y="1484640"/>
                  <a:ext cx="28404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Object 40"/>
                <p:cNvSpPr txBox="1"/>
                <p:nvPr/>
              </p:nvSpPr>
              <p:spPr>
                <a:xfrm>
                  <a:off x="1149480" y="3501000"/>
                  <a:ext cx="93636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Object 42"/>
                <p:cNvSpPr txBox="1"/>
                <p:nvPr/>
              </p:nvSpPr>
              <p:spPr>
                <a:xfrm>
                  <a:off x="7073280" y="3443760"/>
                  <a:ext cx="86508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B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76" name="Object 44"/>
            <p:cNvGraphicFramePr/>
            <p:nvPr/>
          </p:nvGraphicFramePr>
          <p:xfrm>
            <a:off x="1187640" y="4149000"/>
            <a:ext cx="1400040" cy="36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7" name="Object 4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87640" y="4149000"/>
                      <a:ext cx="140004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78" name="Object 46"/>
                <p:cNvSpPr txBox="1"/>
                <p:nvPr/>
              </p:nvSpPr>
              <p:spPr>
                <a:xfrm>
                  <a:off x="3347640" y="4149000"/>
                  <a:ext cx="72072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∈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79" name="Object 48"/>
            <p:cNvGraphicFramePr/>
            <p:nvPr/>
          </p:nvGraphicFramePr>
          <p:xfrm>
            <a:off x="3492000" y="5085000"/>
            <a:ext cx="2271600" cy="757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0" name="Object 4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492000" y="5085000"/>
                      <a:ext cx="2271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783C-F5FF-4B85-BE3D-57313E06AB2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20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這時點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被視為點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外部邊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Outer Border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點，我們針對外部邊緣集 </a:t>
            </a:r>
            <a:br>
              <a:rPr sz="2200"/>
            </a:b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這裡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表示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有最近距離。</a:t>
            </a: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隨機選取               個外部邊緣點並將它們和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合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Union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起來。</a:t>
            </a:r>
            <a:br>
              <a:rPr sz="2200"/>
            </a:br>
            <a:br>
              <a:rPr sz="2200"/>
            </a:b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1]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，學者們提出利用干擾法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Perturbation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來改善最後的分群效果。對群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來說，我們在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挑一點            ，如果下式成立，則將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從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移除，而將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納入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2214720" y="1536840"/>
          <a:ext cx="3870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1536840"/>
                    <a:ext cx="3870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5" name="Object 26"/>
              <p:cNvSpPr txBox="1"/>
              <p:nvPr/>
            </p:nvSpPr>
            <p:spPr>
              <a:xfrm>
                <a:off x="1938240" y="2681280"/>
                <a:ext cx="1008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B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4"/>
              <p:cNvSpPr txBox="1"/>
              <p:nvPr/>
            </p:nvSpPr>
            <p:spPr>
              <a:xfrm>
                <a:off x="6659640" y="4221000"/>
                <a:ext cx="7761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0"/>
              <p:cNvSpPr txBox="1"/>
              <p:nvPr/>
            </p:nvSpPr>
            <p:spPr>
              <a:xfrm>
                <a:off x="1403280" y="5229360"/>
                <a:ext cx="62629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8" name="Object 12"/>
          <p:cNvGraphicFramePr/>
          <p:nvPr/>
        </p:nvGraphicFramePr>
        <p:xfrm>
          <a:off x="2814480" y="5877000"/>
          <a:ext cx="273528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4480" y="5877000"/>
                    <a:ext cx="27352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E345-BFF5-4E41-ADAB-78D9BE717F11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68360" y="673200"/>
            <a:ext cx="70675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6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模糊分群法及其加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900000" y="2100240"/>
            <a:ext cx="7201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資料點集                        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CM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分群法將資料點集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分成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群。令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群的群心集為                        。令資料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對群心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隸屬函數值為</a:t>
            </a:r>
            <a:r>
              <a:rPr b="0" i="1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隸屬矩陣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表示為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Object 7"/>
          <p:cNvGraphicFramePr/>
          <p:nvPr/>
        </p:nvGraphicFramePr>
        <p:xfrm>
          <a:off x="2843280" y="3789360"/>
          <a:ext cx="329400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789360"/>
                    <a:ext cx="32940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8"/>
          <p:cNvGraphicFramePr/>
          <p:nvPr/>
        </p:nvGraphicFramePr>
        <p:xfrm>
          <a:off x="2124000" y="2060640"/>
          <a:ext cx="17416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060640"/>
                    <a:ext cx="17416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9"/>
          <p:cNvGraphicFramePr/>
          <p:nvPr/>
        </p:nvGraphicFramePr>
        <p:xfrm>
          <a:off x="3924360" y="2565360"/>
          <a:ext cx="16412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2565360"/>
                    <a:ext cx="16412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6779-0CBE-40B8-8510-F3EA240C2CE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983520" y="1059120"/>
            <a:ext cx="56671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群心集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資料點集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誤差為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1908000" y="1628640"/>
          <a:ext cx="388944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628640"/>
                    <a:ext cx="388944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20"/>
          <p:cNvSpPr/>
          <p:nvPr/>
        </p:nvSpPr>
        <p:spPr>
          <a:xfrm>
            <a:off x="900000" y="2708640"/>
            <a:ext cx="727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模糊集的精神。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Object 31"/>
          <p:cNvGraphicFramePr/>
          <p:nvPr/>
        </p:nvGraphicFramePr>
        <p:xfrm>
          <a:off x="971640" y="2708280"/>
          <a:ext cx="57456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708280"/>
                    <a:ext cx="5745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34"/>
          <p:cNvGraphicFramePr/>
          <p:nvPr/>
        </p:nvGraphicFramePr>
        <p:xfrm>
          <a:off x="3059280" y="3357720"/>
          <a:ext cx="1079280" cy="77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3357720"/>
                    <a:ext cx="1079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38"/>
          <p:cNvSpPr/>
          <p:nvPr/>
        </p:nvSpPr>
        <p:spPr>
          <a:xfrm>
            <a:off x="900000" y="4293000"/>
            <a:ext cx="755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依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grange Multiplier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方法，可得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文字方塊 18"/>
          <p:cNvSpPr/>
          <p:nvPr/>
        </p:nvSpPr>
        <p:spPr>
          <a:xfrm>
            <a:off x="6948360" y="1811160"/>
            <a:ext cx="10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6.1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4"/>
          <p:cNvGraphicFramePr/>
          <p:nvPr/>
        </p:nvGraphicFramePr>
        <p:xfrm>
          <a:off x="1835280" y="5013360"/>
          <a:ext cx="532908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35280" y="5013360"/>
                    <a:ext cx="532908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23C0-A00F-4906-A7FA-41394B281C7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1249920" y="1267560"/>
            <a:ext cx="32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對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微分後令為零，可得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7"/>
          <p:cNvGraphicFramePr/>
          <p:nvPr/>
        </p:nvGraphicFramePr>
        <p:xfrm>
          <a:off x="674640" y="1352520"/>
          <a:ext cx="79236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352520"/>
                    <a:ext cx="7923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9"/>
          <p:cNvGraphicFramePr/>
          <p:nvPr/>
        </p:nvGraphicFramePr>
        <p:xfrm>
          <a:off x="1835280" y="1371600"/>
          <a:ext cx="2746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371600"/>
                    <a:ext cx="2746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1"/>
          <p:cNvGraphicFramePr/>
          <p:nvPr/>
        </p:nvGraphicFramePr>
        <p:xfrm>
          <a:off x="1692360" y="1947960"/>
          <a:ext cx="324000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1947960"/>
                    <a:ext cx="3240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13"/>
          <p:cNvSpPr/>
          <p:nvPr/>
        </p:nvSpPr>
        <p:spPr>
          <a:xfrm>
            <a:off x="1249920" y="2815200"/>
            <a:ext cx="328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對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微分後令為零，可得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Object 14"/>
          <p:cNvGraphicFramePr/>
          <p:nvPr/>
        </p:nvGraphicFramePr>
        <p:xfrm>
          <a:off x="663480" y="2882880"/>
          <a:ext cx="865440" cy="34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3480" y="2882880"/>
                    <a:ext cx="8654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16"/>
          <p:cNvGraphicFramePr/>
          <p:nvPr/>
        </p:nvGraphicFramePr>
        <p:xfrm>
          <a:off x="1806480" y="2811600"/>
          <a:ext cx="32868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06480" y="2811600"/>
                    <a:ext cx="3286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20"/>
          <p:cNvGraphicFramePr/>
          <p:nvPr/>
        </p:nvGraphicFramePr>
        <p:xfrm>
          <a:off x="1692360" y="3316320"/>
          <a:ext cx="4680000" cy="7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92360" y="3316320"/>
                    <a:ext cx="46800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22"/>
          <p:cNvSpPr/>
          <p:nvPr/>
        </p:nvSpPr>
        <p:spPr>
          <a:xfrm>
            <a:off x="7240320" y="345816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0.6.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835200" y="4105800"/>
            <a:ext cx="211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由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6.3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解得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Object 24"/>
          <p:cNvGraphicFramePr/>
          <p:nvPr/>
        </p:nvGraphicFramePr>
        <p:xfrm>
          <a:off x="1763640" y="4516560"/>
          <a:ext cx="2519280" cy="13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3640" y="4516560"/>
                    <a:ext cx="25192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26"/>
          <p:cNvSpPr/>
          <p:nvPr/>
        </p:nvSpPr>
        <p:spPr>
          <a:xfrm>
            <a:off x="7240320" y="49712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0.6.4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7"/>
          <p:cNvSpPr/>
          <p:nvPr/>
        </p:nvSpPr>
        <p:spPr>
          <a:xfrm>
            <a:off x="7240320" y="20185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0.6.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BBB-E6F7-4DCB-AC85-3CDAD2052EE0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083240" y="979920"/>
            <a:ext cx="346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由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6.2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和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6.4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得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1619280" y="1484280"/>
          <a:ext cx="3168720" cy="16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84280"/>
                    <a:ext cx="31687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7"/>
          <p:cNvSpPr/>
          <p:nvPr/>
        </p:nvSpPr>
        <p:spPr>
          <a:xfrm>
            <a:off x="6953040" y="213264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0.6.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993960" y="3318120"/>
            <a:ext cx="193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從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6.5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可得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Object 9"/>
          <p:cNvGraphicFramePr/>
          <p:nvPr/>
        </p:nvGraphicFramePr>
        <p:xfrm>
          <a:off x="1547640" y="3855960"/>
          <a:ext cx="331344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855960"/>
                    <a:ext cx="331344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Rectangle 11"/>
          <p:cNvSpPr/>
          <p:nvPr/>
        </p:nvSpPr>
        <p:spPr>
          <a:xfrm>
            <a:off x="7024320" y="4149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0.6.6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316D-CC10-40CF-830F-A61182D323BF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2052720" y="1555920"/>
          <a:ext cx="3024000" cy="118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555920"/>
                    <a:ext cx="3024000" cy="11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6"/>
          <p:cNvSpPr/>
          <p:nvPr/>
        </p:nvSpPr>
        <p:spPr>
          <a:xfrm>
            <a:off x="6883560" y="20314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.6.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1229040" y="3504240"/>
            <a:ext cx="153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群心    可調整為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Object 15"/>
          <p:cNvGraphicFramePr/>
          <p:nvPr/>
        </p:nvGraphicFramePr>
        <p:xfrm>
          <a:off x="1547640" y="3500280"/>
          <a:ext cx="2876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500280"/>
                    <a:ext cx="287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20"/>
          <p:cNvSpPr/>
          <p:nvPr/>
        </p:nvSpPr>
        <p:spPr>
          <a:xfrm>
            <a:off x="6883560" y="462384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.6.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Object 19"/>
          <p:cNvGraphicFramePr/>
          <p:nvPr/>
        </p:nvGraphicFramePr>
        <p:xfrm>
          <a:off x="2162160" y="4221000"/>
          <a:ext cx="2816280" cy="14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2160" y="4221000"/>
                    <a:ext cx="281628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12"/>
          <p:cNvSpPr/>
          <p:nvPr/>
        </p:nvSpPr>
        <p:spPr>
          <a:xfrm>
            <a:off x="1155960" y="835560"/>
            <a:ext cx="346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將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6.6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代入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.6.4)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，得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0BCC-23FF-446D-BA95-5054F46EC23E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群組 14"/>
          <p:cNvGrpSpPr/>
          <p:nvPr/>
        </p:nvGrpSpPr>
        <p:grpSpPr>
          <a:xfrm>
            <a:off x="395280" y="899280"/>
            <a:ext cx="8278920" cy="4114440"/>
            <a:chOff x="395280" y="899280"/>
            <a:chExt cx="8278920" cy="4114440"/>
          </a:xfrm>
        </p:grpSpPr>
        <p:sp>
          <p:nvSpPr>
            <p:cNvPr id="355" name="Rectangle 4"/>
            <p:cNvSpPr/>
            <p:nvPr/>
          </p:nvSpPr>
          <p:spPr>
            <a:xfrm>
              <a:off x="395280" y="899280"/>
              <a:ext cx="8278920" cy="41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模糊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-means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共分下列五個步驟：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步驟一：選定群數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、次方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、誤差容忍度    和起始隸屬矩陣      。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步驟二：根據資料點集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算出起始的群心集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步驟三：重新計算      ，              和               。修正各個群心值。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步驟四：計算出誤差                          ，這裏       和      代表群心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連續兩個疊代回合的值。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步驟五：若             則停止；否則回到步驟三。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6" name="Object 5"/>
            <p:cNvGraphicFramePr/>
            <p:nvPr/>
          </p:nvGraphicFramePr>
          <p:xfrm>
            <a:off x="5580000" y="1589040"/>
            <a:ext cx="250560" cy="28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0000" y="1589040"/>
                      <a:ext cx="250560" cy="2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Object 7"/>
            <p:cNvGraphicFramePr/>
            <p:nvPr/>
          </p:nvGraphicFramePr>
          <p:xfrm>
            <a:off x="3317400" y="2579040"/>
            <a:ext cx="1008000" cy="34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17400" y="2579040"/>
                      <a:ext cx="100800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Object 9"/>
            <p:cNvGraphicFramePr/>
            <p:nvPr/>
          </p:nvGraphicFramePr>
          <p:xfrm>
            <a:off x="4715280" y="2597040"/>
            <a:ext cx="936360" cy="32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15280" y="2597040"/>
                      <a:ext cx="93636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2" name="Object 11"/>
            <p:cNvGraphicFramePr/>
            <p:nvPr/>
          </p:nvGraphicFramePr>
          <p:xfrm>
            <a:off x="3058920" y="3434400"/>
            <a:ext cx="1657440" cy="642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3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58920" y="3434400"/>
                      <a:ext cx="1657440" cy="64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4" name="Object 13"/>
            <p:cNvGraphicFramePr/>
            <p:nvPr/>
          </p:nvGraphicFramePr>
          <p:xfrm>
            <a:off x="5652000" y="3556080"/>
            <a:ext cx="396720" cy="431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5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52000" y="3556080"/>
                      <a:ext cx="39672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6" name="Object 15"/>
            <p:cNvGraphicFramePr/>
            <p:nvPr/>
          </p:nvGraphicFramePr>
          <p:xfrm>
            <a:off x="6472800" y="3556080"/>
            <a:ext cx="412560" cy="44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67" name="Object 1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72800" y="3556080"/>
                      <a:ext cx="4125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17"/>
            <p:cNvGraphicFramePr/>
            <p:nvPr/>
          </p:nvGraphicFramePr>
          <p:xfrm>
            <a:off x="8004600" y="3628800"/>
            <a:ext cx="239400" cy="36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69" name="Object 1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004600" y="3628800"/>
                      <a:ext cx="2394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70" name="Picture 20" descr=""/>
            <p:cNvPicPr/>
            <p:nvPr/>
          </p:nvPicPr>
          <p:blipFill>
            <a:blip r:embed="rId15"/>
            <a:stretch/>
          </p:blipFill>
          <p:spPr>
            <a:xfrm>
              <a:off x="1907280" y="4608720"/>
              <a:ext cx="885600" cy="390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71" name="Object 9"/>
            <p:cNvGraphicFramePr/>
            <p:nvPr/>
          </p:nvGraphicFramePr>
          <p:xfrm>
            <a:off x="7885080" y="1553400"/>
            <a:ext cx="318960" cy="3600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372" name="Object 9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885080" y="1553400"/>
                      <a:ext cx="31896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3" name="Object 16"/>
            <p:cNvGraphicFramePr/>
            <p:nvPr/>
          </p:nvGraphicFramePr>
          <p:xfrm>
            <a:off x="3563640" y="2085120"/>
            <a:ext cx="318960" cy="3600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74" name="Object 16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563640" y="2085120"/>
                      <a:ext cx="31896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5" name="Object 11"/>
            <p:cNvGraphicFramePr/>
            <p:nvPr/>
          </p:nvGraphicFramePr>
          <p:xfrm>
            <a:off x="2739600" y="2587320"/>
            <a:ext cx="318960" cy="3790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76" name="Object 11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739600" y="2587320"/>
                      <a:ext cx="318960" cy="37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有很長歷史的分群技巧有著很豐富的應用。除了向量量化的應用外，也多少帶識別的作用。分群的時間效率和失真的折衷至今一直吸引著學者們的研究興趣，也是很值得研究的研究議題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B4B6-26E9-42E0-ABC5-D587AEA316ED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673200"/>
            <a:ext cx="70675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7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D810-91D2-4CF8-BBA4-7E4267EF175A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1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1628640"/>
            <a:ext cx="799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分群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Clustering) 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</a:rPr>
              <a:t>是將一組資料依據某種距離的量度將其分割成若干群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18"/>
          <p:cNvGraphicFramePr/>
          <p:nvPr/>
        </p:nvGraphicFramePr>
        <p:xfrm>
          <a:off x="1765440" y="2997360"/>
          <a:ext cx="4319280" cy="29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997360"/>
                    <a:ext cx="4319280" cy="29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20"/>
          <p:cNvSpPr/>
          <p:nvPr/>
        </p:nvSpPr>
        <p:spPr>
          <a:xfrm>
            <a:off x="5292720" y="5516640"/>
            <a:ext cx="266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1.1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分群示意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投影片編號版面配置區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8F1F-BC13-429D-9E01-8FFC2D999F02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群組 6"/>
          <p:cNvGrpSpPr/>
          <p:nvPr/>
        </p:nvGrpSpPr>
        <p:grpSpPr>
          <a:xfrm>
            <a:off x="533520" y="685800"/>
            <a:ext cx="8142120" cy="5838840"/>
            <a:chOff x="533520" y="685800"/>
            <a:chExt cx="8142120" cy="5838840"/>
          </a:xfrm>
        </p:grpSpPr>
        <p:sp>
          <p:nvSpPr>
            <p:cNvPr id="126" name="Rectangle 2"/>
            <p:cNvSpPr/>
            <p:nvPr/>
          </p:nvSpPr>
          <p:spPr>
            <a:xfrm>
              <a:off x="533520" y="685800"/>
              <a:ext cx="53341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10.2 K-means </a:t>
              </a:r>
              <a:r>
                <a:rPr b="0" lang="zh-TW" sz="4400" spc="-1" strike="noStrike">
                  <a:solidFill>
                    <a:srgbClr val="000000"/>
                  </a:solidFill>
                  <a:latin typeface="Times New Roman"/>
                </a:rPr>
                <a:t>分群法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611280" y="1484280"/>
              <a:ext cx="8064360" cy="23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-means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的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指的是分群數，而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eans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則是分群質心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範例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：給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筆資料，利用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-means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分群法來進行分群的工作，如何決定起始的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個分群質心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解答：隨機挑選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個資料當作起始分群質心。例如點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和點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TW" sz="2200" spc="-1" strike="noStrike" baseline="-25000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解答完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Object 13"/>
            <p:cNvGraphicFramePr/>
            <p:nvPr/>
          </p:nvGraphicFramePr>
          <p:xfrm>
            <a:off x="1670040" y="4017960"/>
            <a:ext cx="6070680" cy="196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0040" y="4017960"/>
                      <a:ext cx="6070680" cy="196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18"/>
            <p:cNvSpPr/>
            <p:nvPr/>
          </p:nvSpPr>
          <p:spPr>
            <a:xfrm>
              <a:off x="2771640" y="6093000"/>
              <a:ext cx="3887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0.2.1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起始的兩個群心選定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DEA3-5B36-43AB-B7DE-F66C605F0DC6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群組 14"/>
          <p:cNvGrpSpPr/>
          <p:nvPr/>
        </p:nvGrpSpPr>
        <p:grpSpPr>
          <a:xfrm>
            <a:off x="179280" y="836640"/>
            <a:ext cx="8569440" cy="5545080"/>
            <a:chOff x="179280" y="836640"/>
            <a:chExt cx="8569440" cy="5545080"/>
          </a:xfrm>
        </p:grpSpPr>
        <p:grpSp>
          <p:nvGrpSpPr>
            <p:cNvPr id="133" name="群組 11"/>
            <p:cNvGrpSpPr/>
            <p:nvPr/>
          </p:nvGrpSpPr>
          <p:grpSpPr>
            <a:xfrm>
              <a:off x="1187280" y="1916280"/>
              <a:ext cx="7359840" cy="3103920"/>
              <a:chOff x="1187280" y="1916280"/>
              <a:chExt cx="7359840" cy="3103920"/>
            </a:xfrm>
          </p:grpSpPr>
          <p:sp>
            <p:nvSpPr>
              <p:cNvPr id="134" name="Text Box 1143"/>
              <p:cNvSpPr/>
              <p:nvPr/>
            </p:nvSpPr>
            <p:spPr>
              <a:xfrm>
                <a:off x="2916000" y="3860640"/>
                <a:ext cx="339732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圖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0.2.2 </a:t>
                </a:r>
                <a:r>
                  <a:rPr b="0" lang="zh-TW" sz="2200" spc="-1" strike="noStrike">
                    <a:solidFill>
                      <a:srgbClr val="000000"/>
                    </a:solidFill>
                    <a:latin typeface="Times New Roman"/>
                  </a:rPr>
                  <a:t>各點的歸類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14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916280"/>
                <a:ext cx="7359840" cy="310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文字方塊 23"/>
            <p:cNvSpPr/>
            <p:nvPr/>
          </p:nvSpPr>
          <p:spPr>
            <a:xfrm>
              <a:off x="468000" y="836640"/>
              <a:ext cx="79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範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：如何以疊代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Iterative)</a:t>
              </a: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的方式繼續修正兩個群心以達到最後穩態為止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群組 12"/>
            <p:cNvGrpSpPr/>
            <p:nvPr/>
          </p:nvGrpSpPr>
          <p:grpSpPr>
            <a:xfrm>
              <a:off x="179280" y="4437000"/>
              <a:ext cx="8569440" cy="1944720"/>
              <a:chOff x="179280" y="4437000"/>
              <a:chExt cx="8569440" cy="1944720"/>
            </a:xfrm>
          </p:grpSpPr>
          <p:sp>
            <p:nvSpPr>
              <p:cNvPr id="138" name="Rectangle 1147"/>
              <p:cNvSpPr/>
              <p:nvPr/>
            </p:nvSpPr>
            <p:spPr>
              <a:xfrm>
                <a:off x="179280" y="4437000"/>
                <a:ext cx="8569440" cy="19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</a:rPr>
                  <a:t>計算各資料點分別與兩個群心的距離，將資料點歸類到距離最短的群心那一類。之後，再以歸類好的資料點計算出新的質心位置     和    。反復為之，直到群心不改變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9" name="Object 4"/>
                  <p:cNvSpPr txBox="1"/>
                  <p:nvPr/>
                </p:nvSpPr>
                <p:spPr>
                  <a:xfrm>
                    <a:off x="1835280" y="5176080"/>
                    <a:ext cx="29340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0" name="Object 5"/>
                  <p:cNvSpPr txBox="1"/>
                  <p:nvPr/>
                </p:nvSpPr>
                <p:spPr>
                  <a:xfrm>
                    <a:off x="2555640" y="5176080"/>
                    <a:ext cx="34416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1" name="文字方塊 13"/>
            <p:cNvSpPr/>
            <p:nvPr/>
          </p:nvSpPr>
          <p:spPr>
            <a:xfrm>
              <a:off x="539280" y="1700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解答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文字方塊 14"/>
            <p:cNvSpPr/>
            <p:nvPr/>
          </p:nvSpPr>
          <p:spPr>
            <a:xfrm>
              <a:off x="539280" y="580536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解答完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D13F-9814-4D56-844F-AE2197A7251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468360" y="765000"/>
            <a:ext cx="8064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在前面介紹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分群法中，碰到較極端的例子，例如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lier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例子，是否會產生不理想的分群結果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：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9]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群組 7"/>
          <p:cNvGrpSpPr/>
          <p:nvPr/>
        </p:nvGrpSpPr>
        <p:grpSpPr>
          <a:xfrm>
            <a:off x="2124000" y="1917720"/>
            <a:ext cx="5184720" cy="3000240"/>
            <a:chOff x="2124000" y="1917720"/>
            <a:chExt cx="5184720" cy="3000240"/>
          </a:xfrm>
        </p:grpSpPr>
        <p:graphicFrame>
          <p:nvGraphicFramePr>
            <p:cNvPr id="146" name="Object 13"/>
            <p:cNvGraphicFramePr/>
            <p:nvPr/>
          </p:nvGraphicFramePr>
          <p:xfrm>
            <a:off x="2190600" y="1917720"/>
            <a:ext cx="5118120" cy="227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0600" y="1917720"/>
                      <a:ext cx="5118120" cy="22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Text Box 15"/>
            <p:cNvSpPr/>
            <p:nvPr/>
          </p:nvSpPr>
          <p:spPr>
            <a:xfrm>
              <a:off x="3203640" y="4413240"/>
              <a:ext cx="338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圖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0.2.3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一個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Outlier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例子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文字方塊 6"/>
            <p:cNvSpPr/>
            <p:nvPr/>
          </p:nvSpPr>
          <p:spPr>
            <a:xfrm>
              <a:off x="2124000" y="1964160"/>
              <a:ext cx="432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群組 22"/>
          <p:cNvGrpSpPr/>
          <p:nvPr/>
        </p:nvGrpSpPr>
        <p:grpSpPr>
          <a:xfrm>
            <a:off x="468360" y="5037120"/>
            <a:ext cx="8064360" cy="1342080"/>
            <a:chOff x="468360" y="5037120"/>
            <a:chExt cx="8064360" cy="1342080"/>
          </a:xfrm>
        </p:grpSpPr>
        <p:sp>
          <p:nvSpPr>
            <p:cNvPr id="151" name="Text Box 39"/>
            <p:cNvSpPr/>
            <p:nvPr/>
          </p:nvSpPr>
          <p:spPr>
            <a:xfrm>
              <a:off x="468360" y="5037120"/>
              <a:ext cx="806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利用                                                    的條件，將點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這個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Outlier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另外歸為一類；否則就遵循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K-means</a:t>
              </a: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分群法。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Object 54"/>
            <p:cNvGraphicFramePr/>
            <p:nvPr/>
          </p:nvGraphicFramePr>
          <p:xfrm>
            <a:off x="1116720" y="5109120"/>
            <a:ext cx="3528720" cy="36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3" name="Object 5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16720" y="5109120"/>
                      <a:ext cx="352872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文字方塊 21"/>
            <p:cNvSpPr/>
            <p:nvPr/>
          </p:nvSpPr>
          <p:spPr>
            <a:xfrm>
              <a:off x="468360" y="5950080"/>
              <a:ext cx="143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imes New Roman"/>
                </a:rPr>
                <a:t>解答完畢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1F11-0660-4D45-8691-A845EE03F369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3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植基於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D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樹的分群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27"/>
          <p:cNvSpPr/>
          <p:nvPr/>
        </p:nvSpPr>
        <p:spPr>
          <a:xfrm>
            <a:off x="539640" y="206064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037"/>
          <p:cNvGraphicFramePr/>
          <p:nvPr/>
        </p:nvGraphicFramePr>
        <p:xfrm>
          <a:off x="561960" y="2860560"/>
          <a:ext cx="386712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0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" y="2860560"/>
                    <a:ext cx="386712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1039"/>
          <p:cNvSpPr/>
          <p:nvPr/>
        </p:nvSpPr>
        <p:spPr>
          <a:xfrm>
            <a:off x="108000" y="5610240"/>
            <a:ext cx="4680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3.1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十一筆資料的分佈圖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字方塊 7"/>
          <p:cNvSpPr/>
          <p:nvPr/>
        </p:nvSpPr>
        <p:spPr>
          <a:xfrm>
            <a:off x="539640" y="155736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範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：何謂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-D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4859280" y="2708280"/>
          <a:ext cx="40338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708280"/>
                    <a:ext cx="40338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6"/>
          <p:cNvSpPr/>
          <p:nvPr/>
        </p:nvSpPr>
        <p:spPr>
          <a:xfrm>
            <a:off x="4859280" y="5611680"/>
            <a:ext cx="3816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3.2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第一次分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5517-722A-401A-85D8-D29119AE397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2627280" y="476280"/>
          <a:ext cx="4105440" cy="29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76280"/>
                    <a:ext cx="410544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1"/>
          <p:cNvGraphicFramePr/>
          <p:nvPr/>
        </p:nvGraphicFramePr>
        <p:xfrm>
          <a:off x="2268360" y="3860640"/>
          <a:ext cx="517860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860640"/>
                    <a:ext cx="51786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10"/>
          <p:cNvSpPr/>
          <p:nvPr/>
        </p:nvSpPr>
        <p:spPr>
          <a:xfrm>
            <a:off x="2558880" y="3392640"/>
            <a:ext cx="42451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3.3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最後分割的結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3130560" y="6237360"/>
            <a:ext cx="2736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3.4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D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字方塊 21"/>
          <p:cNvSpPr/>
          <p:nvPr/>
        </p:nvSpPr>
        <p:spPr>
          <a:xfrm>
            <a:off x="395280" y="623736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解答完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投影片編號版面配置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209E-6B11-4F5F-B068-3A09569CAC2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4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植基於對稱假設的分群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2"/>
          <p:cNvGraphicFramePr/>
          <p:nvPr/>
        </p:nvGraphicFramePr>
        <p:xfrm>
          <a:off x="2031840" y="1557360"/>
          <a:ext cx="4813560" cy="28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1840" y="1557360"/>
                    <a:ext cx="481356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2681280" y="4468680"/>
            <a:ext cx="36194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4.1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一個對稱圖的例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0"/>
          <p:cNvSpPr/>
          <p:nvPr/>
        </p:nvSpPr>
        <p:spPr>
          <a:xfrm>
            <a:off x="539640" y="5084640"/>
            <a:ext cx="80647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根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作法，資料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因為距離群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較近，它會被歸屬於群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。事實上，從資料集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分佈來看，資料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應該被歸屬於群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</a:rPr>
              <a:t>的。造成了誤判的情形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4:48:03Z</dcterms:created>
  <dc:creator/>
  <dc:description/>
  <dc:language>en-US</dc:language>
  <cp:lastModifiedBy>Mirrorchiu</cp:lastModifiedBy>
  <dcterms:modified xsi:type="dcterms:W3CDTF">2012-05-14T02:38:10Z</dcterms:modified>
  <cp:revision>499</cp:revision>
  <dc:subject/>
  <dc:title>第十章 分群與應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