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32.jpeg" ContentType="image/jpeg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62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28.wmf" ContentType="image/x-wmf"/>
  <Override PartName="/ppt/media/image30.png" ContentType="image/png"/>
  <Override PartName="/ppt/media/image69.wmf" ContentType="image/x-wmf"/>
  <Override PartName="/ppt/media/image71.wmf" ContentType="image/x-wmf"/>
  <Override PartName="/ppt/media/image1.png" ContentType="image/png"/>
  <Override PartName="/ppt/media/image29.wmf" ContentType="image/x-wmf"/>
  <Override PartName="/ppt/media/image31.png" ContentType="image/png"/>
  <Override PartName="/ppt/media/image72.wmf" ContentType="image/x-wmf"/>
  <Override PartName="/ppt/media/image89.wmf" ContentType="image/x-wmf"/>
  <Override PartName="/ppt/media/image77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75.wmf" ContentType="image/x-wmf"/>
  <Override PartName="/ppt/media/image65.wmf" ContentType="image/x-wmf"/>
  <Override PartName="/ppt/media/image82.png" ContentType="image/png"/>
  <Override PartName="/ppt/media/image64.wmf" ContentType="image/x-wmf"/>
  <Override PartName="/ppt/media/image81.png" ContentType="image/png"/>
  <Override PartName="/ppt/media/image79.wmf" ContentType="image/x-wmf"/>
  <Override PartName="/ppt/media/image63.wmf" ContentType="image/x-wmf"/>
  <Override PartName="/ppt/media/image80.png" ContentType="image/png"/>
  <Override PartName="/ppt/media/image78.wmf" ContentType="image/x-wmf"/>
  <Override PartName="/ppt/media/image74.wmf" ContentType="image/x-wmf"/>
  <Override PartName="/ppt/media/image73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21.bin" ContentType="application/vnd.openxmlformats-officedocument.oleObject"/>
  <Override PartName="/ppt/embeddings/oleObject19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CBE4C-F4B6-4248-9724-466ADA925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F41B9-0D9B-47C9-80A0-06E1C826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5FC3E-4CBE-41BB-A907-4755D212E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9ACB0-C511-4B0B-908B-D8221B6A8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4F00-DB9A-4281-8C0D-00CCC568F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D647-3477-4513-9FA6-5ECA9E30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101D-AF1D-4443-B45B-B484E7F8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0A85-2616-457B-82F4-FEE0BFA8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5B1B-ECF6-461B-BA75-5FC3BBE7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8F38-57A4-4947-9FE3-39717D81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22A7-A4A1-412C-B02B-F6B7D054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FD328-6BD1-4AC5-8242-356C9C82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18D4-27D0-42CB-9F6E-DE3379C6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BA39-DA92-429F-AE98-560B3AD0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5780-446E-4206-92FB-DA2E1698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0736-A897-4717-BF5F-5E749863E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1D6C-DF12-4DE3-8250-3B1F74D62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259C1-986F-4999-93F9-9475A672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D082C-BE0F-4AA4-B005-9C2DF5C6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99E48-DA4E-4BE7-BCDE-668041BA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BA7F8-F961-41F6-831F-AACED336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E2ED3-C4AE-440F-8DD6-C57CF897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A410C-0668-4882-AD83-36B9BF1B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4D22C-419B-4D76-AF27-05DCF509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7B40-1142-4CF6-822C-CF346745D770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5A92-FDEF-44A6-8260-0B7CE4793A27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7.wmf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1.wmf"/><Relationship Id="rId1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7.wmf"/><Relationship Id="rId2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74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75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76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77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78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79.wmf"/><Relationship Id="rId4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8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84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5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86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87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88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89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90.wmf"/><Relationship Id="rId20" Type="http://schemas.openxmlformats.org/officeDocument/2006/relationships/oleObject" Target="../embeddings/oleObject9.bin"/><Relationship Id="rId21" Type="http://schemas.openxmlformats.org/officeDocument/2006/relationships/image" Target="../media/image91.wmf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wmf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0807-4263-41E3-8D6C-A826B7AF7E8B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65000" y="1866960"/>
            <a:ext cx="74437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300" spc="-1" strike="noStrike">
                <a:solidFill>
                  <a:srgbClr val="ffffff"/>
                </a:solidFill>
                <a:latin typeface="Arial"/>
              </a:rPr>
              <a:t>第三章</a:t>
            </a:r>
            <a:br>
              <a:rPr sz="4300"/>
            </a:br>
            <a:r>
              <a:rPr b="1" lang="zh-TW" sz="4300" spc="-1" strike="noStrike">
                <a:solidFill>
                  <a:srgbClr val="ffffff"/>
                </a:solidFill>
                <a:latin typeface="Arial"/>
              </a:rPr>
              <a:t>測邊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投影片編號版面配置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62F7-1BF7-4090-A776-E7A4A48C9F62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611280" y="549360"/>
          <a:ext cx="3101760" cy="2601720"/>
        </p:xfrm>
        <a:graphic>
          <a:graphicData uri="http://schemas.openxmlformats.org/drawingml/2006/table">
            <a:tbl>
              <a:tblPr/>
              <a:tblGrid>
                <a:gridCol w="549360"/>
                <a:gridCol w="620640"/>
                <a:gridCol w="666720"/>
                <a:gridCol w="668160"/>
                <a:gridCol w="5968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(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(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(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(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(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(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Rectangle 175"/>
          <p:cNvSpPr/>
          <p:nvPr/>
        </p:nvSpPr>
        <p:spPr>
          <a:xfrm>
            <a:off x="2322360" y="2368440"/>
            <a:ext cx="1500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Object 172"/>
          <p:cNvGraphicFramePr/>
          <p:nvPr/>
        </p:nvGraphicFramePr>
        <p:xfrm>
          <a:off x="6300720" y="3357720"/>
          <a:ext cx="1397160" cy="46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17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0720" y="3357720"/>
                    <a:ext cx="1397160" cy="46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611280" y="3357720"/>
          <a:ext cx="7705800" cy="3313080"/>
        </p:xfrm>
        <a:graphic>
          <a:graphicData uri="http://schemas.openxmlformats.org/drawingml/2006/table">
            <a:tbl>
              <a:tblPr/>
              <a:tblGrid>
                <a:gridCol w="2566800"/>
                <a:gridCol w="2570400"/>
                <a:gridCol w="2568600"/>
              </a:tblGrid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(1)  -6-18-15=-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(2)  18+15+15=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(3)  15+15+9=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(4)  -6+6+15=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(5)  6+15-3=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(6)  -15+3+9=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(7)  36+39+30=1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(8)  39+30+12=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(9)  30+12+18=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27+36+18=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-12-6-24=-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-30-39-24=-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36+18+15=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-6-9+3=-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-39-24-15=-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18+15+12=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-9+3-36=-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-24-15-36=-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39+81 = 120 &gt;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48+27 = 7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39+93 = 132 &gt;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15+69 = 84 &gt;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18+12 = 3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3+78 = 81 &gt;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105+45 = 150 &gt;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81+42 = 123 &gt;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60+75 = 135 &gt;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Rectangle 223"/>
          <p:cNvSpPr/>
          <p:nvPr/>
        </p:nvSpPr>
        <p:spPr>
          <a:xfrm>
            <a:off x="4418280" y="694080"/>
            <a:ext cx="293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2.10(a)</a:t>
            </a:r>
            <a:br>
              <a:rPr sz="2000"/>
            </a:b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為使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witt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算子得到的相關資訊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24"/>
          <p:cNvSpPr/>
          <p:nvPr/>
        </p:nvSpPr>
        <p:spPr>
          <a:xfrm>
            <a:off x="4758120" y="2925360"/>
            <a:ext cx="36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2.10(b)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witt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算子得到的結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61"/>
          <p:cNvGraphicFramePr/>
          <p:nvPr/>
        </p:nvGraphicFramePr>
        <p:xfrm>
          <a:off x="1476360" y="3429000"/>
          <a:ext cx="558720" cy="4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Object 6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3429000"/>
                    <a:ext cx="55872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63"/>
          <p:cNvGraphicFramePr/>
          <p:nvPr/>
        </p:nvGraphicFramePr>
        <p:xfrm>
          <a:off x="4067280" y="3429000"/>
          <a:ext cx="57600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2" name="Object 6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67280" y="3429000"/>
                    <a:ext cx="5760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投影片編號版面配置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7F53-4936-4A3D-9BA5-7AE0A31563D1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94920" y="907920"/>
            <a:ext cx="820908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從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2.10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中可得知像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7)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8)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9)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皆為邊點，所以最後測邊結果為一個如下的倒ㄇ字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484360" y="2276640"/>
          <a:ext cx="3606840" cy="2734920"/>
        </p:xfrm>
        <a:graphic>
          <a:graphicData uri="http://schemas.openxmlformats.org/drawingml/2006/table">
            <a:tbl>
              <a:tblPr/>
              <a:tblGrid>
                <a:gridCol w="681120"/>
                <a:gridCol w="746280"/>
                <a:gridCol w="682560"/>
                <a:gridCol w="747720"/>
                <a:gridCol w="749160"/>
              </a:tblGrid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a4"/>
                          </a:solidFill>
                          <a:latin typeface="新細明體"/>
                          <a:ea typeface="Times New Roman"/>
                        </a:rPr>
                        <a:t>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a4"/>
                          </a:solidFill>
                          <a:latin typeface="新細明體"/>
                          <a:ea typeface="Times New Roman"/>
                        </a:rPr>
                        <a:t>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a4"/>
                          </a:solidFill>
                          <a:latin typeface="新細明體"/>
                          <a:ea typeface="Times New Roman"/>
                        </a:rPr>
                        <a:t>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a4"/>
                          </a:solidFill>
                          <a:latin typeface="新細明體"/>
                          <a:ea typeface="Times New Roman"/>
                        </a:rPr>
                        <a:t>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a4"/>
                          </a:solidFill>
                          <a:latin typeface="新細明體"/>
                          <a:ea typeface="Times New Roman"/>
                        </a:rPr>
                        <a:t>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a4"/>
                          </a:solidFill>
                          <a:latin typeface="新細明體"/>
                          <a:ea typeface="Times New Roman"/>
                        </a:rPr>
                        <a:t>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a4"/>
                          </a:solidFill>
                          <a:latin typeface="新細明體"/>
                          <a:ea typeface="Times New Roman"/>
                        </a:rPr>
                        <a:t>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Rectangle 170"/>
          <p:cNvSpPr/>
          <p:nvPr/>
        </p:nvSpPr>
        <p:spPr>
          <a:xfrm>
            <a:off x="1016280" y="5589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解答完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BEB0-72E7-4CDE-BB3F-E9B0F2470682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3.3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r-Hildreth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算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r-Hildreth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測邊算子結合了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高斯平滑算子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拉普拉斯算子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的雙重技巧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高斯平滑算子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ussian Smoothing Operator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Laplacian of Gaussian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　     表迴積運算，而       表拉普拉斯算子。</a:t>
            </a:r>
            <a:r>
              <a:rPr b="0" lang="zh-TW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6"/>
          <p:cNvSpPr/>
          <p:nvPr/>
        </p:nvSpPr>
        <p:spPr>
          <a:xfrm>
            <a:off x="39528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Object 15"/>
          <p:cNvGraphicFramePr/>
          <p:nvPr/>
        </p:nvGraphicFramePr>
        <p:xfrm>
          <a:off x="3397320" y="3124080"/>
          <a:ext cx="181440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7320" y="3124080"/>
                    <a:ext cx="181440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18"/>
          <p:cNvSpPr/>
          <p:nvPr/>
        </p:nvSpPr>
        <p:spPr>
          <a:xfrm>
            <a:off x="36003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Object 17"/>
          <p:cNvGraphicFramePr/>
          <p:nvPr/>
        </p:nvGraphicFramePr>
        <p:xfrm>
          <a:off x="2473200" y="4168800"/>
          <a:ext cx="3513240" cy="45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73200" y="4168800"/>
                    <a:ext cx="351324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6" name="Object 20"/>
              <p:cNvSpPr txBox="1"/>
              <p:nvPr/>
            </p:nvSpPr>
            <p:spPr>
              <a:xfrm>
                <a:off x="914400" y="4800600"/>
                <a:ext cx="2811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277" name="Object 19"/>
          <p:cNvGraphicFramePr/>
          <p:nvPr/>
        </p:nvGraphicFramePr>
        <p:xfrm>
          <a:off x="3211560" y="4757760"/>
          <a:ext cx="358560" cy="347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8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11560" y="4757760"/>
                    <a:ext cx="35856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Text Box 22"/>
          <p:cNvSpPr/>
          <p:nvPr/>
        </p:nvSpPr>
        <p:spPr>
          <a:xfrm>
            <a:off x="6783120" y="4191120"/>
            <a:ext cx="927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(3.3.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4"/>
          <p:cNvSpPr/>
          <p:nvPr/>
        </p:nvSpPr>
        <p:spPr>
          <a:xfrm>
            <a:off x="748440" y="5526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結合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6"/>
          <p:cNvSpPr/>
          <p:nvPr/>
        </p:nvSpPr>
        <p:spPr>
          <a:xfrm>
            <a:off x="36147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Object 25"/>
          <p:cNvGraphicFramePr/>
          <p:nvPr/>
        </p:nvGraphicFramePr>
        <p:xfrm>
          <a:off x="2471760" y="5256360"/>
          <a:ext cx="3554280" cy="425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3" name="Object 2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71760" y="5256360"/>
                    <a:ext cx="355428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Text Box 27"/>
          <p:cNvSpPr/>
          <p:nvPr/>
        </p:nvSpPr>
        <p:spPr>
          <a:xfrm>
            <a:off x="6783120" y="5257800"/>
            <a:ext cx="927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(3.3.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8"/>
          <p:cNvSpPr/>
          <p:nvPr/>
        </p:nvSpPr>
        <p:spPr>
          <a:xfrm>
            <a:off x="838080" y="52117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9"/>
          <p:cNvSpPr/>
          <p:nvPr/>
        </p:nvSpPr>
        <p:spPr>
          <a:xfrm>
            <a:off x="6783120" y="3352680"/>
            <a:ext cx="927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(3.3.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投影片編號版面配置區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4D83-9391-4941-990B-E888139D6C78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39"/>
          <p:cNvSpPr/>
          <p:nvPr/>
        </p:nvSpPr>
        <p:spPr>
          <a:xfrm>
            <a:off x="395280" y="50846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為得到一個面罩且其面罩內的加權和為零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我們令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的面罩形式如下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所示，</a:t>
            </a: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這裡的常數</a:t>
            </a:r>
            <a:r>
              <a:rPr b="0" lang="en-US" sz="2200" spc="-1" strike="noStrike">
                <a:solidFill>
                  <a:srgbClr val="000000"/>
                </a:solidFill>
                <a:latin typeface="新細明體"/>
              </a:rPr>
              <a:t>c</a:t>
            </a: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是用來正規化用的。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1035"/>
              <p:cNvSpPr txBox="1"/>
              <p:nvPr/>
            </p:nvSpPr>
            <p:spPr>
              <a:xfrm>
                <a:off x="6443640" y="657360"/>
                <a:ext cx="14526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290" name="Object 1034"/>
          <p:cNvGraphicFramePr/>
          <p:nvPr/>
        </p:nvGraphicFramePr>
        <p:xfrm>
          <a:off x="3021120" y="1413000"/>
          <a:ext cx="5924520" cy="74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10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1120" y="1413000"/>
                    <a:ext cx="592452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Object 1033"/>
          <p:cNvGraphicFramePr/>
          <p:nvPr/>
        </p:nvGraphicFramePr>
        <p:xfrm>
          <a:off x="2952720" y="2428920"/>
          <a:ext cx="1368360" cy="75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Object 10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52720" y="2428920"/>
                    <a:ext cx="136836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1032"/>
          <p:cNvGraphicFramePr/>
          <p:nvPr/>
        </p:nvGraphicFramePr>
        <p:xfrm>
          <a:off x="5148360" y="2440080"/>
          <a:ext cx="228600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5" name="Object 103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48360" y="2440080"/>
                    <a:ext cx="228600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Object 1031"/>
          <p:cNvGraphicFramePr/>
          <p:nvPr/>
        </p:nvGraphicFramePr>
        <p:xfrm>
          <a:off x="3106800" y="3330720"/>
          <a:ext cx="5176800" cy="79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7" name="Object 103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06800" y="3330720"/>
                    <a:ext cx="51768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Object 1028"/>
          <p:cNvGraphicFramePr/>
          <p:nvPr/>
        </p:nvGraphicFramePr>
        <p:xfrm>
          <a:off x="3357720" y="4200480"/>
          <a:ext cx="3628800" cy="722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9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57720" y="4200480"/>
                    <a:ext cx="36288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Object 1027"/>
          <p:cNvGraphicFramePr/>
          <p:nvPr/>
        </p:nvGraphicFramePr>
        <p:xfrm>
          <a:off x="2739960" y="5908680"/>
          <a:ext cx="3355920" cy="770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1" name="Object 102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39960" y="5908680"/>
                    <a:ext cx="335592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Text Box 1040"/>
          <p:cNvSpPr/>
          <p:nvPr/>
        </p:nvSpPr>
        <p:spPr>
          <a:xfrm>
            <a:off x="1262880" y="838080"/>
            <a:ext cx="433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令              ，則                      ，對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微分一次，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041"/>
          <p:cNvSpPr/>
          <p:nvPr/>
        </p:nvSpPr>
        <p:spPr>
          <a:xfrm>
            <a:off x="1138680" y="1630440"/>
            <a:ext cx="1195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再對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微分一次，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042"/>
          <p:cNvSpPr/>
          <p:nvPr/>
        </p:nvSpPr>
        <p:spPr>
          <a:xfrm>
            <a:off x="860040" y="2544840"/>
            <a:ext cx="1521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同理，我們可推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043"/>
          <p:cNvSpPr/>
          <p:nvPr/>
        </p:nvSpPr>
        <p:spPr>
          <a:xfrm>
            <a:off x="915840" y="3495600"/>
            <a:ext cx="168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綜合以上推演，可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044"/>
          <p:cNvSpPr/>
          <p:nvPr/>
        </p:nvSpPr>
        <p:spPr>
          <a:xfrm>
            <a:off x="736560" y="4373640"/>
            <a:ext cx="230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代入式子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.3.3)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，可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Object 1038"/>
          <p:cNvGraphicFramePr/>
          <p:nvPr/>
        </p:nvGraphicFramePr>
        <p:xfrm>
          <a:off x="809640" y="905040"/>
          <a:ext cx="1058760" cy="322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8" name="Object 103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09640" y="905040"/>
                    <a:ext cx="105876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Object 1037"/>
          <p:cNvGraphicFramePr/>
          <p:nvPr/>
        </p:nvGraphicFramePr>
        <p:xfrm>
          <a:off x="2344680" y="668160"/>
          <a:ext cx="1609920" cy="576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10" name="Object 103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344680" y="668160"/>
                    <a:ext cx="16099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投影片編號版面配置區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9271-6CF8-418A-92AA-68A76106DC10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394920" y="692280"/>
            <a:ext cx="82803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範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：可否對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.3.4)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的得來多做解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解答：假設面罩大小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×5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，各像素的位置定</a:t>
            </a:r>
            <a:br>
              <a:rPr sz="2000"/>
            </a:b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     義如下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2195640" y="1989000"/>
          <a:ext cx="4470120" cy="2303640"/>
        </p:xfrm>
        <a:graphic>
          <a:graphicData uri="http://schemas.openxmlformats.org/drawingml/2006/table">
            <a:tbl>
              <a:tblPr/>
              <a:tblGrid>
                <a:gridCol w="893520"/>
                <a:gridCol w="895320"/>
                <a:gridCol w="892440"/>
                <a:gridCol w="895320"/>
                <a:gridCol w="893520"/>
              </a:tblGrid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2,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1,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,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,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2,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1,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,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,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2,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1,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,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,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2,-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1,-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-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,-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,-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2,-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-1,-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-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,-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,-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Rectangle 331"/>
          <p:cNvSpPr/>
          <p:nvPr/>
        </p:nvSpPr>
        <p:spPr>
          <a:xfrm>
            <a:off x="1116000" y="4653000"/>
            <a:ext cx="7294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將面罩內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個位置座標代入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Object 336"/>
          <p:cNvGraphicFramePr/>
          <p:nvPr/>
        </p:nvGraphicFramePr>
        <p:xfrm>
          <a:off x="3205080" y="5300640"/>
          <a:ext cx="2660760" cy="8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3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5080" y="5300640"/>
                    <a:ext cx="266076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E462-2AEA-4C11-A63F-97C51CDE5BD2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7"/>
              <p:cNvSpPr txBox="1"/>
              <p:nvPr/>
            </p:nvSpPr>
            <p:spPr>
              <a:xfrm>
                <a:off x="4440240" y="2913120"/>
                <a:ext cx="29520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19" name=""/>
          <p:cNvGraphicFramePr/>
          <p:nvPr/>
        </p:nvGraphicFramePr>
        <p:xfrm>
          <a:off x="2484360" y="1484280"/>
          <a:ext cx="4237200" cy="3168720"/>
        </p:xfrm>
        <a:graphic>
          <a:graphicData uri="http://schemas.openxmlformats.org/drawingml/2006/table">
            <a:tbl>
              <a:tblPr/>
              <a:tblGrid>
                <a:gridCol w="846360"/>
                <a:gridCol w="849240"/>
                <a:gridCol w="823680"/>
                <a:gridCol w="871560"/>
                <a:gridCol w="846360"/>
              </a:tblGrid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20" name="群組 7"/>
          <p:cNvGrpSpPr/>
          <p:nvPr/>
        </p:nvGrpSpPr>
        <p:grpSpPr>
          <a:xfrm>
            <a:off x="971640" y="4808160"/>
            <a:ext cx="7450200" cy="1373760"/>
            <a:chOff x="971640" y="4808160"/>
            <a:chExt cx="7450200" cy="1373760"/>
          </a:xfrm>
        </p:grpSpPr>
        <p:sp>
          <p:nvSpPr>
            <p:cNvPr id="321" name="Rectangle 184"/>
            <p:cNvSpPr/>
            <p:nvPr/>
          </p:nvSpPr>
          <p:spPr>
            <a:xfrm>
              <a:off x="971640" y="4808160"/>
              <a:ext cx="7450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上面的分類中，打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號的值為趨近於零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;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打    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、和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號的</a:t>
              </a:r>
              <a:br>
                <a:rPr sz="2200"/>
              </a:b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值都不大，但是以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的比例呈現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解答完畢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22" name="Object 183"/>
            <p:cNvGraphicFramePr/>
            <p:nvPr/>
          </p:nvGraphicFramePr>
          <p:xfrm>
            <a:off x="6182640" y="4868280"/>
            <a:ext cx="317520" cy="360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3" name="Object 18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82640" y="4868280"/>
                      <a:ext cx="31752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投影片編號版面配置區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3A3E-10C9-4F3C-A82A-C7940DEF3BB4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1026"/>
              <p:cNvSpPr txBox="1"/>
              <p:nvPr/>
            </p:nvSpPr>
            <p:spPr>
              <a:xfrm>
                <a:off x="2860560" y="1162080"/>
                <a:ext cx="2716200" cy="18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26" name="Picture 1027" descr="lean512"/>
          <p:cNvPicPr/>
          <p:nvPr/>
        </p:nvPicPr>
        <p:blipFill>
          <a:blip r:embed="rId1"/>
          <a:stretch/>
        </p:blipFill>
        <p:spPr>
          <a:xfrm>
            <a:off x="1371600" y="320040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029" descr="Hat"/>
          <p:cNvPicPr/>
          <p:nvPr/>
        </p:nvPicPr>
        <p:blipFill>
          <a:blip r:embed="rId2"/>
          <a:stretch/>
        </p:blipFill>
        <p:spPr>
          <a:xfrm>
            <a:off x="5105520" y="3200400"/>
            <a:ext cx="2819160" cy="281952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1031"/>
          <p:cNvSpPr/>
          <p:nvPr/>
        </p:nvSpPr>
        <p:spPr>
          <a:xfrm>
            <a:off x="1985400" y="6064200"/>
            <a:ext cx="14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3.3.1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測試影像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032"/>
          <p:cNvSpPr/>
          <p:nvPr/>
        </p:nvSpPr>
        <p:spPr>
          <a:xfrm>
            <a:off x="5174280" y="6048360"/>
            <a:ext cx="262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3.3.2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r-Hildreth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算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測邊後的結果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033"/>
          <p:cNvSpPr/>
          <p:nvPr/>
        </p:nvSpPr>
        <p:spPr>
          <a:xfrm>
            <a:off x="6402240" y="1905120"/>
            <a:ext cx="927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.3.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034"/>
          <p:cNvSpPr/>
          <p:nvPr/>
        </p:nvSpPr>
        <p:spPr>
          <a:xfrm>
            <a:off x="1753920" y="762120"/>
            <a:ext cx="226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正規化後則可得下列面罩：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78F4-D89B-45B7-A512-36C1D5969EFD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3995640" y="907920"/>
            <a:ext cx="43214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ny</a:t>
            </a:r>
            <a:r>
              <a:rPr b="0" lang="zh-TW" sz="2600" spc="-1" strike="noStrike">
                <a:solidFill>
                  <a:srgbClr val="000000"/>
                </a:solidFill>
                <a:latin typeface="Times New Roman"/>
              </a:rPr>
              <a:t>首先利用高斯平滑算子去除過多的細紋，然後在每個像素上計算其梯度方向和梯度量。假若在這梯度方向上，該像素的梯度量大於二個鄰居的量，則該像素為邊點，否則為非邊點。較弱的邊點可利用磁滯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steres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600" spc="-1" strike="noStrike">
                <a:solidFill>
                  <a:srgbClr val="000000"/>
                </a:solidFill>
                <a:latin typeface="Times New Roman"/>
              </a:rPr>
              <a:t>門檻化予以去除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4" descr="pepper"/>
          <p:cNvPicPr/>
          <p:nvPr/>
        </p:nvPicPr>
        <p:blipFill>
          <a:blip r:embed="rId1"/>
          <a:stretch/>
        </p:blipFill>
        <p:spPr>
          <a:xfrm>
            <a:off x="684360" y="1125360"/>
            <a:ext cx="2869920" cy="287028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5"/>
          <p:cNvSpPr/>
          <p:nvPr/>
        </p:nvSpPr>
        <p:spPr>
          <a:xfrm>
            <a:off x="395280" y="4221000"/>
            <a:ext cx="357840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3.3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利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ny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測邊法</a:t>
            </a:r>
            <a:br>
              <a:rPr sz="1800"/>
            </a:b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所得到的邊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2D9A-8EDE-4709-9267-D0D9A4A037A1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基底投射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在圖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1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中任挑二個不同向量，皆可檢定出內積為零，從而知道這九個向量兩兩為正交的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令圖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1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中的九個向量分為    、   、 …和    ，則              、               、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和可另外構成一組正交且單位化的基底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群組 29"/>
          <p:cNvGrpSpPr/>
          <p:nvPr/>
        </p:nvGrpSpPr>
        <p:grpSpPr>
          <a:xfrm>
            <a:off x="4495680" y="914400"/>
            <a:ext cx="4354560" cy="5258880"/>
            <a:chOff x="4495680" y="914400"/>
            <a:chExt cx="4354560" cy="5258880"/>
          </a:xfrm>
        </p:grpSpPr>
        <p:graphicFrame>
          <p:nvGraphicFramePr>
            <p:cNvPr id="340" name="Object 2"/>
            <p:cNvGraphicFramePr/>
            <p:nvPr/>
          </p:nvGraphicFramePr>
          <p:xfrm>
            <a:off x="4495680" y="914400"/>
            <a:ext cx="1295280" cy="1295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1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95680" y="914400"/>
                      <a:ext cx="129528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2" name="Object 3"/>
            <p:cNvGraphicFramePr/>
            <p:nvPr/>
          </p:nvGraphicFramePr>
          <p:xfrm>
            <a:off x="6019560" y="914400"/>
            <a:ext cx="1306440" cy="1295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3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19560" y="914400"/>
                      <a:ext cx="130644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4" name="Object 4"/>
            <p:cNvGraphicFramePr/>
            <p:nvPr/>
          </p:nvGraphicFramePr>
          <p:xfrm>
            <a:off x="7543800" y="914400"/>
            <a:ext cx="1306440" cy="1295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45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3800" y="914400"/>
                      <a:ext cx="130644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6" name="Object 5"/>
            <p:cNvGraphicFramePr/>
            <p:nvPr/>
          </p:nvGraphicFramePr>
          <p:xfrm>
            <a:off x="4495680" y="2666880"/>
            <a:ext cx="1306440" cy="1295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47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495680" y="2666880"/>
                      <a:ext cx="130644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8" name="Object 6"/>
            <p:cNvGraphicFramePr/>
            <p:nvPr/>
          </p:nvGraphicFramePr>
          <p:xfrm>
            <a:off x="6019560" y="2666880"/>
            <a:ext cx="1295280" cy="1295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49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019560" y="2666880"/>
                      <a:ext cx="129528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0" name="Object 7"/>
            <p:cNvGraphicFramePr/>
            <p:nvPr/>
          </p:nvGraphicFramePr>
          <p:xfrm>
            <a:off x="7543800" y="2666880"/>
            <a:ext cx="1295280" cy="1295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51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543800" y="2666880"/>
                      <a:ext cx="129528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2" name="Object 8"/>
            <p:cNvGraphicFramePr/>
            <p:nvPr/>
          </p:nvGraphicFramePr>
          <p:xfrm>
            <a:off x="4495680" y="4496040"/>
            <a:ext cx="1295280" cy="12952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53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495680" y="4496040"/>
                      <a:ext cx="129528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4" name="Object 9"/>
            <p:cNvGraphicFramePr/>
            <p:nvPr/>
          </p:nvGraphicFramePr>
          <p:xfrm>
            <a:off x="6019560" y="4496040"/>
            <a:ext cx="1295280" cy="12952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55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019560" y="4496040"/>
                      <a:ext cx="129528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6" name="Object 10"/>
            <p:cNvGraphicFramePr/>
            <p:nvPr/>
          </p:nvGraphicFramePr>
          <p:xfrm>
            <a:off x="7543800" y="4496040"/>
            <a:ext cx="1295280" cy="12952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57" name="Object 1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7543800" y="4496040"/>
                      <a:ext cx="129528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8" name="Text Box 21"/>
            <p:cNvSpPr/>
            <p:nvPr/>
          </p:nvSpPr>
          <p:spPr>
            <a:xfrm>
              <a:off x="4956120" y="2254320"/>
              <a:ext cx="45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22"/>
            <p:cNvSpPr/>
            <p:nvPr/>
          </p:nvSpPr>
          <p:spPr>
            <a:xfrm>
              <a:off x="6476760" y="2254320"/>
              <a:ext cx="46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3"/>
            <p:cNvSpPr/>
            <p:nvPr/>
          </p:nvSpPr>
          <p:spPr>
            <a:xfrm>
              <a:off x="8004240" y="2254320"/>
              <a:ext cx="45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24"/>
            <p:cNvSpPr/>
            <p:nvPr/>
          </p:nvSpPr>
          <p:spPr>
            <a:xfrm>
              <a:off x="4955760" y="4006800"/>
              <a:ext cx="46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25"/>
            <p:cNvSpPr/>
            <p:nvPr/>
          </p:nvSpPr>
          <p:spPr>
            <a:xfrm>
              <a:off x="6476760" y="4006800"/>
              <a:ext cx="46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6"/>
            <p:cNvSpPr/>
            <p:nvPr/>
          </p:nvSpPr>
          <p:spPr>
            <a:xfrm>
              <a:off x="8004600" y="4006800"/>
              <a:ext cx="43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27"/>
            <p:cNvSpPr/>
            <p:nvPr/>
          </p:nvSpPr>
          <p:spPr>
            <a:xfrm>
              <a:off x="4955760" y="5835960"/>
              <a:ext cx="46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28"/>
            <p:cNvSpPr/>
            <p:nvPr/>
          </p:nvSpPr>
          <p:spPr>
            <a:xfrm>
              <a:off x="6476760" y="5835960"/>
              <a:ext cx="46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29"/>
            <p:cNvSpPr/>
            <p:nvPr/>
          </p:nvSpPr>
          <p:spPr>
            <a:xfrm>
              <a:off x="8004240" y="583596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Text Box 30"/>
          <p:cNvSpPr/>
          <p:nvPr/>
        </p:nvSpPr>
        <p:spPr>
          <a:xfrm>
            <a:off x="6163560" y="6216480"/>
            <a:ext cx="115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.1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基底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群組 30"/>
          <p:cNvGrpSpPr/>
          <p:nvPr/>
        </p:nvGrpSpPr>
        <p:grpSpPr>
          <a:xfrm>
            <a:off x="826920" y="4048200"/>
            <a:ext cx="2606760" cy="1684440"/>
            <a:chOff x="826920" y="4048200"/>
            <a:chExt cx="2606760" cy="1684440"/>
          </a:xfrm>
        </p:grpSpPr>
        <mc:AlternateContent>
          <mc:Choice xmlns:a14="http://schemas.microsoft.com/office/drawing/2010/main" Requires="a14">
            <p:sp>
              <p:nvSpPr>
                <p:cNvPr id="369" name="Object 14"/>
                <p:cNvSpPr txBox="1"/>
                <p:nvPr/>
              </p:nvSpPr>
              <p:spPr>
                <a:xfrm>
                  <a:off x="1187280" y="4365720"/>
                  <a:ext cx="982800" cy="79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d>
                            <m:dPr>
                              <m:begChr m:val="‖"/>
                              <m:endChr m:val="‖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0" name="Object 15"/>
                <p:cNvSpPr txBox="1"/>
                <p:nvPr/>
              </p:nvSpPr>
              <p:spPr>
                <a:xfrm>
                  <a:off x="2411280" y="4365720"/>
                  <a:ext cx="1022400" cy="79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d>
                            <m:dPr>
                              <m:begChr m:val="‖"/>
                              <m:endChr m:val="‖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1" name="Object 16"/>
                <p:cNvSpPr txBox="1"/>
                <p:nvPr/>
              </p:nvSpPr>
              <p:spPr>
                <a:xfrm>
                  <a:off x="826920" y="4942080"/>
                  <a:ext cx="1025640" cy="79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9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9</m:t>
                              </m:r>
                            </m:sub>
                          </m:sSub>
                        </m:num>
                        <m:den>
                          <m:d>
                            <m:dPr>
                              <m:begChr m:val="‖"/>
                              <m:endChr m:val="‖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9</m:t>
                                  </m:r>
                                </m:sub>
                              </m:sSub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2" name="Object 11"/>
                <p:cNvSpPr txBox="1"/>
                <p:nvPr/>
              </p:nvSpPr>
              <p:spPr>
                <a:xfrm>
                  <a:off x="1218960" y="4048200"/>
                  <a:ext cx="26352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3" name="Object 12"/>
                <p:cNvSpPr txBox="1"/>
                <p:nvPr/>
              </p:nvSpPr>
              <p:spPr>
                <a:xfrm>
                  <a:off x="1742760" y="4048200"/>
                  <a:ext cx="29988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4" name="Object 13"/>
                <p:cNvSpPr txBox="1"/>
                <p:nvPr/>
              </p:nvSpPr>
              <p:spPr>
                <a:xfrm>
                  <a:off x="2884320" y="4052880"/>
                  <a:ext cx="30132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9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投影片編號版面配置區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DDD1-7E0A-4089-B9A1-9ADFDB27579C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027"/>
          <p:cNvSpPr/>
          <p:nvPr/>
        </p:nvSpPr>
        <p:spPr>
          <a:xfrm>
            <a:off x="380880" y="137160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視窗所框住的　　子影像，依列優先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w Major Order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的順序得向量                          。對上述九個正交且單位化的基底投影，可得                 、                 、 … 和                  。令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　 假設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對應的基底之向量為圖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1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則代表有水平紋理邊點。若對應的為圖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1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則表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平滑區域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實作時，引入門檻值，依迴積方式進行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缺點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有些基底向量的意義不明確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Object 1036"/>
          <p:cNvGraphicFramePr/>
          <p:nvPr/>
        </p:nvGraphicFramePr>
        <p:xfrm>
          <a:off x="2500200" y="1523880"/>
          <a:ext cx="579600" cy="3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Object 10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0200" y="1523880"/>
                    <a:ext cx="57960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9" name="Object 1035"/>
              <p:cNvSpPr txBox="1"/>
              <p:nvPr/>
            </p:nvSpPr>
            <p:spPr>
              <a:xfrm>
                <a:off x="1655640" y="1889280"/>
                <a:ext cx="19638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1034"/>
              <p:cNvSpPr txBox="1"/>
              <p:nvPr/>
            </p:nvSpPr>
            <p:spPr>
              <a:xfrm>
                <a:off x="1397160" y="2290680"/>
                <a:ext cx="13032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1033"/>
              <p:cNvSpPr txBox="1"/>
              <p:nvPr/>
            </p:nvSpPr>
            <p:spPr>
              <a:xfrm>
                <a:off x="2747880" y="2282760"/>
                <a:ext cx="13654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1032"/>
              <p:cNvSpPr txBox="1"/>
              <p:nvPr/>
            </p:nvSpPr>
            <p:spPr>
              <a:xfrm>
                <a:off x="5025960" y="2284560"/>
                <a:ext cx="13510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383" name="Object 1028"/>
          <p:cNvGraphicFramePr/>
          <p:nvPr/>
        </p:nvGraphicFramePr>
        <p:xfrm>
          <a:off x="3097080" y="2860560"/>
          <a:ext cx="24354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4" name="Object 10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97080" y="2860560"/>
                    <a:ext cx="243540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91EE-E791-4879-AD1F-BCF2912D4D1A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內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69992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3.1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前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3.2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拉普拉斯算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3.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r-Hildreth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算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基底投射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輪廓追蹤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投影片編號版面配置區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BFD1-0FA0-42C7-9C71-58989960BA31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395280" y="934560"/>
            <a:ext cx="833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範例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：以上的九個基底向量為何要化成單位正交向量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可否給一個示意圖以明示基底投射法的觀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395280" y="170064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解答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Object 4"/>
          <p:cNvGraphicFramePr/>
          <p:nvPr/>
        </p:nvGraphicFramePr>
        <p:xfrm>
          <a:off x="2050920" y="1647720"/>
          <a:ext cx="498492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647720"/>
                    <a:ext cx="498492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Rectangle 6"/>
          <p:cNvSpPr/>
          <p:nvPr/>
        </p:nvSpPr>
        <p:spPr>
          <a:xfrm>
            <a:off x="657720" y="6021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解答完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C647-3BB1-49AA-9949-0AA443D19283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輪廓追蹤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在物體邊緣外側邊緣標識一圈控制點集</a:t>
            </a: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可利用雲形曲線集 </a:t>
            </a: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能量函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329076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Object 2"/>
          <p:cNvGraphicFramePr/>
          <p:nvPr/>
        </p:nvGraphicFramePr>
        <p:xfrm>
          <a:off x="2209680" y="2438280"/>
          <a:ext cx="395784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438280"/>
                    <a:ext cx="39578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Text Box 6"/>
          <p:cNvSpPr/>
          <p:nvPr/>
        </p:nvSpPr>
        <p:spPr>
          <a:xfrm>
            <a:off x="6976800" y="2392200"/>
            <a:ext cx="927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(3.6.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Object 3"/>
          <p:cNvGraphicFramePr/>
          <p:nvPr/>
        </p:nvGraphicFramePr>
        <p:xfrm>
          <a:off x="1135080" y="2816280"/>
          <a:ext cx="2475000" cy="68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35080" y="2816280"/>
                    <a:ext cx="24750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Object 4"/>
          <p:cNvGraphicFramePr/>
          <p:nvPr/>
        </p:nvGraphicFramePr>
        <p:xfrm>
          <a:off x="1131840" y="3505320"/>
          <a:ext cx="3167280" cy="74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31840" y="3505320"/>
                    <a:ext cx="316728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Object 5"/>
          <p:cNvGraphicFramePr/>
          <p:nvPr/>
        </p:nvGraphicFramePr>
        <p:xfrm>
          <a:off x="1076400" y="4421160"/>
          <a:ext cx="1333440" cy="379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5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76400" y="4421160"/>
                    <a:ext cx="13334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Text Box 11"/>
          <p:cNvSpPr/>
          <p:nvPr/>
        </p:nvSpPr>
        <p:spPr>
          <a:xfrm>
            <a:off x="6091560" y="2895480"/>
            <a:ext cx="459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微分一次後連續項能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2"/>
          <p:cNvSpPr/>
          <p:nvPr/>
        </p:nvSpPr>
        <p:spPr>
          <a:xfrm>
            <a:off x="5361120" y="3687840"/>
            <a:ext cx="1857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微分二次後平滑項能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3"/>
          <p:cNvSpPr/>
          <p:nvPr/>
        </p:nvSpPr>
        <p:spPr>
          <a:xfrm>
            <a:off x="5528520" y="4373640"/>
            <a:ext cx="236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輪廓受到往影像邊點處的拉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26"/>
          <p:cNvGrpSpPr/>
          <p:nvPr/>
        </p:nvGrpSpPr>
        <p:grpSpPr>
          <a:xfrm>
            <a:off x="685800" y="4998960"/>
            <a:ext cx="7620120" cy="1067040"/>
            <a:chOff x="685800" y="4998960"/>
            <a:chExt cx="7620120" cy="1067040"/>
          </a:xfrm>
        </p:grpSpPr>
        <p:sp>
          <p:nvSpPr>
            <p:cNvPr id="410" name="Rectangle 19"/>
            <p:cNvSpPr/>
            <p:nvPr/>
          </p:nvSpPr>
          <p:spPr>
            <a:xfrm>
              <a:off x="685800" y="4998960"/>
              <a:ext cx="7620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　　為影像中初步用雲形曲線框住的輪廓且輪廓上構成的點為    、   、    …和     。通常    、    和     可定為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，但是若碰到角點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rner Point)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時，    可定為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11" name="Object 6"/>
            <p:cNvGraphicFramePr/>
            <p:nvPr/>
          </p:nvGraphicFramePr>
          <p:xfrm>
            <a:off x="849600" y="5075280"/>
            <a:ext cx="477720" cy="3430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12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49600" y="5075280"/>
                      <a:ext cx="4777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3" name="Object 7"/>
            <p:cNvGraphicFramePr/>
            <p:nvPr/>
          </p:nvGraphicFramePr>
          <p:xfrm>
            <a:off x="1078200" y="5372280"/>
            <a:ext cx="241200" cy="399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14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078200" y="5372280"/>
                      <a:ext cx="241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5" name="Object 8"/>
            <p:cNvGraphicFramePr/>
            <p:nvPr/>
          </p:nvGraphicFramePr>
          <p:xfrm>
            <a:off x="1609920" y="5369040"/>
            <a:ext cx="257040" cy="3985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16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609920" y="5369040"/>
                      <a:ext cx="257040" cy="39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7" name="Object 9"/>
            <p:cNvGraphicFramePr/>
            <p:nvPr/>
          </p:nvGraphicFramePr>
          <p:xfrm>
            <a:off x="2086200" y="5380200"/>
            <a:ext cx="264960" cy="4111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18" name="Object 9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086200" y="5380200"/>
                      <a:ext cx="264960" cy="41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9" name="Object 10"/>
            <p:cNvGraphicFramePr/>
            <p:nvPr/>
          </p:nvGraphicFramePr>
          <p:xfrm>
            <a:off x="3048120" y="5380200"/>
            <a:ext cx="277920" cy="392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420" name="Object 1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048120" y="5380200"/>
                      <a:ext cx="27792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1" name="Object 11"/>
            <p:cNvGraphicFramePr/>
            <p:nvPr/>
          </p:nvGraphicFramePr>
          <p:xfrm>
            <a:off x="4165560" y="5380200"/>
            <a:ext cx="271800" cy="3808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22" name="Object 11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4165560" y="5380200"/>
                      <a:ext cx="27180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3" name="Object 12"/>
            <p:cNvGraphicFramePr/>
            <p:nvPr/>
          </p:nvGraphicFramePr>
          <p:xfrm>
            <a:off x="4675320" y="5380200"/>
            <a:ext cx="280800" cy="3808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24" name="Object 12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675320" y="5380200"/>
                      <a:ext cx="28080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5" name="Object 13"/>
            <p:cNvGraphicFramePr/>
            <p:nvPr/>
          </p:nvGraphicFramePr>
          <p:xfrm>
            <a:off x="5327640" y="5367240"/>
            <a:ext cx="254160" cy="3812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426" name="Object 13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5327640" y="5367240"/>
                      <a:ext cx="25416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7" name="Object 14"/>
            <p:cNvGraphicFramePr/>
            <p:nvPr/>
          </p:nvGraphicFramePr>
          <p:xfrm>
            <a:off x="3745080" y="5684760"/>
            <a:ext cx="279360" cy="3812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428" name="Object 14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3745080" y="5684760"/>
                      <a:ext cx="27936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29" name="Text Box 27"/>
          <p:cNvSpPr/>
          <p:nvPr/>
        </p:nvSpPr>
        <p:spPr>
          <a:xfrm>
            <a:off x="4495680" y="29257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8"/>
          <p:cNvSpPr/>
          <p:nvPr/>
        </p:nvSpPr>
        <p:spPr>
          <a:xfrm>
            <a:off x="4495680" y="368784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9"/>
          <p:cNvSpPr/>
          <p:nvPr/>
        </p:nvSpPr>
        <p:spPr>
          <a:xfrm>
            <a:off x="4495680" y="437364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8D36-DFB9-4D44-B006-B5328BDE62DB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雲形曲線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-spline Curv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4" name="Object 26"/>
          <p:cNvGraphicFramePr/>
          <p:nvPr/>
        </p:nvGraphicFramePr>
        <p:xfrm>
          <a:off x="627120" y="2252520"/>
          <a:ext cx="5873760" cy="3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5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120" y="2252520"/>
                    <a:ext cx="587376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Object 24"/>
          <p:cNvGraphicFramePr/>
          <p:nvPr/>
        </p:nvGraphicFramePr>
        <p:xfrm>
          <a:off x="6824520" y="2276640"/>
          <a:ext cx="824040" cy="28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7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24520" y="2276640"/>
                    <a:ext cx="824040" cy="2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Object 23"/>
          <p:cNvGraphicFramePr/>
          <p:nvPr/>
        </p:nvGraphicFramePr>
        <p:xfrm>
          <a:off x="681120" y="3121200"/>
          <a:ext cx="1517400" cy="355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9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1120" y="3121200"/>
                    <a:ext cx="151740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0" name="Object 22"/>
          <p:cNvGraphicFramePr/>
          <p:nvPr/>
        </p:nvGraphicFramePr>
        <p:xfrm>
          <a:off x="681120" y="3502080"/>
          <a:ext cx="151740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1" name="Object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1120" y="3502080"/>
                    <a:ext cx="151740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Object 21"/>
          <p:cNvGraphicFramePr/>
          <p:nvPr/>
        </p:nvGraphicFramePr>
        <p:xfrm>
          <a:off x="674640" y="3882960"/>
          <a:ext cx="1514520" cy="355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3" name="Object 2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4640" y="3882960"/>
                    <a:ext cx="15145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Object 20"/>
          <p:cNvGraphicFramePr/>
          <p:nvPr/>
        </p:nvGraphicFramePr>
        <p:xfrm>
          <a:off x="2433600" y="3121200"/>
          <a:ext cx="1517760" cy="384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5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33600" y="3121200"/>
                    <a:ext cx="151776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6" name="Object 19"/>
          <p:cNvGraphicFramePr/>
          <p:nvPr/>
        </p:nvGraphicFramePr>
        <p:xfrm>
          <a:off x="2433600" y="3502080"/>
          <a:ext cx="1517760" cy="384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47" name="Object 1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33600" y="3502080"/>
                    <a:ext cx="151776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Object 18"/>
          <p:cNvGraphicFramePr/>
          <p:nvPr/>
        </p:nvGraphicFramePr>
        <p:xfrm>
          <a:off x="2443320" y="3882960"/>
          <a:ext cx="1511280" cy="384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49" name="Object 1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443320" y="3882960"/>
                    <a:ext cx="151128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Object 17"/>
          <p:cNvGraphicFramePr/>
          <p:nvPr/>
        </p:nvGraphicFramePr>
        <p:xfrm>
          <a:off x="4309920" y="3121200"/>
          <a:ext cx="1517760" cy="384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51" name="Object 1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309920" y="3121200"/>
                    <a:ext cx="151776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Object 16"/>
          <p:cNvGraphicFramePr/>
          <p:nvPr/>
        </p:nvGraphicFramePr>
        <p:xfrm>
          <a:off x="4309920" y="3502080"/>
          <a:ext cx="1517760" cy="384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53" name="Object 1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309920" y="3502080"/>
                    <a:ext cx="151776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Object 15"/>
          <p:cNvGraphicFramePr/>
          <p:nvPr/>
        </p:nvGraphicFramePr>
        <p:xfrm>
          <a:off x="4317840" y="3882960"/>
          <a:ext cx="1513080" cy="384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55" name="Object 1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317840" y="3882960"/>
                    <a:ext cx="151308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Object 14"/>
          <p:cNvGraphicFramePr/>
          <p:nvPr/>
        </p:nvGraphicFramePr>
        <p:xfrm>
          <a:off x="6100920" y="3121200"/>
          <a:ext cx="1047600" cy="355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57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100920" y="3121200"/>
                    <a:ext cx="104760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Object 13"/>
          <p:cNvGraphicFramePr/>
          <p:nvPr/>
        </p:nvGraphicFramePr>
        <p:xfrm>
          <a:off x="6100920" y="3502080"/>
          <a:ext cx="1047600" cy="3841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59" name="Object 13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100920" y="3502080"/>
                    <a:ext cx="104760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Object 12"/>
          <p:cNvGraphicFramePr/>
          <p:nvPr/>
        </p:nvGraphicFramePr>
        <p:xfrm>
          <a:off x="6100920" y="3882960"/>
          <a:ext cx="1047600" cy="3841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61" name="Object 12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100920" y="3882960"/>
                    <a:ext cx="104760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Object 11"/>
          <p:cNvGraphicFramePr/>
          <p:nvPr/>
        </p:nvGraphicFramePr>
        <p:xfrm>
          <a:off x="7415280" y="3121200"/>
          <a:ext cx="1009440" cy="3553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463" name="Object 11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415280" y="3121200"/>
                    <a:ext cx="100944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Object 10"/>
          <p:cNvGraphicFramePr/>
          <p:nvPr/>
        </p:nvGraphicFramePr>
        <p:xfrm>
          <a:off x="7415280" y="3502080"/>
          <a:ext cx="1011240" cy="3841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465" name="Object 10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415280" y="3502080"/>
                    <a:ext cx="101124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Object 9"/>
          <p:cNvGraphicFramePr/>
          <p:nvPr/>
        </p:nvGraphicFramePr>
        <p:xfrm>
          <a:off x="7432560" y="3882960"/>
          <a:ext cx="1011240" cy="3841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467" name="Object 9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432560" y="3882960"/>
                    <a:ext cx="101124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68" name="Object 8"/>
              <p:cNvSpPr txBox="1"/>
              <p:nvPr/>
            </p:nvSpPr>
            <p:spPr>
              <a:xfrm>
                <a:off x="900000" y="4365720"/>
                <a:ext cx="136044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,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7"/>
              <p:cNvSpPr txBox="1"/>
              <p:nvPr/>
            </p:nvSpPr>
            <p:spPr>
              <a:xfrm>
                <a:off x="900000" y="4941720"/>
                <a:ext cx="321624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,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6"/>
              <p:cNvSpPr txBox="1"/>
              <p:nvPr/>
            </p:nvSpPr>
            <p:spPr>
              <a:xfrm>
                <a:off x="900000" y="5516640"/>
                <a:ext cx="269568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,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(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5"/>
              <p:cNvSpPr txBox="1"/>
              <p:nvPr/>
            </p:nvSpPr>
            <p:spPr>
              <a:xfrm>
                <a:off x="900000" y="6137280"/>
                <a:ext cx="311148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3,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72" name="Object 4"/>
          <p:cNvGraphicFramePr/>
          <p:nvPr/>
        </p:nvGraphicFramePr>
        <p:xfrm>
          <a:off x="4152960" y="5029200"/>
          <a:ext cx="4427640" cy="14097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473" name="Object 4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152960" y="5029200"/>
                    <a:ext cx="442764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Text Box 37"/>
          <p:cNvSpPr/>
          <p:nvPr/>
        </p:nvSpPr>
        <p:spPr>
          <a:xfrm>
            <a:off x="1742760" y="1413000"/>
            <a:ext cx="58788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給定四個控制點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i+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i+3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，令四個接續的彎曲函數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，　　　，　　　和　　　 。且該雲形曲線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9"/>
          <p:cNvSpPr/>
          <p:nvPr/>
        </p:nvSpPr>
        <p:spPr>
          <a:xfrm>
            <a:off x="6429600" y="2205000"/>
            <a:ext cx="34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41"/>
          <p:cNvSpPr/>
          <p:nvPr/>
        </p:nvSpPr>
        <p:spPr>
          <a:xfrm>
            <a:off x="1517400" y="2665440"/>
            <a:ext cx="5609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利用四個彎曲函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Blending Function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的下列十六個等式關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42"/>
          <p:cNvSpPr/>
          <p:nvPr/>
        </p:nvSpPr>
        <p:spPr>
          <a:xfrm>
            <a:off x="152280" y="528804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3"/>
          <p:cNvSpPr/>
          <p:nvPr/>
        </p:nvSpPr>
        <p:spPr>
          <a:xfrm>
            <a:off x="4466880" y="4525920"/>
            <a:ext cx="168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雲形曲線可表示為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44"/>
          <p:cNvSpPr/>
          <p:nvPr/>
        </p:nvSpPr>
        <p:spPr>
          <a:xfrm>
            <a:off x="609480" y="4495680"/>
            <a:ext cx="152640" cy="1981440"/>
          </a:xfrm>
          <a:custGeom>
            <a:avLst/>
            <a:gdLst>
              <a:gd name="textAreaLeft" fmla="*/ 97560 w 152640"/>
              <a:gd name="textAreaRight" fmla="*/ 153000 w 15264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0" name="Object 30"/>
          <p:cNvGraphicFramePr/>
          <p:nvPr/>
        </p:nvGraphicFramePr>
        <p:xfrm>
          <a:off x="684360" y="1797120"/>
          <a:ext cx="718920" cy="38556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481" name="Object 30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84360" y="1797120"/>
                    <a:ext cx="71892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Object 29"/>
          <p:cNvGraphicFramePr/>
          <p:nvPr/>
        </p:nvGraphicFramePr>
        <p:xfrm>
          <a:off x="1751040" y="1797120"/>
          <a:ext cx="703080" cy="38556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483" name="Object 29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1751040" y="1797120"/>
                    <a:ext cx="70308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Object 28"/>
          <p:cNvGraphicFramePr/>
          <p:nvPr/>
        </p:nvGraphicFramePr>
        <p:xfrm>
          <a:off x="2894040" y="1797120"/>
          <a:ext cx="719280" cy="38556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485" name="Object 28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894040" y="1797120"/>
                    <a:ext cx="71928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Object 27"/>
          <p:cNvGraphicFramePr/>
          <p:nvPr/>
        </p:nvGraphicFramePr>
        <p:xfrm>
          <a:off x="4113360" y="1797120"/>
          <a:ext cx="720720" cy="3855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487" name="Object 27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4113360" y="1797120"/>
                    <a:ext cx="72072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F417-F6B3-4E67-857B-606E98790289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3" descr="Fig4_8Toy"/>
          <p:cNvPicPr/>
          <p:nvPr/>
        </p:nvPicPr>
        <p:blipFill>
          <a:blip r:embed="rId1"/>
          <a:stretch/>
        </p:blipFill>
        <p:spPr>
          <a:xfrm>
            <a:off x="304920" y="36576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5" descr="Image1"/>
          <p:cNvPicPr/>
          <p:nvPr/>
        </p:nvPicPr>
        <p:blipFill>
          <a:blip r:embed="rId2"/>
          <a:stretch/>
        </p:blipFill>
        <p:spPr>
          <a:xfrm>
            <a:off x="3200400" y="3657600"/>
            <a:ext cx="2525760" cy="25146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Image2"/>
          <p:cNvPicPr/>
          <p:nvPr/>
        </p:nvPicPr>
        <p:blipFill>
          <a:blip r:embed="rId3"/>
          <a:stretch/>
        </p:blipFill>
        <p:spPr>
          <a:xfrm>
            <a:off x="6095880" y="36576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492" name="Text Box 9"/>
          <p:cNvSpPr/>
          <p:nvPr/>
        </p:nvSpPr>
        <p:spPr>
          <a:xfrm>
            <a:off x="805320" y="6172200"/>
            <a:ext cx="151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.1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輸入的影像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0"/>
          <p:cNvSpPr/>
          <p:nvPr/>
        </p:nvSpPr>
        <p:spPr>
          <a:xfrm>
            <a:off x="6458040" y="6172200"/>
            <a:ext cx="188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.3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最終所找到的輪廓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1"/>
          <p:cNvSpPr/>
          <p:nvPr/>
        </p:nvSpPr>
        <p:spPr>
          <a:xfrm>
            <a:off x="3755160" y="6172200"/>
            <a:ext cx="139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.2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初始輪廓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群組 18"/>
          <p:cNvGrpSpPr/>
          <p:nvPr/>
        </p:nvGrpSpPr>
        <p:grpSpPr>
          <a:xfrm>
            <a:off x="457200" y="609480"/>
            <a:ext cx="8229600" cy="3035520"/>
            <a:chOff x="457200" y="609480"/>
            <a:chExt cx="8229600" cy="3035520"/>
          </a:xfrm>
        </p:grpSpPr>
        <p:sp>
          <p:nvSpPr>
            <p:cNvPr id="496" name="Rectangle 12"/>
            <p:cNvSpPr/>
            <p:nvPr/>
          </p:nvSpPr>
          <p:spPr>
            <a:xfrm>
              <a:off x="457200" y="609480"/>
              <a:ext cx="8229600" cy="30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正規化能量項：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　         和         可除以視窗內相關能量的最大值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　         中的       可改為            ，這裡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代表鄰近        的最小值，而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代表鄰近       的最大值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55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從     出發，首先以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3 × 3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視窗將點    框住，針對視窗內的每一點計算其能量。移往能量和所得為最小的點。直到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個點都處理完。不斷地進行疊代直到輪廓不再改變為止。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97" name="Object 14"/>
            <p:cNvGraphicFramePr/>
            <p:nvPr/>
          </p:nvGraphicFramePr>
          <p:xfrm>
            <a:off x="1844640" y="1066680"/>
            <a:ext cx="457200" cy="342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98" name="Object 14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844640" y="1066680"/>
                      <a:ext cx="45720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9" name="Object 13"/>
            <p:cNvGraphicFramePr/>
            <p:nvPr/>
          </p:nvGraphicFramePr>
          <p:xfrm>
            <a:off x="971280" y="1066680"/>
            <a:ext cx="457200" cy="3427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00" name="Object 13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71280" y="1066680"/>
                      <a:ext cx="45720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1" name="Object 20"/>
            <p:cNvGraphicFramePr/>
            <p:nvPr/>
          </p:nvGraphicFramePr>
          <p:xfrm>
            <a:off x="942840" y="1523880"/>
            <a:ext cx="537840" cy="3571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02" name="Object 20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42840" y="1523880"/>
                      <a:ext cx="537840" cy="35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3" name="Object 19"/>
            <p:cNvGraphicFramePr/>
            <p:nvPr/>
          </p:nvGraphicFramePr>
          <p:xfrm>
            <a:off x="2276280" y="1981080"/>
            <a:ext cx="475920" cy="3855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504" name="Object 19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276280" y="1981080"/>
                      <a:ext cx="475920" cy="38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5" name="Object 18"/>
            <p:cNvGraphicFramePr/>
            <p:nvPr/>
          </p:nvGraphicFramePr>
          <p:xfrm>
            <a:off x="3362400" y="1380960"/>
            <a:ext cx="874440" cy="6271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506" name="Object 18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3362400" y="1380960"/>
                      <a:ext cx="874440" cy="62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7" name="Object 17"/>
            <p:cNvGraphicFramePr/>
            <p:nvPr/>
          </p:nvGraphicFramePr>
          <p:xfrm>
            <a:off x="2047680" y="1523880"/>
            <a:ext cx="474480" cy="3855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508" name="Object 17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2047680" y="1523880"/>
                      <a:ext cx="474480" cy="38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9" name="Object 22"/>
            <p:cNvGraphicFramePr/>
            <p:nvPr/>
          </p:nvGraphicFramePr>
          <p:xfrm>
            <a:off x="6391440" y="1523880"/>
            <a:ext cx="475920" cy="38556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510" name="Object 22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6391440" y="1523880"/>
                      <a:ext cx="475920" cy="38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11" name="Object 29"/>
            <p:cNvGraphicFramePr/>
            <p:nvPr/>
          </p:nvGraphicFramePr>
          <p:xfrm>
            <a:off x="1230120" y="2427480"/>
            <a:ext cx="242640" cy="40320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512" name="Object 29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1230120" y="2427480"/>
                      <a:ext cx="242640" cy="40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13" name="Object 31"/>
            <p:cNvGraphicFramePr/>
            <p:nvPr/>
          </p:nvGraphicFramePr>
          <p:xfrm>
            <a:off x="4964040" y="2427480"/>
            <a:ext cx="242640" cy="40320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514" name="Object 31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4964040" y="2427480"/>
                      <a:ext cx="242640" cy="40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45FB-FB66-4992-8C09-8E7E68D87BCE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3.1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前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在前置處理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rocess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中，做好測邊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g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的工作是非常重要的。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D88A-1103-422F-8FB3-AE65058A1122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通過零點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Zero-crossi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主要觀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灰階的突然變化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rup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hange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一次微分後形成的波峰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ak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超過門檻值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shold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有邊點形成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二次微分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通過零點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Zero Crossing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觀念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4"/>
          <p:cNvGrpSpPr/>
          <p:nvPr/>
        </p:nvGrpSpPr>
        <p:grpSpPr>
          <a:xfrm>
            <a:off x="380880" y="3809880"/>
            <a:ext cx="2590560" cy="2236320"/>
            <a:chOff x="380880" y="3809880"/>
            <a:chExt cx="2590560" cy="2236320"/>
          </a:xfrm>
        </p:grpSpPr>
        <p:sp>
          <p:nvSpPr>
            <p:cNvPr id="118" name="Rectangle 5"/>
            <p:cNvSpPr/>
            <p:nvPr/>
          </p:nvSpPr>
          <p:spPr>
            <a:xfrm>
              <a:off x="1676160" y="3809880"/>
              <a:ext cx="1295280" cy="194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6"/>
            <p:cNvSpPr/>
            <p:nvPr/>
          </p:nvSpPr>
          <p:spPr>
            <a:xfrm>
              <a:off x="380880" y="3809880"/>
              <a:ext cx="1295280" cy="19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7"/>
            <p:cNvSpPr/>
            <p:nvPr/>
          </p:nvSpPr>
          <p:spPr>
            <a:xfrm>
              <a:off x="2192760" y="570888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8"/>
            <p:cNvSpPr/>
            <p:nvPr/>
          </p:nvSpPr>
          <p:spPr>
            <a:xfrm>
              <a:off x="857880" y="570888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9"/>
          <p:cNvGrpSpPr/>
          <p:nvPr/>
        </p:nvGrpSpPr>
        <p:grpSpPr>
          <a:xfrm>
            <a:off x="3313440" y="3657600"/>
            <a:ext cx="2780640" cy="2520360"/>
            <a:chOff x="3313440" y="3657600"/>
            <a:chExt cx="2780640" cy="2520360"/>
          </a:xfrm>
        </p:grpSpPr>
        <p:sp>
          <p:nvSpPr>
            <p:cNvPr id="123" name="Text Box 10"/>
            <p:cNvSpPr/>
            <p:nvPr/>
          </p:nvSpPr>
          <p:spPr>
            <a:xfrm>
              <a:off x="4574520" y="5870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1"/>
            <p:cNvSpPr/>
            <p:nvPr/>
          </p:nvSpPr>
          <p:spPr>
            <a:xfrm>
              <a:off x="4188960" y="5870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2"/>
            <p:cNvSpPr/>
            <p:nvPr/>
          </p:nvSpPr>
          <p:spPr>
            <a:xfrm>
              <a:off x="4953240" y="5870880"/>
              <a:ext cx="25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3"/>
            <p:cNvSpPr/>
            <p:nvPr/>
          </p:nvSpPr>
          <p:spPr>
            <a:xfrm flipV="1">
              <a:off x="3644280" y="3886920"/>
              <a:ext cx="0" cy="177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4"/>
            <p:cNvSpPr/>
            <p:nvPr/>
          </p:nvSpPr>
          <p:spPr>
            <a:xfrm>
              <a:off x="3644280" y="5661360"/>
              <a:ext cx="213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5"/>
            <p:cNvSpPr/>
            <p:nvPr/>
          </p:nvSpPr>
          <p:spPr>
            <a:xfrm>
              <a:off x="3720600" y="4149360"/>
              <a:ext cx="961560" cy="1423080"/>
            </a:xfrm>
            <a:custGeom>
              <a:avLst/>
              <a:gdLst>
                <a:gd name="textAreaLeft" fmla="*/ 0 w 961560"/>
                <a:gd name="textAreaRight" fmla="*/ 961920 w 961560"/>
                <a:gd name="textAreaTop" fmla="*/ 0 h 1423080"/>
                <a:gd name="textAreaBottom" fmla="*/ 1423080 h 1423080"/>
              </a:gdLst>
              <a:ahLst/>
              <a:rect l="textAreaLeft" t="textAreaTop" r="textAreaRight" b="textAreaBottom"/>
              <a:pathLst>
                <a:path w="604" h="770">
                  <a:moveTo>
                    <a:pt x="0" y="770"/>
                  </a:moveTo>
                  <a:lnTo>
                    <a:pt x="384" y="770"/>
                  </a:lnTo>
                  <a:lnTo>
                    <a:pt x="480" y="722"/>
                  </a:lnTo>
                  <a:lnTo>
                    <a:pt x="528" y="674"/>
                  </a:lnTo>
                  <a:lnTo>
                    <a:pt x="576" y="482"/>
                  </a:lnTo>
                  <a:lnTo>
                    <a:pt x="586" y="257"/>
                  </a:lnTo>
                  <a:lnTo>
                    <a:pt x="60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6"/>
            <p:cNvSpPr/>
            <p:nvPr/>
          </p:nvSpPr>
          <p:spPr>
            <a:xfrm>
              <a:off x="4682160" y="4182480"/>
              <a:ext cx="992520" cy="1393560"/>
            </a:xfrm>
            <a:custGeom>
              <a:avLst/>
              <a:gdLst>
                <a:gd name="textAreaLeft" fmla="*/ 0 w 992520"/>
                <a:gd name="textAreaRight" fmla="*/ 992880 w 992520"/>
                <a:gd name="textAreaTop" fmla="*/ 0 h 1393560"/>
                <a:gd name="textAreaBottom" fmla="*/ 1393560 h 1393560"/>
              </a:gdLst>
              <a:ahLst/>
              <a:rect l="textAreaLeft" t="textAreaTop" r="textAreaRight" b="textAreaBottom"/>
              <a:pathLst>
                <a:path w="624" h="754">
                  <a:moveTo>
                    <a:pt x="624" y="754"/>
                  </a:moveTo>
                  <a:lnTo>
                    <a:pt x="240" y="754"/>
                  </a:lnTo>
                  <a:lnTo>
                    <a:pt x="144" y="706"/>
                  </a:lnTo>
                  <a:lnTo>
                    <a:pt x="96" y="658"/>
                  </a:lnTo>
                  <a:lnTo>
                    <a:pt x="48" y="466"/>
                  </a:lnTo>
                  <a:lnTo>
                    <a:pt x="38" y="24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7"/>
            <p:cNvSpPr/>
            <p:nvPr/>
          </p:nvSpPr>
          <p:spPr>
            <a:xfrm>
              <a:off x="4713840" y="5572440"/>
              <a:ext cx="0" cy="17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8"/>
            <p:cNvSpPr/>
            <p:nvPr/>
          </p:nvSpPr>
          <p:spPr>
            <a:xfrm>
              <a:off x="3313440" y="3657600"/>
              <a:ext cx="25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9"/>
            <p:cNvSpPr/>
            <p:nvPr/>
          </p:nvSpPr>
          <p:spPr>
            <a:xfrm>
              <a:off x="5834160" y="5521320"/>
              <a:ext cx="25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0"/>
            <p:cNvSpPr/>
            <p:nvPr/>
          </p:nvSpPr>
          <p:spPr>
            <a:xfrm>
              <a:off x="5058720" y="5587560"/>
              <a:ext cx="0" cy="17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1"/>
            <p:cNvSpPr/>
            <p:nvPr/>
          </p:nvSpPr>
          <p:spPr>
            <a:xfrm>
              <a:off x="4343040" y="5587560"/>
              <a:ext cx="0" cy="17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22"/>
          <p:cNvGrpSpPr/>
          <p:nvPr/>
        </p:nvGrpSpPr>
        <p:grpSpPr>
          <a:xfrm>
            <a:off x="6057720" y="3657600"/>
            <a:ext cx="2779200" cy="2590200"/>
            <a:chOff x="6057720" y="3657600"/>
            <a:chExt cx="2779200" cy="2590200"/>
          </a:xfrm>
        </p:grpSpPr>
        <p:sp>
          <p:nvSpPr>
            <p:cNvPr id="136" name="Line 23"/>
            <p:cNvSpPr/>
            <p:nvPr/>
          </p:nvSpPr>
          <p:spPr>
            <a:xfrm flipV="1">
              <a:off x="6399720" y="3980880"/>
              <a:ext cx="0" cy="172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24"/>
            <p:cNvSpPr/>
            <p:nvPr/>
          </p:nvSpPr>
          <p:spPr>
            <a:xfrm>
              <a:off x="6399720" y="5708520"/>
              <a:ext cx="213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5"/>
            <p:cNvSpPr/>
            <p:nvPr/>
          </p:nvSpPr>
          <p:spPr>
            <a:xfrm>
              <a:off x="7468560" y="56008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26"/>
            <p:cNvSpPr/>
            <p:nvPr/>
          </p:nvSpPr>
          <p:spPr>
            <a:xfrm>
              <a:off x="7333200" y="5745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7"/>
            <p:cNvSpPr/>
            <p:nvPr/>
          </p:nvSpPr>
          <p:spPr>
            <a:xfrm>
              <a:off x="7010280" y="5168880"/>
              <a:ext cx="457920" cy="53928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539280"/>
                <a:gd name="textAreaBottom" fmla="*/ 539640 h 539280"/>
              </a:gdLst>
              <a:ahLst/>
              <a:rect l="textAreaLeft" t="textAreaTop" r="textAreaRight" b="textAreaBottom"/>
              <a:pathLst>
                <a:path w="288" h="240">
                  <a:moveTo>
                    <a:pt x="0" y="240"/>
                  </a:moveTo>
                  <a:cubicBezTo>
                    <a:pt x="48" y="120"/>
                    <a:pt x="96" y="0"/>
                    <a:pt x="144" y="0"/>
                  </a:cubicBezTo>
                  <a:cubicBezTo>
                    <a:pt x="192" y="0"/>
                    <a:pt x="240" y="120"/>
                    <a:pt x="288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8"/>
            <p:cNvSpPr/>
            <p:nvPr/>
          </p:nvSpPr>
          <p:spPr>
            <a:xfrm flipH="1" flipV="1">
              <a:off x="7468560" y="5707800"/>
              <a:ext cx="457920" cy="539640"/>
            </a:xfrm>
            <a:custGeom>
              <a:avLst/>
              <a:gdLst>
                <a:gd name="textAreaLeft" fmla="*/ 360 w 457920"/>
                <a:gd name="textAreaRight" fmla="*/ 458640 w 457920"/>
                <a:gd name="textAreaTop" fmla="*/ -360 h 539640"/>
                <a:gd name="textAreaBottom" fmla="*/ 539640 h 539640"/>
              </a:gdLst>
              <a:ahLst/>
              <a:rect l="textAreaLeft" t="textAreaTop" r="textAreaRight" b="textAreaBottom"/>
              <a:pathLst>
                <a:path w="288" h="240">
                  <a:moveTo>
                    <a:pt x="0" y="240"/>
                  </a:moveTo>
                  <a:cubicBezTo>
                    <a:pt x="48" y="120"/>
                    <a:pt x="96" y="0"/>
                    <a:pt x="144" y="0"/>
                  </a:cubicBezTo>
                  <a:cubicBezTo>
                    <a:pt x="192" y="0"/>
                    <a:pt x="240" y="120"/>
                    <a:pt x="288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9"/>
            <p:cNvSpPr/>
            <p:nvPr/>
          </p:nvSpPr>
          <p:spPr>
            <a:xfrm>
              <a:off x="7010280" y="56008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30"/>
            <p:cNvSpPr/>
            <p:nvPr/>
          </p:nvSpPr>
          <p:spPr>
            <a:xfrm>
              <a:off x="7926480" y="56008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31"/>
            <p:cNvSpPr/>
            <p:nvPr/>
          </p:nvSpPr>
          <p:spPr>
            <a:xfrm>
              <a:off x="6901920" y="57250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32"/>
            <p:cNvSpPr/>
            <p:nvPr/>
          </p:nvSpPr>
          <p:spPr>
            <a:xfrm>
              <a:off x="7808400" y="5725080"/>
              <a:ext cx="25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33"/>
            <p:cNvSpPr/>
            <p:nvPr/>
          </p:nvSpPr>
          <p:spPr>
            <a:xfrm>
              <a:off x="6057720" y="3657600"/>
              <a:ext cx="25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34"/>
            <p:cNvSpPr/>
            <p:nvPr/>
          </p:nvSpPr>
          <p:spPr>
            <a:xfrm>
              <a:off x="8577000" y="5600880"/>
              <a:ext cx="25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 Box 35"/>
          <p:cNvSpPr/>
          <p:nvPr/>
        </p:nvSpPr>
        <p:spPr>
          <a:xfrm>
            <a:off x="829800" y="6095880"/>
            <a:ext cx="152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3.2.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兩個同質但不同色的區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6"/>
          <p:cNvSpPr/>
          <p:nvPr/>
        </p:nvSpPr>
        <p:spPr>
          <a:xfrm>
            <a:off x="4289400" y="6095880"/>
            <a:ext cx="100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3.2.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3.2.1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的一次微分結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7"/>
          <p:cNvSpPr/>
          <p:nvPr/>
        </p:nvSpPr>
        <p:spPr>
          <a:xfrm>
            <a:off x="6985440" y="612468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3.2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通過零點示意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57AB-1CA1-478C-BFA0-3B6F010FCFDD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通過零點的另一個示意圖 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1"/>
          <p:cNvSpPr/>
          <p:nvPr/>
        </p:nvSpPr>
        <p:spPr>
          <a:xfrm>
            <a:off x="4095360" y="5877000"/>
            <a:ext cx="11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2.4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通過零點的另一個示意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群組 37"/>
          <p:cNvGrpSpPr/>
          <p:nvPr/>
        </p:nvGrpSpPr>
        <p:grpSpPr>
          <a:xfrm>
            <a:off x="576720" y="1557360"/>
            <a:ext cx="8318520" cy="4102920"/>
            <a:chOff x="576720" y="1557360"/>
            <a:chExt cx="8318520" cy="4102920"/>
          </a:xfrm>
        </p:grpSpPr>
        <p:sp>
          <p:nvSpPr>
            <p:cNvPr id="155" name="Text Box 6"/>
            <p:cNvSpPr/>
            <p:nvPr/>
          </p:nvSpPr>
          <p:spPr>
            <a:xfrm>
              <a:off x="2737440" y="314172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>
              <a:off x="890280" y="4415040"/>
              <a:ext cx="210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8"/>
            <p:cNvSpPr/>
            <p:nvPr/>
          </p:nvSpPr>
          <p:spPr>
            <a:xfrm flipV="1">
              <a:off x="1828800" y="2024280"/>
              <a:ext cx="0" cy="27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9"/>
            <p:cNvSpPr/>
            <p:nvPr/>
          </p:nvSpPr>
          <p:spPr>
            <a:xfrm>
              <a:off x="1008000" y="2196000"/>
              <a:ext cx="0" cy="2560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0"/>
            <p:cNvSpPr/>
            <p:nvPr/>
          </p:nvSpPr>
          <p:spPr>
            <a:xfrm>
              <a:off x="2649600" y="2196000"/>
              <a:ext cx="0" cy="2560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1"/>
            <p:cNvSpPr/>
            <p:nvPr/>
          </p:nvSpPr>
          <p:spPr>
            <a:xfrm>
              <a:off x="1008000" y="2308680"/>
              <a:ext cx="1641600" cy="2106360"/>
            </a:xfrm>
            <a:custGeom>
              <a:avLst/>
              <a:gdLst>
                <a:gd name="textAreaLeft" fmla="*/ 0 w 1641600"/>
                <a:gd name="textAreaRight" fmla="*/ 1641960 w 1641600"/>
                <a:gd name="textAreaTop" fmla="*/ 0 h 2106360"/>
                <a:gd name="textAreaBottom" fmla="*/ 2106720 h 2106360"/>
              </a:gdLst>
              <a:ahLst/>
              <a:rect l="textAreaLeft" t="textAreaTop" r="textAreaRight" b="textAreaBottom"/>
              <a:pathLst>
                <a:path w="672" h="592">
                  <a:moveTo>
                    <a:pt x="0" y="592"/>
                  </a:moveTo>
                  <a:cubicBezTo>
                    <a:pt x="104" y="540"/>
                    <a:pt x="208" y="488"/>
                    <a:pt x="288" y="400"/>
                  </a:cubicBezTo>
                  <a:cubicBezTo>
                    <a:pt x="368" y="312"/>
                    <a:pt x="416" y="128"/>
                    <a:pt x="480" y="64"/>
                  </a:cubicBezTo>
                  <a:cubicBezTo>
                    <a:pt x="544" y="0"/>
                    <a:pt x="608" y="8"/>
                    <a:pt x="672" y="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2"/>
            <p:cNvSpPr/>
            <p:nvPr/>
          </p:nvSpPr>
          <p:spPr>
            <a:xfrm>
              <a:off x="576720" y="321336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3"/>
            <p:cNvSpPr/>
            <p:nvPr/>
          </p:nvSpPr>
          <p:spPr>
            <a:xfrm>
              <a:off x="3062520" y="418608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4"/>
            <p:cNvSpPr/>
            <p:nvPr/>
          </p:nvSpPr>
          <p:spPr>
            <a:xfrm>
              <a:off x="1599120" y="155736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f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6"/>
            <p:cNvSpPr/>
            <p:nvPr/>
          </p:nvSpPr>
          <p:spPr>
            <a:xfrm>
              <a:off x="3780000" y="4413240"/>
              <a:ext cx="20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7"/>
            <p:cNvSpPr/>
            <p:nvPr/>
          </p:nvSpPr>
          <p:spPr>
            <a:xfrm flipV="1">
              <a:off x="4696560" y="2023920"/>
              <a:ext cx="0" cy="27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9"/>
            <p:cNvSpPr/>
            <p:nvPr/>
          </p:nvSpPr>
          <p:spPr>
            <a:xfrm>
              <a:off x="4479120" y="155736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f’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0"/>
            <p:cNvSpPr/>
            <p:nvPr/>
          </p:nvSpPr>
          <p:spPr>
            <a:xfrm>
              <a:off x="3978720" y="3588480"/>
              <a:ext cx="1584720" cy="813240"/>
            </a:xfrm>
            <a:custGeom>
              <a:avLst/>
              <a:gdLst>
                <a:gd name="textAreaLeft" fmla="*/ 0 w 1584720"/>
                <a:gd name="textAreaRight" fmla="*/ 1585080 w 1584720"/>
                <a:gd name="textAreaTop" fmla="*/ 0 h 813240"/>
                <a:gd name="textAreaBottom" fmla="*/ 813600 h 813240"/>
              </a:gdLst>
              <a:ahLst/>
              <a:rect l="textAreaLeft" t="textAreaTop" r="textAreaRight" b="textAreaBottom"/>
              <a:pathLst>
                <a:path w="664" h="229">
                  <a:moveTo>
                    <a:pt x="0" y="229"/>
                  </a:moveTo>
                  <a:cubicBezTo>
                    <a:pt x="47" y="188"/>
                    <a:pt x="190" y="0"/>
                    <a:pt x="301" y="0"/>
                  </a:cubicBezTo>
                  <a:cubicBezTo>
                    <a:pt x="412" y="0"/>
                    <a:pt x="589" y="181"/>
                    <a:pt x="664" y="22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2"/>
            <p:cNvSpPr/>
            <p:nvPr/>
          </p:nvSpPr>
          <p:spPr>
            <a:xfrm>
              <a:off x="6516720" y="4386600"/>
              <a:ext cx="206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3"/>
            <p:cNvSpPr/>
            <p:nvPr/>
          </p:nvSpPr>
          <p:spPr>
            <a:xfrm flipV="1">
              <a:off x="7433640" y="2042640"/>
              <a:ext cx="0" cy="267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25"/>
            <p:cNvSpPr/>
            <p:nvPr/>
          </p:nvSpPr>
          <p:spPr>
            <a:xfrm>
              <a:off x="7155000" y="1557360"/>
              <a:ext cx="65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f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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6"/>
            <p:cNvSpPr/>
            <p:nvPr/>
          </p:nvSpPr>
          <p:spPr>
            <a:xfrm>
              <a:off x="6631200" y="3566520"/>
              <a:ext cx="802080" cy="799200"/>
            </a:xfrm>
            <a:custGeom>
              <a:avLst/>
              <a:gdLst>
                <a:gd name="textAreaLeft" fmla="*/ 0 w 802080"/>
                <a:gd name="textAreaRight" fmla="*/ 802440 w 802080"/>
                <a:gd name="textAreaTop" fmla="*/ 0 h 799200"/>
                <a:gd name="textAreaBottom" fmla="*/ 799560 h 799200"/>
              </a:gdLst>
              <a:ahLst/>
              <a:rect l="textAreaLeft" t="textAreaTop" r="textAreaRight" b="textAreaBottom"/>
              <a:pathLst>
                <a:path w="664" h="229">
                  <a:moveTo>
                    <a:pt x="0" y="229"/>
                  </a:moveTo>
                  <a:cubicBezTo>
                    <a:pt x="47" y="188"/>
                    <a:pt x="190" y="0"/>
                    <a:pt x="301" y="0"/>
                  </a:cubicBezTo>
                  <a:cubicBezTo>
                    <a:pt x="412" y="0"/>
                    <a:pt x="589" y="181"/>
                    <a:pt x="664" y="22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7"/>
            <p:cNvSpPr/>
            <p:nvPr/>
          </p:nvSpPr>
          <p:spPr>
            <a:xfrm flipV="1">
              <a:off x="7433640" y="4382280"/>
              <a:ext cx="802080" cy="799200"/>
            </a:xfrm>
            <a:custGeom>
              <a:avLst/>
              <a:gdLst>
                <a:gd name="textAreaLeft" fmla="*/ 0 w 802080"/>
                <a:gd name="textAreaRight" fmla="*/ 802440 w 802080"/>
                <a:gd name="textAreaTop" fmla="*/ 360 h 799200"/>
                <a:gd name="textAreaBottom" fmla="*/ 799920 h 799200"/>
              </a:gdLst>
              <a:ahLst/>
              <a:rect l="textAreaLeft" t="textAreaTop" r="textAreaRight" b="textAreaBottom"/>
              <a:pathLst>
                <a:path w="664" h="229">
                  <a:moveTo>
                    <a:pt x="0" y="229"/>
                  </a:moveTo>
                  <a:cubicBezTo>
                    <a:pt x="47" y="188"/>
                    <a:pt x="190" y="0"/>
                    <a:pt x="301" y="0"/>
                  </a:cubicBezTo>
                  <a:cubicBezTo>
                    <a:pt x="412" y="0"/>
                    <a:pt x="589" y="181"/>
                    <a:pt x="664" y="22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31"/>
            <p:cNvSpPr/>
            <p:nvPr/>
          </p:nvSpPr>
          <p:spPr>
            <a:xfrm>
              <a:off x="816840" y="5292000"/>
              <a:ext cx="245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a)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兩個同質但不同色的區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32"/>
            <p:cNvSpPr/>
            <p:nvPr/>
          </p:nvSpPr>
          <p:spPr>
            <a:xfrm>
              <a:off x="4556520" y="5290920"/>
              <a:ext cx="73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b)</a:t>
              </a:r>
              <a:r>
                <a:rPr b="0" lang="zh-TW" sz="1800" spc="-1" strike="noStrike">
                  <a:solidFill>
                    <a:srgbClr val="000000"/>
                  </a:solidFill>
                  <a:latin typeface="Arial"/>
                </a:rPr>
                <a:t>一次微分結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33"/>
            <p:cNvSpPr/>
            <p:nvPr/>
          </p:nvSpPr>
          <p:spPr>
            <a:xfrm>
              <a:off x="6898680" y="5290920"/>
              <a:ext cx="17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c)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通過零點示意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13"/>
            <p:cNvSpPr/>
            <p:nvPr/>
          </p:nvSpPr>
          <p:spPr>
            <a:xfrm>
              <a:off x="5923440" y="418608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13"/>
            <p:cNvSpPr/>
            <p:nvPr/>
          </p:nvSpPr>
          <p:spPr>
            <a:xfrm>
              <a:off x="8601840" y="418608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3C84-FAC4-4941-A795-3BB4DC239BBD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3.2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拉普拉斯算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403380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9"/>
          <p:cNvSpPr/>
          <p:nvPr/>
        </p:nvSpPr>
        <p:spPr>
          <a:xfrm>
            <a:off x="380880" y="1197000"/>
            <a:ext cx="9144000" cy="42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對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新細明體"/>
              </a:rPr>
              <a:t> </a:t>
            </a: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沿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軸差分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再對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軸差分得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令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x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，可得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同理，沿著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軸差分二次得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合併可得拉普拉斯算子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8"/>
              <p:cNvSpPr txBox="1"/>
              <p:nvPr/>
            </p:nvSpPr>
            <p:spPr>
              <a:xfrm>
                <a:off x="2744640" y="1701720"/>
                <a:ext cx="32972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∇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16"/>
              <p:cNvSpPr txBox="1"/>
              <p:nvPr/>
            </p:nvSpPr>
            <p:spPr>
              <a:xfrm>
                <a:off x="1258920" y="2492280"/>
                <a:ext cx="651996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∇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[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14"/>
              <p:cNvSpPr txBox="1"/>
              <p:nvPr/>
            </p:nvSpPr>
            <p:spPr>
              <a:xfrm>
                <a:off x="2035080" y="3767040"/>
                <a:ext cx="50529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∇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12"/>
              <p:cNvSpPr txBox="1"/>
              <p:nvPr/>
            </p:nvSpPr>
            <p:spPr>
              <a:xfrm>
                <a:off x="2035080" y="4538520"/>
                <a:ext cx="48769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∇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10"/>
              <p:cNvSpPr txBox="1"/>
              <p:nvPr/>
            </p:nvSpPr>
            <p:spPr>
              <a:xfrm>
                <a:off x="473040" y="5415120"/>
                <a:ext cx="784404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∇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f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∇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f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7" name="Text Box 20"/>
          <p:cNvSpPr/>
          <p:nvPr/>
        </p:nvSpPr>
        <p:spPr>
          <a:xfrm>
            <a:off x="8237520" y="5589720"/>
            <a:ext cx="1158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(3.2.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投影片編號版面配置區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E615-C361-4E0B-8658-69B45231676C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250920" y="836280"/>
            <a:ext cx="61214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0000"/>
          </a:bodyPr>
          <a:p>
            <a:pPr marL="34200" indent="-3420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.2.5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面罩的數學背景來源為式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3.2.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200" indent="-3420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使用拉普拉斯算子來測邊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611280" y="3429000"/>
            <a:ext cx="792144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如果能滿足                     和                        的值呈現一個是正數另一個為負數，且                                            大於門檻值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的情況，我們就宣稱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, 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的位置上有一個邊點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相同的，若是                     和                     滿足上述條件，我們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可以將位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, 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上的像素視為一個邊點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2556000" y="309096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3.2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拉普拉斯測邊算子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群組 17"/>
          <p:cNvGrpSpPr/>
          <p:nvPr/>
        </p:nvGrpSpPr>
        <p:grpSpPr>
          <a:xfrm>
            <a:off x="2063880" y="4148280"/>
            <a:ext cx="3587760" cy="1396800"/>
            <a:chOff x="2063880" y="4148280"/>
            <a:chExt cx="3587760" cy="1396800"/>
          </a:xfrm>
        </p:grpSpPr>
        <p:graphicFrame>
          <p:nvGraphicFramePr>
            <p:cNvPr id="197" name="Object 17"/>
            <p:cNvGraphicFramePr/>
            <p:nvPr/>
          </p:nvGraphicFramePr>
          <p:xfrm>
            <a:off x="2063880" y="4148280"/>
            <a:ext cx="1512360" cy="41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8" name="Object 1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63880" y="4148280"/>
                      <a:ext cx="1512360" cy="4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99" name="Object 19"/>
                <p:cNvSpPr txBox="1"/>
                <p:nvPr/>
              </p:nvSpPr>
              <p:spPr>
                <a:xfrm>
                  <a:off x="3935160" y="4148280"/>
                  <a:ext cx="1512360" cy="41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∇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0" name="Object 23"/>
                <p:cNvSpPr txBox="1"/>
                <p:nvPr/>
              </p:nvSpPr>
              <p:spPr>
                <a:xfrm>
                  <a:off x="2351160" y="5104800"/>
                  <a:ext cx="1512360" cy="41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∇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1" name="Object 25"/>
                <p:cNvSpPr txBox="1"/>
                <p:nvPr/>
              </p:nvSpPr>
              <p:spPr>
                <a:xfrm>
                  <a:off x="4097160" y="5127480"/>
                  <a:ext cx="1512360" cy="41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∇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02" name="Object 21"/>
            <p:cNvGraphicFramePr/>
            <p:nvPr/>
          </p:nvGraphicFramePr>
          <p:xfrm>
            <a:off x="2628360" y="4465080"/>
            <a:ext cx="3023280" cy="42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3" name="Object 2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28360" y="4465080"/>
                      <a:ext cx="3023280" cy="42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4" name="群組 28"/>
          <p:cNvGrpSpPr/>
          <p:nvPr/>
        </p:nvGrpSpPr>
        <p:grpSpPr>
          <a:xfrm>
            <a:off x="3348000" y="1584360"/>
            <a:ext cx="1800360" cy="1261800"/>
            <a:chOff x="3348000" y="1584360"/>
            <a:chExt cx="1800360" cy="1261800"/>
          </a:xfrm>
        </p:grpSpPr>
        <p:sp>
          <p:nvSpPr>
            <p:cNvPr id="205" name="文字方塊 18"/>
            <p:cNvSpPr/>
            <p:nvPr/>
          </p:nvSpPr>
          <p:spPr>
            <a:xfrm>
              <a:off x="3348000" y="1584360"/>
              <a:ext cx="60012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文字方塊 19"/>
            <p:cNvSpPr/>
            <p:nvPr/>
          </p:nvSpPr>
          <p:spPr>
            <a:xfrm>
              <a:off x="3348000" y="2031480"/>
              <a:ext cx="60012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文字方塊 20"/>
            <p:cNvSpPr/>
            <p:nvPr/>
          </p:nvSpPr>
          <p:spPr>
            <a:xfrm>
              <a:off x="3348000" y="2477880"/>
              <a:ext cx="60012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文字方塊 22"/>
            <p:cNvSpPr/>
            <p:nvPr/>
          </p:nvSpPr>
          <p:spPr>
            <a:xfrm>
              <a:off x="3948120" y="1584360"/>
              <a:ext cx="60012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文字方塊 23"/>
            <p:cNvSpPr/>
            <p:nvPr/>
          </p:nvSpPr>
          <p:spPr>
            <a:xfrm>
              <a:off x="3948120" y="2031480"/>
              <a:ext cx="60012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文字方塊 24"/>
            <p:cNvSpPr/>
            <p:nvPr/>
          </p:nvSpPr>
          <p:spPr>
            <a:xfrm>
              <a:off x="3948120" y="2477880"/>
              <a:ext cx="60012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文字方塊 25"/>
            <p:cNvSpPr/>
            <p:nvPr/>
          </p:nvSpPr>
          <p:spPr>
            <a:xfrm>
              <a:off x="4548240" y="1584360"/>
              <a:ext cx="60012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文字方塊 26"/>
            <p:cNvSpPr/>
            <p:nvPr/>
          </p:nvSpPr>
          <p:spPr>
            <a:xfrm>
              <a:off x="4548240" y="2031480"/>
              <a:ext cx="60012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文字方塊 27"/>
            <p:cNvSpPr/>
            <p:nvPr/>
          </p:nvSpPr>
          <p:spPr>
            <a:xfrm>
              <a:off x="4548240" y="2477880"/>
              <a:ext cx="60012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7F28-B118-4277-8FEE-A726F27119DB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bel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測邊算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4419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bel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測邊算子，其對應的面罩有兩個，一個為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方向，另一個為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方向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從         和         的兩個分量，我們可知合成的量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itude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為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　 而角度為                       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為了計算更快速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以　　　　　的運算取代　　　　　　　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     的運算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另外有一個很類似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bel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測邊算子的方法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Prewitt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算子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22"/>
          <p:cNvGrpSpPr/>
          <p:nvPr/>
        </p:nvGrpSpPr>
        <p:grpSpPr>
          <a:xfrm>
            <a:off x="4686840" y="1600200"/>
            <a:ext cx="3976920" cy="2286720"/>
            <a:chOff x="4686840" y="1600200"/>
            <a:chExt cx="3976920" cy="2286720"/>
          </a:xfrm>
        </p:grpSpPr>
        <p:graphicFrame>
          <p:nvGraphicFramePr>
            <p:cNvPr id="218" name="Object 3"/>
            <p:cNvGraphicFramePr/>
            <p:nvPr/>
          </p:nvGraphicFramePr>
          <p:xfrm>
            <a:off x="4780080" y="1600200"/>
            <a:ext cx="1595160" cy="1595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9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80080" y="1600200"/>
                      <a:ext cx="1595160" cy="159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0" name="Object 5"/>
            <p:cNvGraphicFramePr/>
            <p:nvPr/>
          </p:nvGraphicFramePr>
          <p:xfrm>
            <a:off x="6946920" y="1600200"/>
            <a:ext cx="1595520" cy="1595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1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46920" y="1600200"/>
                      <a:ext cx="1595520" cy="159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2" name="Text Box 7"/>
            <p:cNvSpPr/>
            <p:nvPr/>
          </p:nvSpPr>
          <p:spPr>
            <a:xfrm>
              <a:off x="5844600" y="3549600"/>
              <a:ext cx="186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3.2.8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obel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測邊算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8"/>
            <p:cNvSpPr/>
            <p:nvPr/>
          </p:nvSpPr>
          <p:spPr>
            <a:xfrm>
              <a:off x="6828480" y="3213360"/>
              <a:ext cx="18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)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測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方向的灰階變化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9"/>
            <p:cNvSpPr/>
            <p:nvPr/>
          </p:nvSpPr>
          <p:spPr>
            <a:xfrm>
              <a:off x="4686840" y="3213360"/>
              <a:ext cx="182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)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測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方向的灰階變化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5" name="Object 12"/>
          <p:cNvGraphicFramePr/>
          <p:nvPr/>
        </p:nvGraphicFramePr>
        <p:xfrm>
          <a:off x="662040" y="3276720"/>
          <a:ext cx="1965240" cy="49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6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2040" y="3276720"/>
                    <a:ext cx="196524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15"/>
          <p:cNvSpPr/>
          <p:nvPr/>
        </p:nvSpPr>
        <p:spPr>
          <a:xfrm>
            <a:off x="41004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Object 14"/>
          <p:cNvGraphicFramePr/>
          <p:nvPr/>
        </p:nvGraphicFramePr>
        <p:xfrm>
          <a:off x="1835280" y="3716280"/>
          <a:ext cx="1584360" cy="798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9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35280" y="3716280"/>
                    <a:ext cx="158436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17"/>
          <p:cNvGraphicFramePr/>
          <p:nvPr/>
        </p:nvGraphicFramePr>
        <p:xfrm>
          <a:off x="1033560" y="2556000"/>
          <a:ext cx="552240" cy="36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1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33560" y="2556000"/>
                    <a:ext cx="55224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16"/>
          <p:cNvGraphicFramePr/>
          <p:nvPr/>
        </p:nvGraphicFramePr>
        <p:xfrm>
          <a:off x="1960560" y="2546280"/>
          <a:ext cx="569880" cy="40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3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60560" y="2546280"/>
                    <a:ext cx="56988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20"/>
          <p:cNvGraphicFramePr/>
          <p:nvPr/>
        </p:nvGraphicFramePr>
        <p:xfrm>
          <a:off x="976320" y="4840200"/>
          <a:ext cx="130644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5" name="Object 2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76320" y="4840200"/>
                    <a:ext cx="13064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6" name="Object 19"/>
              <p:cNvSpPr txBox="1"/>
              <p:nvPr/>
            </p:nvSpPr>
            <p:spPr>
              <a:xfrm>
                <a:off x="684360" y="5229360"/>
                <a:ext cx="190656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∇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f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∇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f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7" name="Rectangle 24"/>
          <p:cNvSpPr/>
          <p:nvPr/>
        </p:nvSpPr>
        <p:spPr>
          <a:xfrm>
            <a:off x="403380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6"/>
          <p:cNvSpPr/>
          <p:nvPr/>
        </p:nvSpPr>
        <p:spPr>
          <a:xfrm>
            <a:off x="403380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30"/>
          <p:cNvGrpSpPr/>
          <p:nvPr/>
        </p:nvGrpSpPr>
        <p:grpSpPr>
          <a:xfrm>
            <a:off x="4475160" y="4267080"/>
            <a:ext cx="4247280" cy="2286720"/>
            <a:chOff x="4475160" y="4267080"/>
            <a:chExt cx="4247280" cy="2286720"/>
          </a:xfrm>
        </p:grpSpPr>
        <p:graphicFrame>
          <p:nvGraphicFramePr>
            <p:cNvPr id="240" name="Object 23"/>
            <p:cNvGraphicFramePr/>
            <p:nvPr/>
          </p:nvGraphicFramePr>
          <p:xfrm>
            <a:off x="4813200" y="4267080"/>
            <a:ext cx="1523880" cy="15242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41" name="Object 23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813200" y="4267080"/>
                      <a:ext cx="1523880" cy="152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2" name="Object 25"/>
            <p:cNvGraphicFramePr/>
            <p:nvPr/>
          </p:nvGraphicFramePr>
          <p:xfrm>
            <a:off x="6985080" y="4267080"/>
            <a:ext cx="1523880" cy="15242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43" name="Object 25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985080" y="4267080"/>
                      <a:ext cx="1523880" cy="152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4" name="Text Box 27"/>
            <p:cNvSpPr/>
            <p:nvPr/>
          </p:nvSpPr>
          <p:spPr>
            <a:xfrm>
              <a:off x="5726520" y="6216480"/>
              <a:ext cx="173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3.2.9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ewitt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算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28"/>
            <p:cNvSpPr/>
            <p:nvPr/>
          </p:nvSpPr>
          <p:spPr>
            <a:xfrm>
              <a:off x="6887160" y="5805360"/>
              <a:ext cx="18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)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測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方向的灰階變化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29"/>
            <p:cNvSpPr/>
            <p:nvPr/>
          </p:nvSpPr>
          <p:spPr>
            <a:xfrm>
              <a:off x="4475160" y="5805360"/>
              <a:ext cx="23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)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測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方向的灰階變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投影片編號版面配置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1FBF-88F2-41BE-B83C-E88F5997199F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94920" y="1052640"/>
            <a:ext cx="821844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範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給一如下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×5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子影像，請使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witt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算子來測邊，這裡</a:t>
            </a:r>
            <a:br>
              <a:rPr sz="2000"/>
            </a:b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假設門檻值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8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411280" y="2060640"/>
          <a:ext cx="4038840" cy="2593800"/>
        </p:xfrm>
        <a:graphic>
          <a:graphicData uri="http://schemas.openxmlformats.org/drawingml/2006/table">
            <a:tbl>
              <a:tblPr/>
              <a:tblGrid>
                <a:gridCol w="808200"/>
                <a:gridCol w="807840"/>
                <a:gridCol w="806760"/>
                <a:gridCol w="807840"/>
                <a:gridCol w="808200"/>
              </a:tblGrid>
              <a:tr h="48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新細明體"/>
                          <a:ea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0" name="Rectangle 333"/>
          <p:cNvSpPr/>
          <p:nvPr/>
        </p:nvSpPr>
        <p:spPr>
          <a:xfrm>
            <a:off x="539640" y="5229360"/>
            <a:ext cx="7272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解答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7T04:48:03Z</dcterms:created>
  <dc:creator/>
  <dc:description/>
  <dc:language>en-US</dc:language>
  <cp:lastModifiedBy>Mirrorchiu</cp:lastModifiedBy>
  <dcterms:modified xsi:type="dcterms:W3CDTF">2012-05-02T02:19:38Z</dcterms:modified>
  <cp:revision>213</cp:revision>
  <dc:subject/>
  <dc:title>第三章 測邊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