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57.wmf" ContentType="image/x-wmf"/>
  <Override PartName="/ppt/media/image18.wmf" ContentType="image/x-wmf"/>
  <Override PartName="/ppt/media/image16.png" ContentType="image/png"/>
  <Override PartName="/ppt/media/image5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39.png" ContentType="image/png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8.png" ContentType="image/png"/>
  <Override PartName="/ppt/media/image41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95AD6-2CD4-49AF-9A44-2501E0C9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CE2E-3A85-4D22-A136-2EF28EE8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1E88-C829-426A-81FD-1AC7202A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8F16-6D0B-4F9D-9507-61C445E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745-7F5B-41D0-9D46-1BFA418F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460-2C0A-4C72-BE46-939E8081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704-96A7-447F-9B68-F95FB586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D984-69F6-4AE3-A259-C77AE55B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32DF-81C0-478B-9B5A-49D2BC8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28B-8837-43ED-9AE9-328FBC5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4C8C-DB83-4885-BDB2-3DB176A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4BE8-4B7F-4356-965F-FDD43B3C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0688-218E-4CB5-BF3B-BC97D9D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261A-3DE2-4927-B8A2-1D1EF4F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8037-BBC1-4F8B-8ABC-87EAAD1F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D5A8-A2B8-4085-A578-2E4099EA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5543-BF99-4B63-913C-B97BF08F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186E-00CC-4859-85FC-40477D8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93F1-5E6B-4266-BC8D-187660AF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9121-4EFB-4815-8AC2-DFF9EC7D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F68B-990C-4BDE-82DB-8C787A28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8DC2-EDC0-4110-8135-5F7BEBF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959C-90C1-460D-BA6C-0068823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420F-C70D-4C87-8716-1F99746F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051-1988-4549-92F5-5D1A6F98B25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8E62-8209-4D37-82D3-2D9D5169042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297-385E-437A-86AE-455074AEF7F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Times New Roman"/>
              </a:rPr>
              <a:t>第九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Times New Roman"/>
              </a:rPr>
              <a:t>空間資料結構設計與應用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C4DF-3C59-4BA4-9493-118A3560392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9.2.4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zh-TW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樹表示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群組 16"/>
          <p:cNvGrpSpPr/>
          <p:nvPr/>
        </p:nvGrpSpPr>
        <p:grpSpPr>
          <a:xfrm>
            <a:off x="457200" y="1600200"/>
            <a:ext cx="8435880" cy="5020560"/>
            <a:chOff x="457200" y="1600200"/>
            <a:chExt cx="8435880" cy="5020560"/>
          </a:xfrm>
        </p:grpSpPr>
        <p:sp>
          <p:nvSpPr>
            <p:cNvPr id="186" name="Text Box 3"/>
            <p:cNvSpPr/>
            <p:nvPr/>
          </p:nvSpPr>
          <p:spPr>
            <a:xfrm>
              <a:off x="457200" y="1600200"/>
              <a:ext cx="8001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以深先搜尋表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4"/>
            <p:cNvGraphicFramePr/>
            <p:nvPr/>
          </p:nvGraphicFramePr>
          <p:xfrm>
            <a:off x="4981680" y="4077000"/>
            <a:ext cx="3191040" cy="216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81680" y="4077000"/>
                      <a:ext cx="3191040" cy="21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Text Box 5"/>
            <p:cNvSpPr/>
            <p:nvPr/>
          </p:nvSpPr>
          <p:spPr>
            <a:xfrm>
              <a:off x="4926960" y="6283440"/>
              <a:ext cx="331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4.1 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1.1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的二分樹表示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533160" y="2286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線性樹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533160" y="396216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顏色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8"/>
            <p:cNvSpPr/>
            <p:nvPr/>
          </p:nvSpPr>
          <p:spPr>
            <a:xfrm>
              <a:off x="1530360" y="2666880"/>
              <a:ext cx="5410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內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Object 9"/>
                <p:cNvSpPr txBox="1"/>
                <p:nvPr/>
              </p:nvSpPr>
              <p:spPr>
                <a:xfrm>
                  <a:off x="1371600" y="2743200"/>
                  <a:ext cx="2030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94" name="Text Box 10"/>
            <p:cNvSpPr/>
            <p:nvPr/>
          </p:nvSpPr>
          <p:spPr>
            <a:xfrm>
              <a:off x="1530360" y="3047760"/>
              <a:ext cx="54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891360" y="3458880"/>
              <a:ext cx="8001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線性樹表可表示為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00101011101001001101101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1523880" y="4419360"/>
              <a:ext cx="2590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白色葉子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1371600" y="4419360"/>
                  <a:ext cx="2030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98" name="Text Box 14"/>
            <p:cNvSpPr/>
            <p:nvPr/>
          </p:nvSpPr>
          <p:spPr>
            <a:xfrm>
              <a:off x="1530360" y="4724280"/>
              <a:ext cx="250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黑色葉子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821160" y="5333760"/>
              <a:ext cx="403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顏色表可表示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01001001010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2BF-5532-4483-9BAD-9559EBAEE14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Times New Roman"/>
              </a:rPr>
              <a:t>高灰階影像的空間資料結構表示法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群組 16"/>
          <p:cNvGrpSpPr/>
          <p:nvPr/>
        </p:nvGrpSpPr>
        <p:grpSpPr>
          <a:xfrm>
            <a:off x="468360" y="1700280"/>
            <a:ext cx="8456400" cy="3984120"/>
            <a:chOff x="468360" y="1700280"/>
            <a:chExt cx="8456400" cy="3984120"/>
          </a:xfrm>
        </p:grpSpPr>
        <p:sp>
          <p:nvSpPr>
            <p:cNvPr id="203" name="Rectangle 4"/>
            <p:cNvSpPr/>
            <p:nvPr/>
          </p:nvSpPr>
          <p:spPr>
            <a:xfrm>
              <a:off x="468360" y="170028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一維線性內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669600" y="2246400"/>
              <a:ext cx="7653960" cy="34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點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1,5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此處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示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軸的位置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示灰階值；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點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11,13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點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(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?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點的灰階值約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7=(5+2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" name="Object 3"/>
            <p:cNvGraphicFramePr/>
            <p:nvPr/>
          </p:nvGraphicFramePr>
          <p:xfrm>
            <a:off x="1122480" y="3398040"/>
            <a:ext cx="11653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2480" y="3398040"/>
                      <a:ext cx="11653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Object 4"/>
            <p:cNvGraphicFramePr/>
            <p:nvPr/>
          </p:nvGraphicFramePr>
          <p:xfrm>
            <a:off x="1410480" y="4365360"/>
            <a:ext cx="2976480" cy="72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10480" y="4365360"/>
                      <a:ext cx="297648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9" name="群組 15"/>
            <p:cNvGrpSpPr/>
            <p:nvPr/>
          </p:nvGrpSpPr>
          <p:grpSpPr>
            <a:xfrm>
              <a:off x="4388040" y="3139560"/>
              <a:ext cx="4536720" cy="2534760"/>
              <a:chOff x="4388040" y="3139560"/>
              <a:chExt cx="4536720" cy="2534760"/>
            </a:xfrm>
          </p:grpSpPr>
          <p:graphicFrame>
            <p:nvGraphicFramePr>
              <p:cNvPr id="210" name="Object 2"/>
              <p:cNvGraphicFramePr/>
              <p:nvPr/>
            </p:nvGraphicFramePr>
            <p:xfrm>
              <a:off x="5091120" y="3139560"/>
              <a:ext cx="3232440" cy="2052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1" name="Object 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91120" y="3139560"/>
                        <a:ext cx="3232440" cy="205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2" name="Text Box 7"/>
              <p:cNvSpPr/>
              <p:nvPr/>
            </p:nvSpPr>
            <p:spPr>
              <a:xfrm>
                <a:off x="5573880" y="5337000"/>
                <a:ext cx="228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9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1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一維的線性內插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文字方塊 13"/>
              <p:cNvSpPr/>
              <p:nvPr/>
            </p:nvSpPr>
            <p:spPr>
              <a:xfrm>
                <a:off x="8060760" y="4762080"/>
                <a:ext cx="864000" cy="580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(11,13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文字方塊 14"/>
              <p:cNvSpPr/>
              <p:nvPr/>
            </p:nvSpPr>
            <p:spPr>
              <a:xfrm>
                <a:off x="4388040" y="4770360"/>
                <a:ext cx="86400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(1,5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C7C-5A5C-492E-B560-3AE2EE03275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群組 16"/>
          <p:cNvGrpSpPr/>
          <p:nvPr/>
        </p:nvGrpSpPr>
        <p:grpSpPr>
          <a:xfrm>
            <a:off x="971640" y="3789360"/>
            <a:ext cx="2666880" cy="2525040"/>
            <a:chOff x="971640" y="3789360"/>
            <a:chExt cx="2666880" cy="2525040"/>
          </a:xfrm>
        </p:grpSpPr>
        <p:graphicFrame>
          <p:nvGraphicFramePr>
            <p:cNvPr id="217" name="Object 2"/>
            <p:cNvGraphicFramePr/>
            <p:nvPr/>
          </p:nvGraphicFramePr>
          <p:xfrm>
            <a:off x="1062000" y="3789360"/>
            <a:ext cx="2285640" cy="2181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2000" y="3789360"/>
                      <a:ext cx="2285640" cy="21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6"/>
            <p:cNvSpPr/>
            <p:nvPr/>
          </p:nvSpPr>
          <p:spPr>
            <a:xfrm>
              <a:off x="971640" y="597708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3.2 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同質的區塊分割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群組 17"/>
          <p:cNvGrpSpPr/>
          <p:nvPr/>
        </p:nvGrpSpPr>
        <p:grpSpPr>
          <a:xfrm>
            <a:off x="3962520" y="4116240"/>
            <a:ext cx="3943080" cy="2191680"/>
            <a:chOff x="3962520" y="4116240"/>
            <a:chExt cx="3943080" cy="2191680"/>
          </a:xfrm>
        </p:grpSpPr>
        <p:graphicFrame>
          <p:nvGraphicFramePr>
            <p:cNvPr id="221" name="Object 3"/>
            <p:cNvGraphicFramePr/>
            <p:nvPr/>
          </p:nvGraphicFramePr>
          <p:xfrm>
            <a:off x="3962520" y="4116240"/>
            <a:ext cx="3943080" cy="17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4116240"/>
                      <a:ext cx="3943080" cy="17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7"/>
            <p:cNvSpPr/>
            <p:nvPr/>
          </p:nvSpPr>
          <p:spPr>
            <a:xfrm>
              <a:off x="4790880" y="5970600"/>
              <a:ext cx="258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3.3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二分樹表示法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8"/>
          <p:cNvSpPr/>
          <p:nvPr/>
        </p:nvSpPr>
        <p:spPr>
          <a:xfrm>
            <a:off x="539640" y="83664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二分樹切割的條件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5"/>
          <p:cNvGraphicFramePr/>
          <p:nvPr/>
        </p:nvGraphicFramePr>
        <p:xfrm>
          <a:off x="2405160" y="1449360"/>
          <a:ext cx="295884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5160" y="1449360"/>
                    <a:ext cx="2958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7" name="群組 15"/>
          <p:cNvGrpSpPr/>
          <p:nvPr/>
        </p:nvGrpSpPr>
        <p:grpSpPr>
          <a:xfrm>
            <a:off x="826920" y="2205000"/>
            <a:ext cx="7705800" cy="1447920"/>
            <a:chOff x="826920" y="2205000"/>
            <a:chExt cx="7705800" cy="1447920"/>
          </a:xfrm>
        </p:grpSpPr>
        <p:sp>
          <p:nvSpPr>
            <p:cNvPr id="228" name="Text Box 11"/>
            <p:cNvSpPr/>
            <p:nvPr/>
          </p:nvSpPr>
          <p:spPr>
            <a:xfrm>
              <a:off x="826920" y="2205000"/>
              <a:ext cx="7129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此處      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原始灰階值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1877040" y="2935440"/>
              <a:ext cx="6655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st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: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線性內插得到的估計灰階值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1889640" y="2585880"/>
              <a:ext cx="2743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200" spc="-1" strike="noStrike">
                  <a:solidFill>
                    <a:srgbClr val="000000"/>
                  </a:solidFill>
                  <a:latin typeface="Times New Roman"/>
                </a:rPr>
                <a:t>ε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誤差容忍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7"/>
                <p:cNvSpPr txBox="1"/>
                <p:nvPr/>
              </p:nvSpPr>
              <p:spPr>
                <a:xfrm>
                  <a:off x="1661040" y="2280960"/>
                  <a:ext cx="366480" cy="137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0E26-D183-451E-8CA7-2EF895BD1A8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55760" y="1413000"/>
          <a:ext cx="6095880" cy="1828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位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灰階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右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左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右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4" name="群組 26"/>
          <p:cNvGrpSpPr/>
          <p:nvPr/>
        </p:nvGrpSpPr>
        <p:grpSpPr>
          <a:xfrm>
            <a:off x="533520" y="609480"/>
            <a:ext cx="7426080" cy="3899160"/>
            <a:chOff x="533520" y="609480"/>
            <a:chExt cx="7426080" cy="3899160"/>
          </a:xfrm>
        </p:grpSpPr>
        <p:sp>
          <p:nvSpPr>
            <p:cNvPr id="235" name="Rectangle 3"/>
            <p:cNvSpPr/>
            <p:nvPr/>
          </p:nvSpPr>
          <p:spPr>
            <a:xfrm>
              <a:off x="533520" y="60948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求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Object 2"/>
                <p:cNvSpPr txBox="1"/>
                <p:nvPr/>
              </p:nvSpPr>
              <p:spPr>
                <a:xfrm>
                  <a:off x="1600200" y="609480"/>
                  <a:ext cx="105372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s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Text Box 5"/>
            <p:cNvSpPr/>
            <p:nvPr/>
          </p:nvSpPr>
          <p:spPr>
            <a:xfrm>
              <a:off x="859680" y="990360"/>
              <a:ext cx="464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設一個區塊的四個角點分別如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3"/>
                <p:cNvSpPr txBox="1"/>
                <p:nvPr/>
              </p:nvSpPr>
              <p:spPr>
                <a:xfrm>
                  <a:off x="4107960" y="2174760"/>
                  <a:ext cx="7203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4"/>
                <p:cNvSpPr txBox="1"/>
                <p:nvPr/>
              </p:nvSpPr>
              <p:spPr>
                <a:xfrm>
                  <a:off x="4107960" y="2556000"/>
                  <a:ext cx="7189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Object 5"/>
                <p:cNvSpPr txBox="1"/>
                <p:nvPr/>
              </p:nvSpPr>
              <p:spPr>
                <a:xfrm>
                  <a:off x="4107960" y="2860920"/>
                  <a:ext cx="758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Object 6"/>
                <p:cNvSpPr txBox="1"/>
                <p:nvPr/>
              </p:nvSpPr>
              <p:spPr>
                <a:xfrm>
                  <a:off x="4107960" y="1793880"/>
                  <a:ext cx="69984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7"/>
                <p:cNvSpPr txBox="1"/>
                <p:nvPr/>
              </p:nvSpPr>
              <p:spPr>
                <a:xfrm>
                  <a:off x="6393600" y="1717560"/>
                  <a:ext cx="291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Object 8"/>
                <p:cNvSpPr txBox="1"/>
                <p:nvPr/>
              </p:nvSpPr>
              <p:spPr>
                <a:xfrm>
                  <a:off x="6393600" y="2784600"/>
                  <a:ext cx="3380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9"/>
                <p:cNvSpPr txBox="1"/>
                <p:nvPr/>
              </p:nvSpPr>
              <p:spPr>
                <a:xfrm>
                  <a:off x="6393600" y="2479680"/>
                  <a:ext cx="3142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10"/>
                <p:cNvSpPr txBox="1"/>
                <p:nvPr/>
              </p:nvSpPr>
              <p:spPr>
                <a:xfrm>
                  <a:off x="6393600" y="2098800"/>
                  <a:ext cx="3380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46" name="群組 24"/>
            <p:cNvGrpSpPr/>
            <p:nvPr/>
          </p:nvGrpSpPr>
          <p:grpSpPr>
            <a:xfrm>
              <a:off x="899640" y="3213360"/>
              <a:ext cx="7059960" cy="1295280"/>
              <a:chOff x="899640" y="3213360"/>
              <a:chExt cx="7059960" cy="1295280"/>
            </a:xfrm>
          </p:grpSpPr>
          <p:sp>
            <p:nvSpPr>
              <p:cNvPr id="247" name="Text Box 79"/>
              <p:cNvSpPr/>
              <p:nvPr/>
            </p:nvSpPr>
            <p:spPr>
              <a:xfrm>
                <a:off x="899640" y="3354120"/>
                <a:ext cx="3733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利用一維線性內插可以得到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8" name="Object 11"/>
                  <p:cNvSpPr txBox="1"/>
                  <p:nvPr/>
                </p:nvSpPr>
                <p:spPr>
                  <a:xfrm>
                    <a:off x="4480560" y="3213360"/>
                    <a:ext cx="3276360" cy="71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9" name="Object 12"/>
                  <p:cNvSpPr txBox="1"/>
                  <p:nvPr/>
                </p:nvSpPr>
                <p:spPr>
                  <a:xfrm>
                    <a:off x="1661400" y="3786120"/>
                    <a:ext cx="2590560" cy="72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0" name="Object 13"/>
                  <p:cNvSpPr txBox="1"/>
                  <p:nvPr/>
                </p:nvSpPr>
                <p:spPr>
                  <a:xfrm>
                    <a:off x="4785480" y="3781440"/>
                    <a:ext cx="2666520" cy="72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1" name="Text Box 83"/>
              <p:cNvSpPr/>
              <p:nvPr/>
            </p:nvSpPr>
            <p:spPr>
              <a:xfrm>
                <a:off x="899640" y="3929040"/>
                <a:ext cx="7059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此處                                        和                                         。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群組 25"/>
          <p:cNvGrpSpPr/>
          <p:nvPr/>
        </p:nvGrpSpPr>
        <p:grpSpPr>
          <a:xfrm>
            <a:off x="450720" y="4437000"/>
            <a:ext cx="8236080" cy="1981440"/>
            <a:chOff x="450720" y="4437000"/>
            <a:chExt cx="8236080" cy="1981440"/>
          </a:xfrm>
        </p:grpSpPr>
        <p:sp>
          <p:nvSpPr>
            <p:cNvPr id="253" name="Rectangle 88"/>
            <p:cNvSpPr/>
            <p:nvPr/>
          </p:nvSpPr>
          <p:spPr>
            <a:xfrm>
              <a:off x="450720" y="443700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廣先搜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89"/>
            <p:cNvSpPr/>
            <p:nvPr/>
          </p:nvSpPr>
          <p:spPr>
            <a:xfrm>
              <a:off x="828000" y="4771800"/>
              <a:ext cx="785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二分樹用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樹表示如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90"/>
            <p:cNvSpPr/>
            <p:nvPr/>
          </p:nvSpPr>
          <p:spPr>
            <a:xfrm>
              <a:off x="914760" y="5504040"/>
              <a:ext cx="6019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線性樹表：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0000000010101111111111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91"/>
            <p:cNvSpPr/>
            <p:nvPr/>
          </p:nvSpPr>
          <p:spPr>
            <a:xfrm>
              <a:off x="914760" y="5915160"/>
              <a:ext cx="7543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顏色表：</a:t>
              </a:r>
              <a:r>
                <a:rPr b="0" i="1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r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(h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r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, …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(j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ur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l 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14"/>
                <p:cNvSpPr txBox="1"/>
                <p:nvPr/>
              </p:nvSpPr>
              <p:spPr>
                <a:xfrm>
                  <a:off x="767160" y="5504040"/>
                  <a:ext cx="2444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0710-E4FF-446E-BFAF-A1670F3FDA4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33520" y="880920"/>
            <a:ext cx="418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重疊策略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apping Strateg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00000" y="1338120"/>
            <a:ext cx="7645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由於區塊與區塊之間是分開的，會造成區塊效應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locking Effect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採用重疊策略來降低區塊效應的影響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00000" y="2781360"/>
            <a:ext cx="7488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原先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×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大小的影像放大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1)×(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大小。像素分享的特色配合線性內插的平滑性，解壓出來後可降低區塊效應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6BD-11B6-4656-A662-2223CEF382E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826920" y="105264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ε=2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時，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樹所需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pp(Bit Per Pixel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1.3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位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這與原始影像一個像素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個位元相比，壓縮改良率為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83%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群組 8"/>
          <p:cNvGrpSpPr/>
          <p:nvPr/>
        </p:nvGrpSpPr>
        <p:grpSpPr>
          <a:xfrm>
            <a:off x="1187280" y="1989000"/>
            <a:ext cx="6624720" cy="3124800"/>
            <a:chOff x="1187280" y="1989000"/>
            <a:chExt cx="6624720" cy="3124800"/>
          </a:xfrm>
        </p:grpSpPr>
        <p:pic>
          <p:nvPicPr>
            <p:cNvPr id="265" name="Picture 9" descr=""/>
            <p:cNvPicPr/>
            <p:nvPr/>
          </p:nvPicPr>
          <p:blipFill>
            <a:blip r:embed="rId1"/>
            <a:stretch/>
          </p:blipFill>
          <p:spPr>
            <a:xfrm>
              <a:off x="1323360" y="2007720"/>
              <a:ext cx="2743200" cy="27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0" descr=""/>
            <p:cNvPicPr/>
            <p:nvPr/>
          </p:nvPicPr>
          <p:blipFill>
            <a:blip r:embed="rId2"/>
            <a:stretch/>
          </p:blipFill>
          <p:spPr>
            <a:xfrm>
              <a:off x="4676400" y="1989000"/>
              <a:ext cx="271476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11"/>
            <p:cNvSpPr/>
            <p:nvPr/>
          </p:nvSpPr>
          <p:spPr>
            <a:xfrm>
              <a:off x="1187280" y="4776480"/>
              <a:ext cx="315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3.4  ε=21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得到的還原影像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2"/>
            <p:cNvSpPr/>
            <p:nvPr/>
          </p:nvSpPr>
          <p:spPr>
            <a:xfrm>
              <a:off x="4455360" y="4776480"/>
              <a:ext cx="335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3.5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二元分割後的區塊示意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Rectangle 13"/>
          <p:cNvSpPr/>
          <p:nvPr/>
        </p:nvSpPr>
        <p:spPr>
          <a:xfrm>
            <a:off x="533520" y="609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實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文字方塊 9"/>
          <p:cNvSpPr/>
          <p:nvPr/>
        </p:nvSpPr>
        <p:spPr>
          <a:xfrm>
            <a:off x="971640" y="544500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在壓縮比上不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PEG (Joint Photographic Experts Group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來的好，但在解碼的時間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ing Time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上快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F181-2D61-46AD-9A77-9160C75DB7E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本影像運算之應用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影像加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群組 6"/>
          <p:cNvGrpSpPr/>
          <p:nvPr/>
        </p:nvGrpSpPr>
        <p:grpSpPr>
          <a:xfrm>
            <a:off x="1568520" y="2924280"/>
            <a:ext cx="5811840" cy="3386520"/>
            <a:chOff x="1568520" y="2924280"/>
            <a:chExt cx="5811840" cy="3386520"/>
          </a:xfrm>
        </p:grpSpPr>
        <p:graphicFrame>
          <p:nvGraphicFramePr>
            <p:cNvPr id="274" name="Object 2"/>
            <p:cNvGraphicFramePr/>
            <p:nvPr/>
          </p:nvGraphicFramePr>
          <p:xfrm>
            <a:off x="1568520" y="2924280"/>
            <a:ext cx="5811840" cy="277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8520" y="2924280"/>
                      <a:ext cx="5811840" cy="277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6" name="Text Box 23"/>
            <p:cNvSpPr/>
            <p:nvPr/>
          </p:nvSpPr>
          <p:spPr>
            <a:xfrm>
              <a:off x="2838960" y="5973480"/>
              <a:ext cx="32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.1.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影像加密系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文字方塊 5"/>
          <p:cNvSpPr/>
          <p:nvPr/>
        </p:nvSpPr>
        <p:spPr>
          <a:xfrm>
            <a:off x="826920" y="1916280"/>
            <a:ext cx="749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網路傳輸前，將資料加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ncrypt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使攔截者無法有效的解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Decrypt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499C-731B-409C-9AF4-37E5072B199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群組 13"/>
          <p:cNvGrpSpPr/>
          <p:nvPr/>
        </p:nvGrpSpPr>
        <p:grpSpPr>
          <a:xfrm>
            <a:off x="468360" y="1650960"/>
            <a:ext cx="8199360" cy="3792960"/>
            <a:chOff x="468360" y="1650960"/>
            <a:chExt cx="8199360" cy="3792960"/>
          </a:xfrm>
        </p:grpSpPr>
        <p:grpSp>
          <p:nvGrpSpPr>
            <p:cNvPr id="280" name="群組 12"/>
            <p:cNvGrpSpPr/>
            <p:nvPr/>
          </p:nvGrpSpPr>
          <p:grpSpPr>
            <a:xfrm>
              <a:off x="468360" y="1928160"/>
              <a:ext cx="2333160" cy="3052080"/>
              <a:chOff x="468360" y="1928160"/>
              <a:chExt cx="2333160" cy="3052080"/>
            </a:xfrm>
          </p:grpSpPr>
          <p:graphicFrame>
            <p:nvGraphicFramePr>
              <p:cNvPr id="281" name="Object 3"/>
              <p:cNvGraphicFramePr/>
              <p:nvPr/>
            </p:nvGraphicFramePr>
            <p:xfrm>
              <a:off x="531720" y="1928160"/>
              <a:ext cx="2269800" cy="2690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2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1720" y="1928160"/>
                        <a:ext cx="2269800" cy="269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3" name="Text Box 20"/>
              <p:cNvSpPr/>
              <p:nvPr/>
            </p:nvSpPr>
            <p:spPr>
              <a:xfrm>
                <a:off x="468360" y="4642920"/>
                <a:ext cx="23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) 8×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黑白影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群組 11"/>
            <p:cNvGrpSpPr/>
            <p:nvPr/>
          </p:nvGrpSpPr>
          <p:grpSpPr>
            <a:xfrm>
              <a:off x="3193920" y="1650960"/>
              <a:ext cx="5473800" cy="3484800"/>
              <a:chOff x="3193920" y="1650960"/>
              <a:chExt cx="5473800" cy="3484800"/>
            </a:xfrm>
          </p:grpSpPr>
          <p:graphicFrame>
            <p:nvGraphicFramePr>
              <p:cNvPr id="285" name="Object 4"/>
              <p:cNvGraphicFramePr/>
              <p:nvPr/>
            </p:nvGraphicFramePr>
            <p:xfrm>
              <a:off x="3193920" y="1650960"/>
              <a:ext cx="5473800" cy="3259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86" name="Object 4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93920" y="1650960"/>
                        <a:ext cx="5473800" cy="325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7" name="Text Box 21"/>
              <p:cNvSpPr/>
              <p:nvPr/>
            </p:nvSpPr>
            <p:spPr>
              <a:xfrm>
                <a:off x="5153040" y="4798440"/>
                <a:ext cx="214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)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四分樹結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3052080" y="5106600"/>
              <a:ext cx="274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.1.2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影像加密的例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8CA-745B-4FD8-B43B-A0B4A84E591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179280" y="85248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定義掃瞄語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群組 24"/>
          <p:cNvGrpSpPr/>
          <p:nvPr/>
        </p:nvGrpSpPr>
        <p:grpSpPr>
          <a:xfrm>
            <a:off x="1669320" y="1305000"/>
            <a:ext cx="7317360" cy="458640"/>
            <a:chOff x="1669320" y="1305000"/>
            <a:chExt cx="7317360" cy="458640"/>
          </a:xfrm>
        </p:grpSpPr>
        <p:sp>
          <p:nvSpPr>
            <p:cNvPr id="292" name="Text Box 5"/>
            <p:cNvSpPr/>
            <p:nvPr/>
          </p:nvSpPr>
          <p:spPr>
            <a:xfrm>
              <a:off x="1669320" y="1305000"/>
              <a:ext cx="448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設影像的大小為            ，掃瞄語言可被定義為文法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2"/>
                <p:cNvSpPr txBox="1"/>
                <p:nvPr/>
              </p:nvSpPr>
              <p:spPr>
                <a:xfrm>
                  <a:off x="2869920" y="1319040"/>
                  <a:ext cx="901440" cy="36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×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Object 3"/>
                <p:cNvSpPr txBox="1"/>
                <p:nvPr/>
              </p:nvSpPr>
              <p:spPr>
                <a:xfrm>
                  <a:off x="7103880" y="1329840"/>
                  <a:ext cx="1882800" cy="43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95" name="Object 11"/>
          <p:cNvGraphicFramePr/>
          <p:nvPr/>
        </p:nvGraphicFramePr>
        <p:xfrm>
          <a:off x="5867280" y="1981080"/>
          <a:ext cx="2895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981080"/>
                    <a:ext cx="2895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22"/>
          <p:cNvSpPr/>
          <p:nvPr/>
        </p:nvSpPr>
        <p:spPr>
          <a:xfrm>
            <a:off x="6084720" y="616572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1.3  24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個掃瞄圖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群組 23"/>
          <p:cNvGrpSpPr/>
          <p:nvPr/>
        </p:nvGrpSpPr>
        <p:grpSpPr>
          <a:xfrm>
            <a:off x="352440" y="1916280"/>
            <a:ext cx="5003280" cy="4105080"/>
            <a:chOff x="352440" y="1916280"/>
            <a:chExt cx="5003280" cy="4105080"/>
          </a:xfrm>
        </p:grpSpPr>
        <p:graphicFrame>
          <p:nvGraphicFramePr>
            <p:cNvPr id="299" name="Object 4"/>
            <p:cNvGraphicFramePr/>
            <p:nvPr/>
          </p:nvGraphicFramePr>
          <p:xfrm>
            <a:off x="415800" y="1916280"/>
            <a:ext cx="1604880" cy="76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5800" y="1916280"/>
                      <a:ext cx="1604880" cy="76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Object 5"/>
            <p:cNvGraphicFramePr/>
            <p:nvPr/>
          </p:nvGraphicFramePr>
          <p:xfrm>
            <a:off x="352440" y="3013200"/>
            <a:ext cx="3741840" cy="80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2440" y="3013200"/>
                      <a:ext cx="3741840" cy="80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Text Box 10"/>
            <p:cNvSpPr/>
            <p:nvPr/>
          </p:nvSpPr>
          <p:spPr>
            <a:xfrm>
              <a:off x="2367720" y="2070000"/>
              <a:ext cx="1521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非終結符號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1"/>
            <p:cNvSpPr/>
            <p:nvPr/>
          </p:nvSpPr>
          <p:spPr>
            <a:xfrm>
              <a:off x="1359360" y="2602080"/>
              <a:ext cx="264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四分樹中第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層的掃瞄圖案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6"/>
                <p:cNvSpPr txBox="1"/>
                <p:nvPr/>
              </p:nvSpPr>
              <p:spPr>
                <a:xfrm>
                  <a:off x="395280" y="2602080"/>
                  <a:ext cx="358560" cy="49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Text Box 13"/>
            <p:cNvSpPr/>
            <p:nvPr/>
          </p:nvSpPr>
          <p:spPr>
            <a:xfrm>
              <a:off x="4263480" y="3165480"/>
              <a:ext cx="109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終結符號集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" name="Object 7"/>
            <p:cNvGraphicFramePr/>
            <p:nvPr/>
          </p:nvGraphicFramePr>
          <p:xfrm>
            <a:off x="1022400" y="3768840"/>
            <a:ext cx="3610080" cy="488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22400" y="3768840"/>
                      <a:ext cx="361008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09" name="Object 8"/>
                <p:cNvSpPr txBox="1"/>
                <p:nvPr/>
              </p:nvSpPr>
              <p:spPr>
                <a:xfrm>
                  <a:off x="395280" y="4223160"/>
                  <a:ext cx="3427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  <m:sup>
                          <m:r>
                            <m:t xml:space="preserve">i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310" name="Text Box 16"/>
            <p:cNvSpPr/>
            <p:nvPr/>
          </p:nvSpPr>
          <p:spPr>
            <a:xfrm>
              <a:off x="1372680" y="4202280"/>
              <a:ext cx="384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4.1.3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定義的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掃瞄圖案中的一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960840" y="468972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起始符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Object 10"/>
                <p:cNvSpPr txBox="1"/>
                <p:nvPr/>
              </p:nvSpPr>
              <p:spPr>
                <a:xfrm>
                  <a:off x="406080" y="5116680"/>
                  <a:ext cx="317520" cy="34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Text Box 20"/>
            <p:cNvSpPr/>
            <p:nvPr/>
          </p:nvSpPr>
          <p:spPr>
            <a:xfrm>
              <a:off x="1151640" y="5070600"/>
              <a:ext cx="2335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文法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的產生規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12"/>
                <p:cNvSpPr txBox="1"/>
                <p:nvPr/>
              </p:nvSpPr>
              <p:spPr>
                <a:xfrm>
                  <a:off x="399960" y="556416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Text Box 25"/>
            <p:cNvSpPr/>
            <p:nvPr/>
          </p:nvSpPr>
          <p:spPr>
            <a:xfrm>
              <a:off x="1417320" y="5553360"/>
              <a:ext cx="329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掃瞄圖案中的第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掃瞄圖案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6" name="Object 24"/>
            <p:cNvGraphicFramePr/>
            <p:nvPr/>
          </p:nvGraphicFramePr>
          <p:xfrm>
            <a:off x="406080" y="4756320"/>
            <a:ext cx="215640" cy="36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6080" y="4756320"/>
                      <a:ext cx="2156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3B18-C217-4B74-8BD7-416CF446A49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309600" y="4572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模擬例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714680" y="79704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給定一組產生規則如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88880" y="1219320"/>
                <a:ext cx="1363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488880" y="1527120"/>
                <a:ext cx="9939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88880" y="1905120"/>
                <a:ext cx="1928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5"/>
              <p:cNvSpPr txBox="1"/>
              <p:nvPr/>
            </p:nvSpPr>
            <p:spPr>
              <a:xfrm>
                <a:off x="488880" y="2286000"/>
                <a:ext cx="5683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9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6"/>
              <p:cNvSpPr txBox="1"/>
              <p:nvPr/>
            </p:nvSpPr>
            <p:spPr>
              <a:xfrm>
                <a:off x="457200" y="2666880"/>
                <a:ext cx="48006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457200" y="3962520"/>
                <a:ext cx="46483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7" name="Text Box 10"/>
          <p:cNvSpPr/>
          <p:nvPr/>
        </p:nvSpPr>
        <p:spPr>
          <a:xfrm>
            <a:off x="1016280" y="5181480"/>
            <a:ext cx="44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則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1.2(a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黑白影像被加密成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1.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8"/>
          <p:cNvGraphicFramePr/>
          <p:nvPr/>
        </p:nvGraphicFramePr>
        <p:xfrm>
          <a:off x="6095880" y="2666880"/>
          <a:ext cx="25146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666880"/>
                    <a:ext cx="2514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12"/>
          <p:cNvSpPr/>
          <p:nvPr/>
        </p:nvSpPr>
        <p:spPr>
          <a:xfrm>
            <a:off x="6300720" y="495288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1.4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加密後的結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602640" y="5532480"/>
            <a:ext cx="816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利用列掃瞄的方式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1.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表示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0000000000011111000000000000000011111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1111000000001111000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進而用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01151657484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來表示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4D30-4066-4482-8FB5-E700E968FDE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90720" y="1700280"/>
            <a:ext cx="777240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9.1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黑白影像的空間資料結構表示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高灰階影像的空間資料結構表示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基本影像運算之應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5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455840" y="2806560"/>
            <a:ext cx="3809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四分樹表示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2.3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線性四分樹表示法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932360" y="2774880"/>
            <a:ext cx="266688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2.2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深先表示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2.4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樹表示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465200" y="4797360"/>
            <a:ext cx="2530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4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影像加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935600" y="4797360"/>
            <a:ext cx="2695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4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動差計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2EFC-B341-4340-8777-1F357140E0C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動差計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群組 16"/>
          <p:cNvGrpSpPr/>
          <p:nvPr/>
        </p:nvGrpSpPr>
        <p:grpSpPr>
          <a:xfrm>
            <a:off x="533520" y="1676520"/>
            <a:ext cx="8076960" cy="4748040"/>
            <a:chOff x="533520" y="1676520"/>
            <a:chExt cx="8076960" cy="4748040"/>
          </a:xfrm>
        </p:grpSpPr>
        <p:sp>
          <p:nvSpPr>
            <p:cNvPr id="335" name="Text Box 28"/>
            <p:cNvSpPr/>
            <p:nvPr/>
          </p:nvSpPr>
          <p:spPr>
            <a:xfrm>
              <a:off x="533520" y="1981080"/>
              <a:ext cx="78483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動差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oment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在影像處理的特徵表達上有蠻多的應用。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階的動差可表示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6" name="Object 2"/>
            <p:cNvGraphicFramePr/>
            <p:nvPr/>
          </p:nvGraphicFramePr>
          <p:xfrm>
            <a:off x="2298600" y="2667240"/>
            <a:ext cx="3708360" cy="67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8600" y="2667240"/>
                      <a:ext cx="370836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Object 3"/>
            <p:cNvGraphicFramePr/>
            <p:nvPr/>
          </p:nvGraphicFramePr>
          <p:xfrm>
            <a:off x="2332080" y="3899160"/>
            <a:ext cx="3571920" cy="69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32080" y="3899160"/>
                      <a:ext cx="357192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Text Box 31"/>
            <p:cNvSpPr/>
            <p:nvPr/>
          </p:nvSpPr>
          <p:spPr>
            <a:xfrm>
              <a:off x="533520" y="330696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離散型式可改寫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32"/>
            <p:cNvSpPr/>
            <p:nvPr/>
          </p:nvSpPr>
          <p:spPr>
            <a:xfrm>
              <a:off x="533520" y="4496400"/>
              <a:ext cx="800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此處假設影像的大小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512×512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在實際的應用中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階數通常不大於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33"/>
            <p:cNvSpPr/>
            <p:nvPr/>
          </p:nvSpPr>
          <p:spPr>
            <a:xfrm>
              <a:off x="533520" y="1676520"/>
              <a:ext cx="129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動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34"/>
            <p:cNvSpPr/>
            <p:nvPr/>
          </p:nvSpPr>
          <p:spPr>
            <a:xfrm>
              <a:off x="533520" y="5258520"/>
              <a:ext cx="129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質心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5"/>
            <p:cNvSpPr/>
            <p:nvPr/>
          </p:nvSpPr>
          <p:spPr>
            <a:xfrm>
              <a:off x="533520" y="5563080"/>
              <a:ext cx="8076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質心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entroid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示為            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4"/>
                <p:cNvSpPr txBox="1"/>
                <p:nvPr/>
              </p:nvSpPr>
              <p:spPr>
                <a:xfrm>
                  <a:off x="3420000" y="5445720"/>
                  <a:ext cx="917640" cy="60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Text Box 38"/>
            <p:cNvSpPr/>
            <p:nvPr/>
          </p:nvSpPr>
          <p:spPr>
            <a:xfrm>
              <a:off x="7624440" y="2819520"/>
              <a:ext cx="96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2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9"/>
            <p:cNvSpPr/>
            <p:nvPr/>
          </p:nvSpPr>
          <p:spPr>
            <a:xfrm>
              <a:off x="7624440" y="3916800"/>
              <a:ext cx="96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.2.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41"/>
            <p:cNvSpPr/>
            <p:nvPr/>
          </p:nvSpPr>
          <p:spPr>
            <a:xfrm>
              <a:off x="1704240" y="595080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把灰階值加總起來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Object 5"/>
                <p:cNvSpPr txBox="1"/>
                <p:nvPr/>
              </p:nvSpPr>
              <p:spPr>
                <a:xfrm>
                  <a:off x="683640" y="5950080"/>
                  <a:ext cx="53316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2D87-619A-40CC-BB15-81B972003A9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群組 12"/>
          <p:cNvGrpSpPr/>
          <p:nvPr/>
        </p:nvGrpSpPr>
        <p:grpSpPr>
          <a:xfrm>
            <a:off x="5861160" y="1639800"/>
            <a:ext cx="3247920" cy="3463200"/>
            <a:chOff x="5861160" y="1639800"/>
            <a:chExt cx="3247920" cy="3463200"/>
          </a:xfrm>
        </p:grpSpPr>
        <p:graphicFrame>
          <p:nvGraphicFramePr>
            <p:cNvPr id="352" name="Object 2"/>
            <p:cNvGraphicFramePr/>
            <p:nvPr/>
          </p:nvGraphicFramePr>
          <p:xfrm>
            <a:off x="5861160" y="1639800"/>
            <a:ext cx="3247920" cy="324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1160" y="1639800"/>
                      <a:ext cx="3247920" cy="32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4" name="Text Box 13"/>
            <p:cNvSpPr/>
            <p:nvPr/>
          </p:nvSpPr>
          <p:spPr>
            <a:xfrm>
              <a:off x="6465960" y="476568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.2.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一個小例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群組 13"/>
          <p:cNvGrpSpPr/>
          <p:nvPr/>
        </p:nvGrpSpPr>
        <p:grpSpPr>
          <a:xfrm>
            <a:off x="324000" y="1495440"/>
            <a:ext cx="5518080" cy="3722400"/>
            <a:chOff x="324000" y="1495440"/>
            <a:chExt cx="5518080" cy="3722400"/>
          </a:xfrm>
        </p:grpSpPr>
        <p:sp>
          <p:nvSpPr>
            <p:cNvPr id="356" name="Rectangle 6"/>
            <p:cNvSpPr/>
            <p:nvPr/>
          </p:nvSpPr>
          <p:spPr>
            <a:xfrm>
              <a:off x="324000" y="1495440"/>
              <a:ext cx="54788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一個小例子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8"/>
            <p:cNvSpPr/>
            <p:nvPr/>
          </p:nvSpPr>
          <p:spPr>
            <a:xfrm>
              <a:off x="674280" y="1551600"/>
              <a:ext cx="18468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8" name="Object 3"/>
            <p:cNvGraphicFramePr/>
            <p:nvPr/>
          </p:nvGraphicFramePr>
          <p:xfrm>
            <a:off x="947880" y="2268360"/>
            <a:ext cx="4894200" cy="393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9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7880" y="2268360"/>
                      <a:ext cx="489420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4"/>
            <p:cNvGraphicFramePr/>
            <p:nvPr/>
          </p:nvGraphicFramePr>
          <p:xfrm>
            <a:off x="947880" y="2720520"/>
            <a:ext cx="3818880" cy="393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47880" y="2720520"/>
                      <a:ext cx="3818880" cy="39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62" name="Object 5"/>
                <p:cNvSpPr txBox="1"/>
                <p:nvPr/>
              </p:nvSpPr>
              <p:spPr>
                <a:xfrm>
                  <a:off x="947880" y="3183840"/>
                  <a:ext cx="3492360" cy="39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3" name="Object 6"/>
                <p:cNvSpPr txBox="1"/>
                <p:nvPr/>
              </p:nvSpPr>
              <p:spPr>
                <a:xfrm>
                  <a:off x="719280" y="2268000"/>
                  <a:ext cx="339480" cy="13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" name="Object 7"/>
                <p:cNvSpPr txBox="1"/>
                <p:nvPr/>
              </p:nvSpPr>
              <p:spPr>
                <a:xfrm>
                  <a:off x="2215800" y="3707640"/>
                  <a:ext cx="8506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den>
                          </m:f>
                          <m:r>
                            <m:t xml:space="preserve">,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Text Box 15"/>
            <p:cNvSpPr/>
            <p:nvPr/>
          </p:nvSpPr>
          <p:spPr>
            <a:xfrm>
              <a:off x="1593360" y="3783240"/>
              <a:ext cx="3030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所以質心為         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在連續影像中，質心的變動有時可用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追蹤物體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AD8-A766-4513-A946-BF07B747F07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533520" y="6094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心動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517680" y="1055520"/>
            <a:ext cx="751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另外有一種中心動差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Moment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也很常用到，其定義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1855800" y="1638360"/>
          <a:ext cx="47451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638360"/>
                    <a:ext cx="4745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6"/>
          <p:cNvSpPr/>
          <p:nvPr/>
        </p:nvSpPr>
        <p:spPr>
          <a:xfrm>
            <a:off x="7625880" y="1630440"/>
            <a:ext cx="11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793080" y="2392200"/>
            <a:ext cx="269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此處             和         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258920" y="2297160"/>
                <a:ext cx="855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484360" y="2297160"/>
                <a:ext cx="8542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Rectangle 2"/>
          <p:cNvSpPr/>
          <p:nvPr/>
        </p:nvSpPr>
        <p:spPr>
          <a:xfrm>
            <a:off x="468360" y="3335400"/>
            <a:ext cx="418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01480" y="3716280"/>
            <a:ext cx="71661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給一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影像如右圖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請求出     、     、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此影像的質心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請求出    、   、    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5"/>
          <p:cNvGraphicFramePr/>
          <p:nvPr/>
        </p:nvGraphicFramePr>
        <p:xfrm>
          <a:off x="1835280" y="4365720"/>
          <a:ext cx="404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365720"/>
                    <a:ext cx="404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11280" y="4365720"/>
          <a:ext cx="3747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365720"/>
                    <a:ext cx="3747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7"/>
          <p:cNvGraphicFramePr/>
          <p:nvPr/>
        </p:nvGraphicFramePr>
        <p:xfrm>
          <a:off x="2987640" y="4365720"/>
          <a:ext cx="37476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4365720"/>
                    <a:ext cx="3747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8"/>
          <p:cNvGraphicFramePr/>
          <p:nvPr/>
        </p:nvGraphicFramePr>
        <p:xfrm>
          <a:off x="1835280" y="5373720"/>
          <a:ext cx="34452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5280" y="5373720"/>
                    <a:ext cx="344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9"/>
          <p:cNvGraphicFramePr/>
          <p:nvPr/>
        </p:nvGraphicFramePr>
        <p:xfrm>
          <a:off x="2340000" y="5373720"/>
          <a:ext cx="34596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0000" y="5373720"/>
                    <a:ext cx="345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10"/>
          <p:cNvGraphicFramePr/>
          <p:nvPr/>
        </p:nvGraphicFramePr>
        <p:xfrm>
          <a:off x="2843280" y="5373720"/>
          <a:ext cx="34452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43280" y="5373720"/>
                    <a:ext cx="3445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23"/>
          <p:cNvGraphicFramePr/>
          <p:nvPr/>
        </p:nvGraphicFramePr>
        <p:xfrm>
          <a:off x="5148360" y="3213000"/>
          <a:ext cx="2881080" cy="274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3213000"/>
                    <a:ext cx="2881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DC88-875C-4FE9-ABBA-63F65953E10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Object 2"/>
          <p:cNvGraphicFramePr/>
          <p:nvPr/>
        </p:nvGraphicFramePr>
        <p:xfrm>
          <a:off x="5897520" y="922320"/>
          <a:ext cx="302112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7520" y="922320"/>
                    <a:ext cx="30211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25"/>
          <p:cNvGraphicFramePr/>
          <p:nvPr/>
        </p:nvGraphicFramePr>
        <p:xfrm>
          <a:off x="930240" y="1349280"/>
          <a:ext cx="4849920" cy="11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0240" y="1349280"/>
                    <a:ext cx="484992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26"/>
          <p:cNvGraphicFramePr/>
          <p:nvPr/>
        </p:nvGraphicFramePr>
        <p:xfrm>
          <a:off x="971640" y="3684600"/>
          <a:ext cx="7338960" cy="25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84600"/>
                    <a:ext cx="733896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矩形 29"/>
          <p:cNvSpPr/>
          <p:nvPr/>
        </p:nvSpPr>
        <p:spPr>
          <a:xfrm>
            <a:off x="395280" y="620640"/>
            <a:ext cx="4572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得質心              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Object 27"/>
          <p:cNvGraphicFramePr/>
          <p:nvPr/>
        </p:nvGraphicFramePr>
        <p:xfrm>
          <a:off x="2073240" y="2664000"/>
          <a:ext cx="86220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73240" y="2664000"/>
                    <a:ext cx="8622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EDDC-566D-4772-8EC8-5D18B4A6C5C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Object 5"/>
          <p:cNvGraphicFramePr/>
          <p:nvPr/>
        </p:nvGraphicFramePr>
        <p:xfrm>
          <a:off x="4826160" y="1508040"/>
          <a:ext cx="4038480" cy="34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1508040"/>
                    <a:ext cx="403848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13"/>
          <p:cNvSpPr/>
          <p:nvPr/>
        </p:nvSpPr>
        <p:spPr>
          <a:xfrm>
            <a:off x="395280" y="1366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主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計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6"/>
              <p:cNvSpPr txBox="1"/>
              <p:nvPr/>
            </p:nvSpPr>
            <p:spPr>
              <a:xfrm>
                <a:off x="1547640" y="2155680"/>
                <a:ext cx="267336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17"/>
          <p:cNvSpPr/>
          <p:nvPr/>
        </p:nvSpPr>
        <p:spPr>
          <a:xfrm>
            <a:off x="1103760" y="323676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上式亦可改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7"/>
          <p:cNvGraphicFramePr/>
          <p:nvPr/>
        </p:nvGraphicFramePr>
        <p:xfrm>
          <a:off x="1476360" y="3956040"/>
          <a:ext cx="33004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956040"/>
                    <a:ext cx="3300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Text Box 19"/>
          <p:cNvSpPr/>
          <p:nvPr/>
        </p:nvSpPr>
        <p:spPr>
          <a:xfrm>
            <a:off x="5508720" y="48927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2.2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物體上求主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2AFE-9E38-49BF-880E-65E3F97993B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2"/>
          <p:cNvGraphicFramePr/>
          <p:nvPr/>
        </p:nvGraphicFramePr>
        <p:xfrm>
          <a:off x="615960" y="552600"/>
          <a:ext cx="34862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552600"/>
                    <a:ext cx="34862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5"/>
          <p:cNvSpPr/>
          <p:nvPr/>
        </p:nvSpPr>
        <p:spPr>
          <a:xfrm>
            <a:off x="2598120" y="619200"/>
            <a:ext cx="433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似乎地可視為一種偏離軸的慣量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視為加權，如此一來，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4.2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物體上所有點累積的慣量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表示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Object 3"/>
          <p:cNvGraphicFramePr/>
          <p:nvPr/>
        </p:nvGraphicFramePr>
        <p:xfrm>
          <a:off x="2025720" y="1521000"/>
          <a:ext cx="4589280" cy="52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5720" y="1521000"/>
                    <a:ext cx="458928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Text Box 7"/>
          <p:cNvSpPr/>
          <p:nvPr/>
        </p:nvSpPr>
        <p:spPr>
          <a:xfrm>
            <a:off x="7625880" y="1600200"/>
            <a:ext cx="11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1934280" y="2133720"/>
            <a:ext cx="54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最佳的主軸所在會使得式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有最小值，也就是相當於在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下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Object 4"/>
          <p:cNvGraphicFramePr/>
          <p:nvPr/>
        </p:nvGraphicFramePr>
        <p:xfrm>
          <a:off x="1727280" y="2747880"/>
          <a:ext cx="5048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2747880"/>
                    <a:ext cx="5048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 Box 10"/>
          <p:cNvSpPr/>
          <p:nvPr/>
        </p:nvSpPr>
        <p:spPr>
          <a:xfrm>
            <a:off x="7625880" y="2697120"/>
            <a:ext cx="11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313280" y="3429000"/>
            <a:ext cx="467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首先式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別微分且令為零，可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Object 5"/>
          <p:cNvGraphicFramePr/>
          <p:nvPr/>
        </p:nvGraphicFramePr>
        <p:xfrm>
          <a:off x="1482840" y="3930480"/>
          <a:ext cx="5709960" cy="508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82840" y="3930480"/>
                    <a:ext cx="57099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6"/>
          <p:cNvGraphicFramePr/>
          <p:nvPr/>
        </p:nvGraphicFramePr>
        <p:xfrm>
          <a:off x="1592280" y="4503600"/>
          <a:ext cx="5511960" cy="471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2280" y="4503600"/>
                    <a:ext cx="551196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Text Box 14"/>
          <p:cNvSpPr/>
          <p:nvPr/>
        </p:nvSpPr>
        <p:spPr>
          <a:xfrm>
            <a:off x="7625880" y="4449600"/>
            <a:ext cx="113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7"/>
              <p:cNvSpPr txBox="1"/>
              <p:nvPr/>
            </p:nvSpPr>
            <p:spPr>
              <a:xfrm>
                <a:off x="1263600" y="3962520"/>
                <a:ext cx="4129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8" name="Text Box 16"/>
          <p:cNvSpPr/>
          <p:nvPr/>
        </p:nvSpPr>
        <p:spPr>
          <a:xfrm>
            <a:off x="722520" y="5181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Object 8"/>
          <p:cNvGraphicFramePr/>
          <p:nvPr/>
        </p:nvGraphicFramePr>
        <p:xfrm>
          <a:off x="2233440" y="5711760"/>
          <a:ext cx="4951440" cy="43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3440" y="5711760"/>
                    <a:ext cx="495144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9"/>
          <p:cNvGraphicFramePr/>
          <p:nvPr/>
        </p:nvGraphicFramePr>
        <p:xfrm>
          <a:off x="1230480" y="5191200"/>
          <a:ext cx="4636800" cy="434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30480" y="5191200"/>
                    <a:ext cx="46368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Text Box 20"/>
          <p:cNvSpPr/>
          <p:nvPr/>
        </p:nvSpPr>
        <p:spPr>
          <a:xfrm>
            <a:off x="722520" y="6267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10"/>
          <p:cNvGraphicFramePr/>
          <p:nvPr/>
        </p:nvGraphicFramePr>
        <p:xfrm>
          <a:off x="1271520" y="6262560"/>
          <a:ext cx="5087880" cy="395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71520" y="6262560"/>
                    <a:ext cx="50878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1251000" y="1409760"/>
                <a:ext cx="725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37" name="Object 5"/>
          <p:cNvGraphicFramePr/>
          <p:nvPr/>
        </p:nvGraphicFramePr>
        <p:xfrm>
          <a:off x="2430360" y="1374840"/>
          <a:ext cx="76212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360" y="1374840"/>
                    <a:ext cx="762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AD0-2B2B-452C-AF11-62D08B35DCA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722520" y="571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Object 2"/>
          <p:cNvGraphicFramePr/>
          <p:nvPr/>
        </p:nvGraphicFramePr>
        <p:xfrm>
          <a:off x="1192320" y="571680"/>
          <a:ext cx="4573440" cy="39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2320" y="571680"/>
                    <a:ext cx="457344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Text Box 5"/>
          <p:cNvSpPr/>
          <p:nvPr/>
        </p:nvSpPr>
        <p:spPr>
          <a:xfrm>
            <a:off x="722520" y="982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Object 3"/>
          <p:cNvGraphicFramePr/>
          <p:nvPr/>
        </p:nvGraphicFramePr>
        <p:xfrm>
          <a:off x="1158840" y="915840"/>
          <a:ext cx="362736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8840" y="915840"/>
                    <a:ext cx="36273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Text Box 7"/>
          <p:cNvSpPr/>
          <p:nvPr/>
        </p:nvSpPr>
        <p:spPr>
          <a:xfrm>
            <a:off x="722520" y="1363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2038680" y="133344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1"/>
          <p:cNvGrpSpPr/>
          <p:nvPr/>
        </p:nvGrpSpPr>
        <p:grpSpPr>
          <a:xfrm>
            <a:off x="272880" y="1743120"/>
            <a:ext cx="8033040" cy="762120"/>
            <a:chOff x="272880" y="1743120"/>
            <a:chExt cx="8033040" cy="762120"/>
          </a:xfrm>
        </p:grpSpPr>
        <p:sp>
          <p:nvSpPr>
            <p:cNvPr id="449" name="Rectangle 12"/>
            <p:cNvSpPr/>
            <p:nvPr/>
          </p:nvSpPr>
          <p:spPr>
            <a:xfrm>
              <a:off x="272880" y="1743120"/>
              <a:ext cx="8033040" cy="7621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3"/>
            <p:cNvSpPr/>
            <p:nvPr/>
          </p:nvSpPr>
          <p:spPr>
            <a:xfrm>
              <a:off x="1948320" y="188784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定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.4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.1 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物體的主軸會通過質心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Text Box 14"/>
          <p:cNvSpPr/>
          <p:nvPr/>
        </p:nvSpPr>
        <p:spPr>
          <a:xfrm>
            <a:off x="609480" y="2629080"/>
            <a:ext cx="79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將           和            代入式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，解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θ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問題變成了這樣的一個最小化問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6"/>
              <p:cNvSpPr txBox="1"/>
              <p:nvPr/>
            </p:nvSpPr>
            <p:spPr>
              <a:xfrm>
                <a:off x="990720" y="2705040"/>
                <a:ext cx="725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7"/>
              <p:cNvSpPr txBox="1"/>
              <p:nvPr/>
            </p:nvSpPr>
            <p:spPr>
              <a:xfrm>
                <a:off x="2057400" y="2705040"/>
                <a:ext cx="7621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454" name="Object 8"/>
          <p:cNvGraphicFramePr/>
          <p:nvPr/>
        </p:nvGraphicFramePr>
        <p:xfrm>
          <a:off x="1743120" y="3346560"/>
          <a:ext cx="4916520" cy="57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43120" y="3346560"/>
                    <a:ext cx="4916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Text Box 18"/>
          <p:cNvSpPr/>
          <p:nvPr/>
        </p:nvSpPr>
        <p:spPr>
          <a:xfrm>
            <a:off x="7600680" y="3403440"/>
            <a:ext cx="9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9"/>
          <p:cNvSpPr/>
          <p:nvPr/>
        </p:nvSpPr>
        <p:spPr>
          <a:xfrm>
            <a:off x="1225440" y="3924360"/>
            <a:ext cx="377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式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後令為零，可得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Object 9"/>
          <p:cNvGraphicFramePr/>
          <p:nvPr/>
        </p:nvGraphicFramePr>
        <p:xfrm>
          <a:off x="1415880" y="4432320"/>
          <a:ext cx="411804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15880" y="4432320"/>
                    <a:ext cx="4118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23"/>
          <p:cNvSpPr/>
          <p:nvPr/>
        </p:nvSpPr>
        <p:spPr>
          <a:xfrm>
            <a:off x="792360" y="4983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Object 10"/>
          <p:cNvGraphicFramePr/>
          <p:nvPr/>
        </p:nvGraphicFramePr>
        <p:xfrm>
          <a:off x="1521000" y="4838760"/>
          <a:ext cx="2154240" cy="74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1000" y="4838760"/>
                    <a:ext cx="21542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3" name="Group 25"/>
          <p:cNvGrpSpPr/>
          <p:nvPr/>
        </p:nvGrpSpPr>
        <p:grpSpPr>
          <a:xfrm>
            <a:off x="250920" y="5619600"/>
            <a:ext cx="8076960" cy="761760"/>
            <a:chOff x="250920" y="5619600"/>
            <a:chExt cx="8076960" cy="761760"/>
          </a:xfrm>
        </p:grpSpPr>
        <p:sp>
          <p:nvSpPr>
            <p:cNvPr id="464" name="Rectangle 26"/>
            <p:cNvSpPr/>
            <p:nvPr/>
          </p:nvSpPr>
          <p:spPr>
            <a:xfrm>
              <a:off x="250920" y="5619600"/>
              <a:ext cx="8076960" cy="7617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7"/>
            <p:cNvSpPr/>
            <p:nvPr/>
          </p:nvSpPr>
          <p:spPr>
            <a:xfrm>
              <a:off x="1420920" y="5744880"/>
              <a:ext cx="467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定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.4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.2 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物體的主軸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軸的夾角為                    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6" name="Object 11"/>
          <p:cNvGraphicFramePr/>
          <p:nvPr/>
        </p:nvGraphicFramePr>
        <p:xfrm>
          <a:off x="5192640" y="5703840"/>
          <a:ext cx="1467000" cy="625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7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92640" y="5703840"/>
                    <a:ext cx="14670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基於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樹的動差計算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參見課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.380-386):op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C34A-7BF9-42F4-B5E4-D25977DF070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D58-5EFB-4701-A568-322BDB92996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9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黑白影像的空間資料結構表示法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9.2.1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四分樹表示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55640" y="2876400"/>
            <a:ext cx="2552760" cy="26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4"/>
          <p:cNvGraphicFramePr/>
          <p:nvPr/>
        </p:nvGraphicFramePr>
        <p:xfrm>
          <a:off x="3414600" y="3003480"/>
          <a:ext cx="5334120" cy="23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4600" y="3003480"/>
                    <a:ext cx="533412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5"/>
          <p:cNvSpPr/>
          <p:nvPr/>
        </p:nvSpPr>
        <p:spPr>
          <a:xfrm>
            <a:off x="1187280" y="5718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.2.1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黑白影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045040" y="575640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1.2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四分樹表示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95280" y="2057400"/>
            <a:ext cx="83534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四分樹切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6222-3D5D-4C71-8225-302057DD373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539640" y="907920"/>
            <a:ext cx="81424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四分樹的正規化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.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需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個葉子點。往東南方向移動一格，只需七個葉子點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1038240" y="2565360"/>
          <a:ext cx="181116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2565360"/>
                    <a:ext cx="181116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828720" y="4699080"/>
            <a:ext cx="22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1.3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黑白影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群組 12"/>
          <p:cNvGrpSpPr/>
          <p:nvPr/>
        </p:nvGrpSpPr>
        <p:grpSpPr>
          <a:xfrm>
            <a:off x="3657600" y="2565360"/>
            <a:ext cx="4952880" cy="2471040"/>
            <a:chOff x="3657600" y="2565360"/>
            <a:chExt cx="4952880" cy="2471040"/>
          </a:xfrm>
        </p:grpSpPr>
        <p:graphicFrame>
          <p:nvGraphicFramePr>
            <p:cNvPr id="129" name="Object 4"/>
            <p:cNvGraphicFramePr/>
            <p:nvPr/>
          </p:nvGraphicFramePr>
          <p:xfrm>
            <a:off x="3657600" y="2565360"/>
            <a:ext cx="1811160" cy="181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2565360"/>
                      <a:ext cx="1811160" cy="18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5"/>
            <p:cNvGraphicFramePr/>
            <p:nvPr/>
          </p:nvGraphicFramePr>
          <p:xfrm>
            <a:off x="5943600" y="2793960"/>
            <a:ext cx="2209680" cy="157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2793960"/>
                      <a:ext cx="220968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Text Box 7"/>
            <p:cNvSpPr/>
            <p:nvPr/>
          </p:nvSpPr>
          <p:spPr>
            <a:xfrm>
              <a:off x="3733560" y="439416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移動後的結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4787640" y="4699080"/>
              <a:ext cx="230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1.4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移位後的效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5867280" y="436248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移動後的四分樹表示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11"/>
          <p:cNvSpPr/>
          <p:nvPr/>
        </p:nvSpPr>
        <p:spPr>
          <a:xfrm>
            <a:off x="900000" y="5562720"/>
            <a:ext cx="73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適當的移位可以減少葉子數量來達到節省記憶體的功效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5835-0C96-4010-8B0D-2CEAFC56669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9.2.2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深先表示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24000" y="160020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四分樹，用深先搜尋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5"/>
          <p:cNvGraphicFramePr/>
          <p:nvPr/>
        </p:nvGraphicFramePr>
        <p:xfrm>
          <a:off x="3886200" y="4254480"/>
          <a:ext cx="441972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254480"/>
                    <a:ext cx="44197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6"/>
          <p:cNvSpPr/>
          <p:nvPr/>
        </p:nvSpPr>
        <p:spPr>
          <a:xfrm>
            <a:off x="5148360" y="6216480"/>
            <a:ext cx="23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1.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四分樹表示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324000" y="3500280"/>
            <a:ext cx="84340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GWWWGBWBWBWGWWGWWBBB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改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(000 (101010(00(0011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群組 12"/>
          <p:cNvGrpSpPr/>
          <p:nvPr/>
        </p:nvGrpSpPr>
        <p:grpSpPr>
          <a:xfrm>
            <a:off x="2340000" y="2205000"/>
            <a:ext cx="3886200" cy="1173240"/>
            <a:chOff x="2340000" y="2205000"/>
            <a:chExt cx="3886200" cy="1173240"/>
          </a:xfrm>
        </p:grpSpPr>
        <p:sp>
          <p:nvSpPr>
            <p:cNvPr id="145" name="Text Box 27"/>
            <p:cNvSpPr/>
            <p:nvPr/>
          </p:nvSpPr>
          <p:spPr>
            <a:xfrm>
              <a:off x="2568600" y="220500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內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29"/>
                <p:cNvSpPr txBox="1"/>
                <p:nvPr/>
              </p:nvSpPr>
              <p:spPr>
                <a:xfrm>
                  <a:off x="2340000" y="2280960"/>
                  <a:ext cx="293400" cy="109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47" name="Text Box 30"/>
            <p:cNvSpPr/>
            <p:nvPr/>
          </p:nvSpPr>
          <p:spPr>
            <a:xfrm>
              <a:off x="2568600" y="293688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黑色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31"/>
            <p:cNvSpPr/>
            <p:nvPr/>
          </p:nvSpPr>
          <p:spPr>
            <a:xfrm>
              <a:off x="2568600" y="255564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白色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400D-09E4-40B5-8867-C63D49C6BC6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9.2.3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線性四分樹表示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33520" y="1569960"/>
            <a:ext cx="79992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線性四分樹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可表示為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030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03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XX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2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2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13"/>
          <p:cNvGraphicFramePr/>
          <p:nvPr/>
        </p:nvGraphicFramePr>
        <p:xfrm>
          <a:off x="1258920" y="2708280"/>
          <a:ext cx="666756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708280"/>
                    <a:ext cx="666756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4"/>
          <p:cNvSpPr/>
          <p:nvPr/>
        </p:nvSpPr>
        <p:spPr>
          <a:xfrm>
            <a:off x="2987640" y="5950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.2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四分樹表示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3280-A3CF-4BD8-8E51-EAF8B70A303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群組 8"/>
          <p:cNvGrpSpPr/>
          <p:nvPr/>
        </p:nvGrpSpPr>
        <p:grpSpPr>
          <a:xfrm>
            <a:off x="395280" y="981000"/>
            <a:ext cx="8470800" cy="4610520"/>
            <a:chOff x="395280" y="981000"/>
            <a:chExt cx="8470800" cy="4610520"/>
          </a:xfrm>
        </p:grpSpPr>
        <p:sp>
          <p:nvSpPr>
            <p:cNvPr id="157" name="Text Box 3"/>
            <p:cNvSpPr/>
            <p:nvPr/>
          </p:nvSpPr>
          <p:spPr>
            <a:xfrm>
              <a:off x="456840" y="981000"/>
              <a:ext cx="8001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兩組不同的線性四分樹編碼，還原出一樣的四分樹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95280" y="3788280"/>
              <a:ext cx="39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X, 130, 132, 21X, 22X, 231, 232, 3X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465480" y="5223240"/>
              <a:ext cx="39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XX, 10X, 21X, 22X, 130, 132, 231, 2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" name="Object 13"/>
            <p:cNvGraphicFramePr/>
            <p:nvPr/>
          </p:nvGraphicFramePr>
          <p:xfrm>
            <a:off x="5436000" y="1844640"/>
            <a:ext cx="3430080" cy="373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36000" y="1844640"/>
                      <a:ext cx="3430080" cy="37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AutoShape 17"/>
            <p:cNvSpPr/>
            <p:nvPr/>
          </p:nvSpPr>
          <p:spPr>
            <a:xfrm>
              <a:off x="4500360" y="4077000"/>
              <a:ext cx="863280" cy="142560"/>
            </a:xfrm>
            <a:prstGeom prst="rightArrow">
              <a:avLst>
                <a:gd name="adj1" fmla="val 50000"/>
                <a:gd name="adj2" fmla="val 1513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8"/>
            <p:cNvSpPr/>
            <p:nvPr/>
          </p:nvSpPr>
          <p:spPr>
            <a:xfrm>
              <a:off x="4529160" y="5301000"/>
              <a:ext cx="863280" cy="142560"/>
            </a:xfrm>
            <a:prstGeom prst="rightArrow">
              <a:avLst>
                <a:gd name="adj1" fmla="val 50000"/>
                <a:gd name="adj2" fmla="val 15138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0B6-FF12-4872-A6AC-ACE837DE894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群組 12"/>
          <p:cNvGrpSpPr/>
          <p:nvPr/>
        </p:nvGrpSpPr>
        <p:grpSpPr>
          <a:xfrm>
            <a:off x="395280" y="533520"/>
            <a:ext cx="8353440" cy="5928120"/>
            <a:chOff x="395280" y="533520"/>
            <a:chExt cx="8353440" cy="5928120"/>
          </a:xfrm>
        </p:grpSpPr>
        <p:sp>
          <p:nvSpPr>
            <p:cNvPr id="166" name="Text Box 1027"/>
            <p:cNvSpPr/>
            <p:nvPr/>
          </p:nvSpPr>
          <p:spPr>
            <a:xfrm>
              <a:off x="747000" y="914400"/>
              <a:ext cx="8001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BLQ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法中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28"/>
            <p:cNvSpPr/>
            <p:nvPr/>
          </p:nvSpPr>
          <p:spPr>
            <a:xfrm>
              <a:off x="395280" y="53352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BLQ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法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29"/>
            <p:cNvSpPr/>
            <p:nvPr/>
          </p:nvSpPr>
          <p:spPr>
            <a:xfrm>
              <a:off x="1820160" y="1295280"/>
              <a:ext cx="5410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白色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030"/>
                <p:cNvSpPr txBox="1"/>
                <p:nvPr/>
              </p:nvSpPr>
              <p:spPr>
                <a:xfrm>
                  <a:off x="1585440" y="1371600"/>
                  <a:ext cx="387360" cy="14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70" name="Text Box 1031"/>
            <p:cNvSpPr/>
            <p:nvPr/>
          </p:nvSpPr>
          <p:spPr>
            <a:xfrm>
              <a:off x="1820160" y="2041560"/>
              <a:ext cx="624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某內部節點的四個孩子皆為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032"/>
            <p:cNvSpPr/>
            <p:nvPr/>
          </p:nvSpPr>
          <p:spPr>
            <a:xfrm>
              <a:off x="1820160" y="1676520"/>
              <a:ext cx="548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黑色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033"/>
            <p:cNvSpPr/>
            <p:nvPr/>
          </p:nvSpPr>
          <p:spPr>
            <a:xfrm>
              <a:off x="1820160" y="2438640"/>
              <a:ext cx="6325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某內部節點的四個孩子非全為外部節點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輸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034"/>
            <p:cNvSpPr/>
            <p:nvPr/>
          </p:nvSpPr>
          <p:spPr>
            <a:xfrm>
              <a:off x="819000" y="2972160"/>
              <a:ext cx="7353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利用廣先搜尋的方式，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1.2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表示式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2102000300311010001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Object 1035"/>
            <p:cNvGraphicFramePr/>
            <p:nvPr/>
          </p:nvGraphicFramePr>
          <p:xfrm>
            <a:off x="2051640" y="3657960"/>
            <a:ext cx="5067720" cy="22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Object 10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1640" y="3657960"/>
                      <a:ext cx="5067720" cy="22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Text Box 1036"/>
            <p:cNvSpPr/>
            <p:nvPr/>
          </p:nvSpPr>
          <p:spPr>
            <a:xfrm>
              <a:off x="3419640" y="6093360"/>
              <a:ext cx="242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3.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BLQ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0D90-86D5-4853-B904-81F85551804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群組 6"/>
          <p:cNvGrpSpPr/>
          <p:nvPr/>
        </p:nvGrpSpPr>
        <p:grpSpPr>
          <a:xfrm>
            <a:off x="533520" y="884160"/>
            <a:ext cx="8078760" cy="4930560"/>
            <a:chOff x="533520" y="884160"/>
            <a:chExt cx="8078760" cy="4930560"/>
          </a:xfrm>
        </p:grpSpPr>
        <p:pic>
          <p:nvPicPr>
            <p:cNvPr id="179" name="Picture 17" descr="cloud"/>
            <p:cNvPicPr/>
            <p:nvPr/>
          </p:nvPicPr>
          <p:blipFill>
            <a:blip r:embed="rId1"/>
            <a:stretch/>
          </p:blipFill>
          <p:spPr>
            <a:xfrm>
              <a:off x="5292000" y="1917360"/>
              <a:ext cx="3320280" cy="34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1041"/>
            <p:cNvSpPr/>
            <p:nvPr/>
          </p:nvSpPr>
          <p:spPr>
            <a:xfrm>
              <a:off x="5542920" y="5446440"/>
              <a:ext cx="271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3.2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6 × 256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颱風影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060"/>
            <p:cNvSpPr/>
            <p:nvPr/>
          </p:nvSpPr>
          <p:spPr>
            <a:xfrm>
              <a:off x="611280" y="1420920"/>
              <a:ext cx="5976720" cy="24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照原圖儲存共需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5536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位元。實驗結果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buClr>
                  <a:srgbClr val="66669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深先表示法需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9024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位元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buClr>
                  <a:srgbClr val="66669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BLQ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法需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714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位元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buClr>
                  <a:srgbClr val="66669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緊緻四分樹需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3957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位元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buClr>
                  <a:srgbClr val="666699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JBIG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來壓縮圖需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976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位元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難運算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061"/>
            <p:cNvSpPr/>
            <p:nvPr/>
          </p:nvSpPr>
          <p:spPr>
            <a:xfrm>
              <a:off x="533520" y="88416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實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5-12T01:25:59Z</dcterms:modified>
  <cp:revision>495</cp:revision>
  <dc:subject/>
  <dc:title>第九章 空間資料結構設計與應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